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0303-C653-4733-B6BA-76249F55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879B-4CF4-41A2-BDE1-90198110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8CCA-C5BA-4BAF-807F-5EC33F675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86D0-3588-4CF6-BCC9-D5B445CF9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5D35-5747-44CE-AEB4-FC4BE2A7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FF4D-A8B1-4489-9AD0-FC63863E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2137-D107-4BD5-AFCA-9E90FDDE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056A-91BA-454B-B5E7-CFDD8622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A907-AE13-4C32-B6F9-F9BC59E7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2E96-0F05-40F7-AB56-4BFAA58C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771D-025F-4E28-9E69-1DFF3B28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8BC9-1D6F-443E-934B-E800CC2F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2127-1C5B-43EB-9A88-96D3983D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AE18-1C0F-40A2-82A0-D7915841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96D8-F8C4-455B-B302-9AA4BAEB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5C6C-9428-4A55-8937-7220323A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7972-0BE2-4B28-BCA4-309CCFD4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5EFA-038F-448D-9E8D-99C7F8AC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6D97-89C2-4481-858B-9F7B59C0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2E44-C97A-47A5-82F8-F8D0C9D2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5CC6-3803-418A-91D4-880F6095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894E-669E-4194-8122-2951FFD2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608E-EF1E-4441-A400-A3558253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5CC7-F76C-477C-B46F-9A4ECA6F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5B4DF69-8010-44FF-A7E0-5332EA7B11D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7C44CD7-41AA-4296-8532-B1E05154C09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circuits with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ge-triggered flip-fl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 method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cading flip-flops for proper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stability and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 and 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EA98-BB5A-41FE-A5A5-3FD278F4DF0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521240" y="1905120"/>
            <a:ext cx="3728880" cy="15415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8178840" y="2743200"/>
            <a:ext cx="1092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51440" y="3111480"/>
            <a:ext cx="55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51440" y="2806560"/>
            <a:ext cx="55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59120" y="2209680"/>
            <a:ext cx="85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685800" y="3809880"/>
            <a:ext cx="4006800" cy="2527200"/>
            <a:chOff x="685800" y="3809880"/>
            <a:chExt cx="4006800" cy="2527200"/>
          </a:xfrm>
        </p:grpSpPr>
        <p:sp>
          <p:nvSpPr>
            <p:cNvPr id="360" name=""/>
            <p:cNvSpPr/>
            <p:nvPr/>
          </p:nvSpPr>
          <p:spPr>
            <a:xfrm>
              <a:off x="768240" y="3809880"/>
              <a:ext cx="317520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+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5800" y="4101840"/>
              <a:ext cx="281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81040" y="3854160"/>
              <a:ext cx="0" cy="240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1760" y="4635360"/>
              <a:ext cx="212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6560" y="5168880"/>
              <a:ext cx="213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1760" y="5702040"/>
              <a:ext cx="214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016080" y="4203360"/>
              <a:ext cx="901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o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90880" y="4711680"/>
              <a:ext cx="9777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90880" y="5244840"/>
              <a:ext cx="761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016080" y="5752800"/>
              <a:ext cx="1676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t allow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5257800" y="5765760"/>
            <a:ext cx="3174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= S + R’ Q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-S latch analysi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ak feedback pa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219320" y="1981080"/>
            <a:ext cx="2539440" cy="1643040"/>
            <a:chOff x="1219320" y="1981080"/>
            <a:chExt cx="2539440" cy="1643040"/>
          </a:xfrm>
        </p:grpSpPr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1320840" y="1981080"/>
              <a:ext cx="212040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1219320" y="220968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19320" y="316224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314520" y="2298600"/>
              <a:ext cx="228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340080" y="3086280"/>
              <a:ext cx="4186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5054760" y="2438280"/>
            <a:ext cx="2819160" cy="9907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4480" y="1981080"/>
            <a:ext cx="304920" cy="228600"/>
          </a:xfrm>
          <a:prstGeom prst="line">
            <a:avLst/>
          </a:prstGeom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6324120" y="1981080"/>
            <a:ext cx="304920" cy="228600"/>
          </a:xfrm>
          <a:prstGeom prst="line">
            <a:avLst/>
          </a:prstGeom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5562720" y="4191120"/>
            <a:ext cx="2383920" cy="1457280"/>
            <a:chOff x="5562720" y="4191120"/>
            <a:chExt cx="2383920" cy="1457280"/>
          </a:xfrm>
        </p:grpSpPr>
        <p:sp>
          <p:nvSpPr>
            <p:cNvPr id="383" name=""/>
            <p:cNvSpPr/>
            <p:nvPr/>
          </p:nvSpPr>
          <p:spPr>
            <a:xfrm>
              <a:off x="619128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2152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9469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944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9368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946920" y="44197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80000" y="53341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32520" y="4876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62720" y="4972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86440" y="531828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353360" y="4191120"/>
              <a:ext cx="583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325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800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0224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91C5-8A8B-4F5C-B3C9-8D06DAF028E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"/>
          <p:cNvGrpSpPr/>
          <p:nvPr/>
        </p:nvGrpSpPr>
        <p:grpSpPr>
          <a:xfrm>
            <a:off x="1177920" y="1863720"/>
            <a:ext cx="2754360" cy="1496880"/>
            <a:chOff x="1177920" y="1863720"/>
            <a:chExt cx="2754360" cy="1496880"/>
          </a:xfrm>
        </p:grpSpPr>
        <p:sp>
          <p:nvSpPr>
            <p:cNvPr id="398" name=""/>
            <p:cNvSpPr/>
            <p:nvPr/>
          </p:nvSpPr>
          <p:spPr>
            <a:xfrm>
              <a:off x="1177920" y="186372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93760" y="2967120"/>
              <a:ext cx="2160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41680" y="2852640"/>
              <a:ext cx="228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13240" y="1949400"/>
              <a:ext cx="419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: R-S latch using NAND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" name=""/>
          <p:cNvSpPr/>
          <p:nvPr/>
        </p:nvSpPr>
        <p:spPr>
          <a:xfrm>
            <a:off x="5257800" y="5765760"/>
            <a:ext cx="3174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= S + R’ Q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952800" y="2070000"/>
            <a:ext cx="4273560" cy="1419480"/>
            <a:chOff x="3952800" y="2070000"/>
            <a:chExt cx="4273560" cy="1419480"/>
          </a:xfrm>
        </p:grpSpPr>
        <p:pic>
          <p:nvPicPr>
            <p:cNvPr id="405" name="" descr=""/>
            <p:cNvPicPr/>
            <p:nvPr/>
          </p:nvPicPr>
          <p:blipFill>
            <a:blip r:embed="rId1"/>
            <a:stretch/>
          </p:blipFill>
          <p:spPr>
            <a:xfrm>
              <a:off x="4764240" y="2070000"/>
              <a:ext cx="346212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259160" y="2792520"/>
              <a:ext cx="559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229280" y="3095640"/>
              <a:ext cx="558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52800" y="2155680"/>
              <a:ext cx="851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(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54760" y="2438280"/>
              <a:ext cx="2819160" cy="990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30800" y="2133720"/>
              <a:ext cx="304920" cy="228600"/>
            </a:xfrm>
            <a:prstGeom prst="line">
              <a:avLst/>
            </a:prstGeom>
            <a:ln w="3816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6130440" y="2133720"/>
              <a:ext cx="304920" cy="228600"/>
            </a:xfrm>
            <a:prstGeom prst="line">
              <a:avLst/>
            </a:prstGeom>
            <a:ln w="3816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562720" y="4191120"/>
            <a:ext cx="2383920" cy="1457280"/>
            <a:chOff x="5562720" y="4191120"/>
            <a:chExt cx="2383920" cy="1457280"/>
          </a:xfrm>
        </p:grpSpPr>
        <p:sp>
          <p:nvSpPr>
            <p:cNvPr id="413" name=""/>
            <p:cNvSpPr/>
            <p:nvPr/>
          </p:nvSpPr>
          <p:spPr>
            <a:xfrm>
              <a:off x="619128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12152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469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3944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9368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46920" y="44197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480000" y="53341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32520" y="4876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562720" y="4972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886440" y="531828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53360" y="4191120"/>
              <a:ext cx="583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325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800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60224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85800" y="3809880"/>
            <a:ext cx="5081760" cy="2527560"/>
            <a:chOff x="685800" y="3809880"/>
            <a:chExt cx="5081760" cy="2527560"/>
          </a:xfrm>
        </p:grpSpPr>
        <p:sp>
          <p:nvSpPr>
            <p:cNvPr id="428" name=""/>
            <p:cNvSpPr/>
            <p:nvPr/>
          </p:nvSpPr>
          <p:spPr>
            <a:xfrm>
              <a:off x="768240" y="3809880"/>
              <a:ext cx="317520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63680"/>
                  <a:tab algn="l" pos="1833480"/>
                  <a:tab algn="l" pos="25160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+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5800" y="4102200"/>
              <a:ext cx="39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81240" y="3868560"/>
              <a:ext cx="0" cy="240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2120" y="4635360"/>
              <a:ext cx="339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36560" y="5168880"/>
              <a:ext cx="341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2120" y="5702400"/>
              <a:ext cx="337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091040" y="4203720"/>
              <a:ext cx="901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o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91040" y="4711680"/>
              <a:ext cx="977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91040" y="5245200"/>
              <a:ext cx="7621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091040" y="5753160"/>
              <a:ext cx="1676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t allow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33600" y="3892680"/>
              <a:ext cx="0" cy="24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363600" y="1582560"/>
            <a:ext cx="8358120" cy="498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rcRect l="6279" t="0" r="0" b="0"/>
          <a:stretch/>
        </p:blipFill>
        <p:spPr>
          <a:xfrm>
            <a:off x="1468440" y="1676520"/>
            <a:ext cx="2062080" cy="174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F247-7A87-427B-91D4-91DBECC1233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3657600" y="1752480"/>
            <a:ext cx="5447880" cy="2133720"/>
            <a:chOff x="3657600" y="1752480"/>
            <a:chExt cx="5447880" cy="2133720"/>
          </a:xfrm>
        </p:grpSpPr>
        <p:pic>
          <p:nvPicPr>
            <p:cNvPr id="442" name="" descr=""/>
            <p:cNvPicPr/>
            <p:nvPr/>
          </p:nvPicPr>
          <p:blipFill>
            <a:blip r:embed="rId1"/>
            <a:stretch/>
          </p:blipFill>
          <p:spPr>
            <a:xfrm>
              <a:off x="4800240" y="1752480"/>
              <a:ext cx="3821040" cy="18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3657600" y="2590920"/>
              <a:ext cx="120636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nable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267080" y="3124080"/>
              <a:ext cx="6472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32640" y="2895480"/>
              <a:ext cx="6728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57840" y="2133720"/>
              <a:ext cx="60948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1981080"/>
              <a:ext cx="6346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349680" y="1930320"/>
              <a:ext cx="58392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24480" y="3200400"/>
              <a:ext cx="609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ated R-S latch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313668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 when R and S inputs mat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, the slightest glitch on R or S while enable is low could cau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in value st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990720" y="4038480"/>
            <a:ext cx="5828760" cy="2476440"/>
            <a:chOff x="990720" y="4038480"/>
            <a:chExt cx="5828760" cy="2476440"/>
          </a:xfrm>
        </p:grpSpPr>
        <p:pic>
          <p:nvPicPr>
            <p:cNvPr id="453" name="" descr=""/>
            <p:cNvPicPr/>
            <p:nvPr/>
          </p:nvPicPr>
          <p:blipFill>
            <a:blip r:embed="rId2"/>
            <a:stretch/>
          </p:blipFill>
          <p:spPr>
            <a:xfrm>
              <a:off x="1003320" y="4317840"/>
              <a:ext cx="554940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3504960" y="4063680"/>
              <a:ext cx="59688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3524040" y="4387680"/>
              <a:ext cx="30456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52680" y="4764600"/>
              <a:ext cx="380880" cy="37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90" y="149"/>
                  </a:moveTo>
                  <a:arcTo wR="10800" hR="10800" stAng="-4827578" swAng="1925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90" y="149"/>
                  </a:moveTo>
                  <a:arcTo wR="10800" hR="10800" stAng="-4827578" swAng="192559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3740040" y="4375080"/>
              <a:ext cx="88560" cy="12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69040" y="5449680"/>
              <a:ext cx="379800" cy="3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39" y="13"/>
                  </a:moveTo>
                  <a:arcTo wR="10800" hR="10800" stAng="-5228255" swAng="18972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39" y="13"/>
                  </a:moveTo>
                  <a:arcTo wR="10800" hR="10800" stAng="-5228255" swAng="189729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3574800" y="4387680"/>
              <a:ext cx="266400" cy="82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03800" y="5030640"/>
              <a:ext cx="3798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0" y="1"/>
                  </a:moveTo>
                  <a:arcTo wR="10800" hR="10800" stAng="-5342710" swAng="19085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0" y="1"/>
                  </a:moveTo>
                  <a:arcTo wR="10800" hR="10800" stAng="-5342710" swAng="1908543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981760" y="4038480"/>
              <a:ext cx="8377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5847840" y="4336920"/>
              <a:ext cx="4316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677560" y="4688280"/>
              <a:ext cx="379080" cy="38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41" y="706"/>
                  </a:moveTo>
                  <a:arcTo wR="10800" hR="10800" stAng="-4149998" swAng="18976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41" y="706"/>
                  </a:moveTo>
                  <a:arcTo wR="10800" hR="10800" stAng="-4149998" swAng="189763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5835600" y="4336920"/>
              <a:ext cx="469440" cy="9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664960" y="5106600"/>
              <a:ext cx="379080" cy="381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15" y="121"/>
                  </a:moveTo>
                  <a:arcTo wR="10800" hR="10800" stAng="-4883917" swAng="19199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15" y="121"/>
                  </a:moveTo>
                  <a:arcTo wR="10800" hR="10800" stAng="-4883917" swAng="1919995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5987520" y="4311360"/>
              <a:ext cx="317160" cy="134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17600" y="5475600"/>
              <a:ext cx="378360" cy="38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143" y="257"/>
                  </a:moveTo>
                  <a:arcTo wR="10800" hR="10800" stAng="-4648271" swAng="19279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143" y="257"/>
                  </a:moveTo>
                  <a:arcTo wR="10800" hR="10800" stAng="-4648271" swAng="192793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90720" y="4736880"/>
              <a:ext cx="711000" cy="171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03320" y="4775040"/>
              <a:ext cx="17395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nable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97480" y="4241520"/>
              <a:ext cx="659880" cy="29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473800" y="4216320"/>
              <a:ext cx="4820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7965-7607-442C-AE54-AACCD645A5D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5685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0192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0257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4764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4829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9336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9401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3908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3973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38480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545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052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117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47624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7689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2196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387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56894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959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466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531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66038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6103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0610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0675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48040" y="54547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762440" y="54547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54520" y="46483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72080" y="5562720"/>
            <a:ext cx="10666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48040" y="45403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305240" y="45403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54520" y="556272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343400" y="4419720"/>
            <a:ext cx="3137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uty cycle (in this case, 50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oc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to keep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long enough for inputs (R' and S') to set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allow to have effect on value st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ocks are regular periodic sign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 (time between tic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ty-cycle (time clock is high between ticks - expressed as % of peri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E1C3-F4BB-4172-AC87-2451EE33117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"/>
          <p:cNvGrpSpPr/>
          <p:nvPr/>
        </p:nvGrpSpPr>
        <p:grpSpPr>
          <a:xfrm>
            <a:off x="3657600" y="5334120"/>
            <a:ext cx="5016240" cy="1040760"/>
            <a:chOff x="3657600" y="5334120"/>
            <a:chExt cx="5016240" cy="1040760"/>
          </a:xfrm>
        </p:grpSpPr>
        <p:sp>
          <p:nvSpPr>
            <p:cNvPr id="508" name=""/>
            <p:cNvSpPr/>
            <p:nvPr/>
          </p:nvSpPr>
          <p:spPr>
            <a:xfrm>
              <a:off x="5295600" y="5600520"/>
              <a:ext cx="800280" cy="241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717800" y="628632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5232240" y="6051240"/>
              <a:ext cx="1708200" cy="240840"/>
              <a:chOff x="5232240" y="6051240"/>
              <a:chExt cx="1708200" cy="240840"/>
            </a:xfrm>
          </p:grpSpPr>
          <p:sp>
            <p:nvSpPr>
              <p:cNvPr id="511" name=""/>
              <p:cNvSpPr/>
              <p:nvPr/>
            </p:nvSpPr>
            <p:spPr>
              <a:xfrm flipV="1">
                <a:off x="5232240" y="6051240"/>
                <a:ext cx="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238720" y="6057360"/>
                <a:ext cx="83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083280" y="6063840"/>
                <a:ext cx="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102360" y="6285960"/>
                <a:ext cx="83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 flipV="1">
              <a:off x="6946920" y="6051240"/>
              <a:ext cx="0" cy="24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953040" y="605772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797600" y="6064200"/>
              <a:ext cx="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816680" y="628632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730760" y="560052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30760" y="582912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5238720" y="5594040"/>
              <a:ext cx="50760" cy="240840"/>
              <a:chOff x="5238720" y="5594040"/>
              <a:chExt cx="50760" cy="240840"/>
            </a:xfrm>
          </p:grpSpPr>
          <p:sp>
            <p:nvSpPr>
              <p:cNvPr id="522" name=""/>
              <p:cNvSpPr/>
              <p:nvPr/>
            </p:nvSpPr>
            <p:spPr>
              <a:xfrm flipV="1">
                <a:off x="523872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23872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6102360" y="5594040"/>
              <a:ext cx="50760" cy="240840"/>
              <a:chOff x="6102360" y="5594040"/>
              <a:chExt cx="50760" cy="240840"/>
            </a:xfrm>
          </p:grpSpPr>
          <p:sp>
            <p:nvSpPr>
              <p:cNvPr id="525" name=""/>
              <p:cNvSpPr/>
              <p:nvPr/>
            </p:nvSpPr>
            <p:spPr>
              <a:xfrm flipV="1">
                <a:off x="610236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10236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6165720" y="56005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165720" y="5829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02080" y="56005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302080" y="58291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6940440" y="5594040"/>
              <a:ext cx="50760" cy="240840"/>
              <a:chOff x="6940440" y="5594040"/>
              <a:chExt cx="50760" cy="240840"/>
            </a:xfrm>
          </p:grpSpPr>
          <p:sp>
            <p:nvSpPr>
              <p:cNvPr id="532" name=""/>
              <p:cNvSpPr/>
              <p:nvPr/>
            </p:nvSpPr>
            <p:spPr>
              <a:xfrm flipV="1">
                <a:off x="694044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94044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3809880" y="6045120"/>
              <a:ext cx="8128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ck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657600" y="5587920"/>
              <a:ext cx="9651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’  and  S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30720" y="5334120"/>
              <a:ext cx="110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han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108480" y="5334120"/>
              <a:ext cx="863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997680" y="5600520"/>
              <a:ext cx="799920" cy="241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7804080" y="5594040"/>
              <a:ext cx="50760" cy="240840"/>
              <a:chOff x="7804080" y="5594040"/>
              <a:chExt cx="50760" cy="240840"/>
            </a:xfrm>
          </p:grpSpPr>
          <p:sp>
            <p:nvSpPr>
              <p:cNvPr id="540" name=""/>
              <p:cNvSpPr/>
              <p:nvPr/>
            </p:nvSpPr>
            <p:spPr>
              <a:xfrm flipV="1">
                <a:off x="780408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80408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2" name=""/>
            <p:cNvSpPr/>
            <p:nvPr/>
          </p:nvSpPr>
          <p:spPr>
            <a:xfrm>
              <a:off x="7867440" y="56005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867440" y="58291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003800" y="56005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003800" y="58291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832440" y="5334120"/>
              <a:ext cx="110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han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810200" y="5334120"/>
              <a:ext cx="863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21240" y="5334120"/>
              <a:ext cx="8632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ock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ling an R-S latch with a c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't let R and S change while clock is active (allowing R and S to p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have half of clock period for signal changes to propa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s must be stable for the other half of clock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380880" y="3124080"/>
            <a:ext cx="5448600" cy="2133720"/>
            <a:chOff x="380880" y="3124080"/>
            <a:chExt cx="5448600" cy="2133720"/>
          </a:xfrm>
        </p:grpSpPr>
        <p:pic>
          <p:nvPicPr>
            <p:cNvPr id="552" name="" descr=""/>
            <p:cNvPicPr/>
            <p:nvPr/>
          </p:nvPicPr>
          <p:blipFill>
            <a:blip r:embed="rId3"/>
            <a:stretch/>
          </p:blipFill>
          <p:spPr>
            <a:xfrm>
              <a:off x="1523880" y="3124080"/>
              <a:ext cx="3821400" cy="18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380880" y="3962520"/>
              <a:ext cx="120672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990720" y="4495680"/>
              <a:ext cx="647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56280" y="4267080"/>
              <a:ext cx="673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81480" y="3505320"/>
              <a:ext cx="6098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90720" y="3352680"/>
              <a:ext cx="6350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073320" y="3301920"/>
              <a:ext cx="5842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048120" y="4572000"/>
              <a:ext cx="609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1FEF-938A-4B20-8B6D-13BAF69C977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"/>
          <p:cNvGrpSpPr/>
          <p:nvPr/>
        </p:nvGrpSpPr>
        <p:grpSpPr>
          <a:xfrm>
            <a:off x="609480" y="4343400"/>
            <a:ext cx="7899480" cy="1657440"/>
            <a:chOff x="609480" y="4343400"/>
            <a:chExt cx="7899480" cy="1657440"/>
          </a:xfrm>
        </p:grpSpPr>
        <p:sp>
          <p:nvSpPr>
            <p:cNvPr id="561" name=""/>
            <p:cNvSpPr/>
            <p:nvPr/>
          </p:nvSpPr>
          <p:spPr>
            <a:xfrm>
              <a:off x="609480" y="5594400"/>
              <a:ext cx="952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" name=""/>
            <p:cNvGrpSpPr/>
            <p:nvPr/>
          </p:nvGrpSpPr>
          <p:grpSpPr>
            <a:xfrm>
              <a:off x="2286000" y="4343400"/>
              <a:ext cx="2793960" cy="1422360"/>
              <a:chOff x="2286000" y="4343400"/>
              <a:chExt cx="2793960" cy="1422360"/>
            </a:xfrm>
          </p:grpSpPr>
          <p:sp>
            <p:nvSpPr>
              <p:cNvPr id="563" name=""/>
              <p:cNvSpPr/>
              <p:nvPr/>
            </p:nvSpPr>
            <p:spPr>
              <a:xfrm>
                <a:off x="2743200" y="49849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743200" y="54547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2736720" y="49784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991240" y="49989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972160" y="49928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990880" y="49849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971800" y="49665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720960" y="43434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822840" y="44766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822840" y="50608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502160" y="50608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336920" y="44766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743200" y="44006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743200" y="48704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2736720" y="43938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991240" y="44146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972160" y="44085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990880" y="44006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971800" y="43815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425680" y="45277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5305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42900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425680" y="53150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540160" y="51246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540160" y="47307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5305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42900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021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9021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533680" y="47372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514600" y="51055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286000" y="52135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286000" y="462924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419200" y="4524480"/>
                <a:ext cx="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2414520" y="52117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5715000" y="4343400"/>
              <a:ext cx="2793960" cy="1422360"/>
              <a:chOff x="5715000" y="4343400"/>
              <a:chExt cx="2793960" cy="1422360"/>
            </a:xfrm>
          </p:grpSpPr>
          <p:sp>
            <p:nvSpPr>
              <p:cNvPr id="599" name=""/>
              <p:cNvSpPr/>
              <p:nvPr/>
            </p:nvSpPr>
            <p:spPr>
              <a:xfrm>
                <a:off x="6172200" y="49849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172200" y="54547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6165720" y="49784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420240" y="49989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401160" y="49928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419880" y="49849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400800" y="49665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149960" y="43434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251840" y="44766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251840" y="50608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931160" y="50608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765920" y="44766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172200" y="44006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172200" y="48704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6165720" y="43938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420240" y="44146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401160" y="44085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419880" y="44006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400800" y="43815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854680" y="45277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9595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85800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854680" y="53150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969160" y="51246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969160" y="47307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9595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85800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3311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3311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962680" y="47372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943600" y="51055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715000" y="52135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715000" y="4629240"/>
                <a:ext cx="141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848200" y="453384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5843520" y="52117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 flipH="1">
              <a:off x="1587240" y="5772240"/>
              <a:ext cx="438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74960" y="4451400"/>
              <a:ext cx="5968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987560" y="5048280"/>
              <a:ext cx="5842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5232240" y="462924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5232240" y="521352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latch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nect output of one latch to input of an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stop changes from racing through chai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be able to control flow of data from one latch to the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one latch per clock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to worry about logic between latches (arrows) that is too 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3C6A-99F5-4954-B8C7-FA3D126879B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ster-slave struct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ak flow by alternating clocks (like an air-loc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positive clock to latch inputs into one R-S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negative clock to change outputs with another R-S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ew pair as one basic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-slave flip-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ce as much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changes a few gate delays after the falling edge of clock but does not affect any cascaded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690480" y="4459320"/>
            <a:ext cx="7899480" cy="2072880"/>
            <a:chOff x="690480" y="4459320"/>
            <a:chExt cx="7899480" cy="2072880"/>
          </a:xfrm>
        </p:grpSpPr>
        <p:sp>
          <p:nvSpPr>
            <p:cNvPr id="644" name=""/>
            <p:cNvSpPr/>
            <p:nvPr/>
          </p:nvSpPr>
          <p:spPr>
            <a:xfrm>
              <a:off x="2814480" y="4462560"/>
              <a:ext cx="18288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master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418440" y="4459320"/>
              <a:ext cx="1663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slave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6" name=""/>
            <p:cNvGrpSpPr/>
            <p:nvPr/>
          </p:nvGrpSpPr>
          <p:grpSpPr>
            <a:xfrm>
              <a:off x="3189240" y="6062760"/>
              <a:ext cx="977760" cy="469440"/>
              <a:chOff x="3189240" y="6062760"/>
              <a:chExt cx="977760" cy="469440"/>
            </a:xfrm>
          </p:grpSpPr>
          <p:sp>
            <p:nvSpPr>
              <p:cNvPr id="647" name=""/>
              <p:cNvSpPr/>
              <p:nvPr/>
            </p:nvSpPr>
            <p:spPr>
              <a:xfrm>
                <a:off x="3443040" y="6062760"/>
                <a:ext cx="35568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3443040" y="6278400"/>
                <a:ext cx="355680" cy="25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436920" y="60627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811320" y="624060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938400" y="628488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189240" y="6284880"/>
                <a:ext cx="241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>
              <a:off x="5037120" y="5716440"/>
              <a:ext cx="584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37120" y="4827600"/>
              <a:ext cx="6602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90480" y="6094440"/>
              <a:ext cx="952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2367000" y="4843440"/>
              <a:ext cx="2793960" cy="1422360"/>
              <a:chOff x="2367000" y="4843440"/>
              <a:chExt cx="2793960" cy="1422360"/>
            </a:xfrm>
          </p:grpSpPr>
          <p:sp>
            <p:nvSpPr>
              <p:cNvPr id="657" name=""/>
              <p:cNvSpPr/>
              <p:nvPr/>
            </p:nvSpPr>
            <p:spPr>
              <a:xfrm>
                <a:off x="2824200" y="548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824200" y="595476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2817720" y="547848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072240" y="549900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053160" y="549288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071880" y="548496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052800" y="546660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801960" y="484344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903840" y="497664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903840" y="556092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83160" y="556092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417920" y="497664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824200" y="4900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824200" y="537048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2817720" y="489384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072240" y="491472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053160" y="490860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071880" y="490068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052800" y="488160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506680" y="502776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6115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51000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506680" y="581508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621160" y="562464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621160" y="52308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6115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51000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9831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9831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614680" y="523728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595600" y="560556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367000" y="571356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367000" y="512928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500200" y="5024520"/>
                <a:ext cx="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2495520" y="57117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796000" y="4843440"/>
              <a:ext cx="2793960" cy="1422360"/>
              <a:chOff x="5796000" y="4843440"/>
              <a:chExt cx="2793960" cy="1422360"/>
            </a:xfrm>
          </p:grpSpPr>
          <p:sp>
            <p:nvSpPr>
              <p:cNvPr id="693" name=""/>
              <p:cNvSpPr/>
              <p:nvPr/>
            </p:nvSpPr>
            <p:spPr>
              <a:xfrm>
                <a:off x="6253200" y="548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253200" y="595476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6246720" y="547848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501240" y="549900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482160" y="549288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500880" y="548496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481800" y="546660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230960" y="484344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332840" y="497664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332840" y="556092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012160" y="556092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846920" y="497664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253200" y="4900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253200" y="537048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6246720" y="489384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501240" y="491472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482160" y="490860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500880" y="490068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481800" y="488160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680" y="502776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405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93900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935680" y="581508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50160" y="562464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050160" y="52308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0405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93900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4121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4121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043680" y="523728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024600" y="560556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796000" y="571356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796000" y="5129280"/>
                <a:ext cx="141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929200" y="503388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5924520" y="57117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8" name=""/>
            <p:cNvSpPr/>
            <p:nvPr/>
          </p:nvSpPr>
          <p:spPr>
            <a:xfrm flipH="1">
              <a:off x="1668600" y="6272280"/>
              <a:ext cx="175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055960" y="4951440"/>
              <a:ext cx="5968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068560" y="5548320"/>
              <a:ext cx="5842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5313240" y="512928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5313240" y="571356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3954600" y="6278040"/>
              <a:ext cx="2087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78E3-3145-4D45-94A8-3B462864611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"/>
          <p:cNvGrpSpPr/>
          <p:nvPr/>
        </p:nvGrpSpPr>
        <p:grpSpPr>
          <a:xfrm>
            <a:off x="297000" y="3863880"/>
            <a:ext cx="4317840" cy="2793960"/>
            <a:chOff x="297000" y="3863880"/>
            <a:chExt cx="4317840" cy="2793960"/>
          </a:xfrm>
        </p:grpSpPr>
        <p:pic>
          <p:nvPicPr>
            <p:cNvPr id="735" name="" descr=""/>
            <p:cNvPicPr/>
            <p:nvPr/>
          </p:nvPicPr>
          <p:blipFill>
            <a:blip r:embed="rId1"/>
            <a:srcRect l="0" t="0" r="41228" b="0"/>
            <a:stretch/>
          </p:blipFill>
          <p:spPr>
            <a:xfrm>
              <a:off x="461880" y="4168800"/>
              <a:ext cx="3105360" cy="238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6" name=""/>
            <p:cNvGrpSpPr/>
            <p:nvPr/>
          </p:nvGrpSpPr>
          <p:grpSpPr>
            <a:xfrm>
              <a:off x="1674720" y="5521320"/>
              <a:ext cx="376200" cy="566640"/>
              <a:chOff x="1674720" y="5521320"/>
              <a:chExt cx="376200" cy="566640"/>
            </a:xfrm>
          </p:grpSpPr>
          <p:sp>
            <p:nvSpPr>
              <p:cNvPr id="737" name=""/>
              <p:cNvSpPr/>
              <p:nvPr/>
            </p:nvSpPr>
            <p:spPr>
              <a:xfrm>
                <a:off x="1858680" y="5844960"/>
                <a:ext cx="192240" cy="243000"/>
              </a:xfrm>
              <a:custGeom>
                <a:avLst/>
                <a:gdLst/>
                <a:ahLst/>
                <a:rect l="l" t="t" r="r" b="b"/>
                <a:pathLst>
                  <a:path w="121" h="153">
                    <a:moveTo>
                      <a:pt x="120" y="152"/>
                    </a:moveTo>
                    <a:lnTo>
                      <a:pt x="0" y="56"/>
                    </a:lnTo>
                    <a:lnTo>
                      <a:pt x="72" y="72"/>
                    </a:lnTo>
                    <a:lnTo>
                      <a:pt x="80" y="0"/>
                    </a:lnTo>
                    <a:lnTo>
                      <a:pt x="120" y="15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674720" y="5521320"/>
                <a:ext cx="291960" cy="43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1636560" y="5889600"/>
              <a:ext cx="388800" cy="566640"/>
              <a:chOff x="1636560" y="5889600"/>
              <a:chExt cx="388800" cy="566640"/>
            </a:xfrm>
          </p:grpSpPr>
          <p:sp>
            <p:nvSpPr>
              <p:cNvPr id="740" name=""/>
              <p:cNvSpPr/>
              <p:nvPr/>
            </p:nvSpPr>
            <p:spPr>
              <a:xfrm>
                <a:off x="1833480" y="6226200"/>
                <a:ext cx="191880" cy="230040"/>
              </a:xfrm>
              <a:custGeom>
                <a:avLst/>
                <a:gdLst/>
                <a:ahLst/>
                <a:rect l="l" t="t" r="r" b="b"/>
                <a:pathLst>
                  <a:path w="121" h="145">
                    <a:moveTo>
                      <a:pt x="120" y="144"/>
                    </a:moveTo>
                    <a:lnTo>
                      <a:pt x="0" y="56"/>
                    </a:lnTo>
                    <a:lnTo>
                      <a:pt x="64" y="64"/>
                    </a:lnTo>
                    <a:lnTo>
                      <a:pt x="80" y="0"/>
                    </a:lnTo>
                    <a:lnTo>
                      <a:pt x="120" y="1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636560" y="5889600"/>
                <a:ext cx="291960" cy="43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2500200" y="5533920"/>
              <a:ext cx="236520" cy="554040"/>
              <a:chOff x="2500200" y="5533920"/>
              <a:chExt cx="236520" cy="554040"/>
            </a:xfrm>
          </p:grpSpPr>
          <p:sp>
            <p:nvSpPr>
              <p:cNvPr id="743" name=""/>
              <p:cNvSpPr/>
              <p:nvPr/>
            </p:nvSpPr>
            <p:spPr>
              <a:xfrm>
                <a:off x="2595240" y="5844960"/>
                <a:ext cx="141480" cy="243000"/>
              </a:xfrm>
              <a:custGeom>
                <a:avLst/>
                <a:gdLst/>
                <a:ahLst/>
                <a:rect l="l" t="t" r="r" b="b"/>
                <a:pathLst>
                  <a:path w="89" h="153">
                    <a:moveTo>
                      <a:pt x="88" y="152"/>
                    </a:moveTo>
                    <a:lnTo>
                      <a:pt x="0" y="40"/>
                    </a:lnTo>
                    <a:lnTo>
                      <a:pt x="56" y="56"/>
                    </a:lnTo>
                    <a:lnTo>
                      <a:pt x="80" y="0"/>
                    </a:lnTo>
                    <a:lnTo>
                      <a:pt x="88" y="15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500200" y="5533920"/>
                <a:ext cx="177840" cy="39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2538360" y="5889600"/>
              <a:ext cx="236520" cy="554040"/>
              <a:chOff x="2538360" y="5889600"/>
              <a:chExt cx="236520" cy="554040"/>
            </a:xfrm>
          </p:grpSpPr>
          <p:sp>
            <p:nvSpPr>
              <p:cNvPr id="746" name=""/>
              <p:cNvSpPr/>
              <p:nvPr/>
            </p:nvSpPr>
            <p:spPr>
              <a:xfrm>
                <a:off x="2608200" y="6213240"/>
                <a:ext cx="166680" cy="230400"/>
              </a:xfrm>
              <a:custGeom>
                <a:avLst/>
                <a:gdLst/>
                <a:ahLst/>
                <a:rect l="l" t="t" r="r" b="b"/>
                <a:pathLst>
                  <a:path w="105" h="145">
                    <a:moveTo>
                      <a:pt x="104" y="144"/>
                    </a:moveTo>
                    <a:lnTo>
                      <a:pt x="0" y="32"/>
                    </a:lnTo>
                    <a:lnTo>
                      <a:pt x="56" y="56"/>
                    </a:lnTo>
                    <a:lnTo>
                      <a:pt x="88" y="0"/>
                    </a:lnTo>
                    <a:lnTo>
                      <a:pt x="104" y="1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538360" y="5889600"/>
                <a:ext cx="15228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8" name=""/>
            <p:cNvSpPr/>
            <p:nvPr/>
          </p:nvSpPr>
          <p:spPr>
            <a:xfrm>
              <a:off x="1262160" y="4105440"/>
              <a:ext cx="622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609480"/>
                  <a:tab algn="l" pos="2044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58960" y="3863880"/>
              <a:ext cx="736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s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a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1554120" y="4441680"/>
              <a:ext cx="0" cy="7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1554120" y="4486320"/>
              <a:ext cx="0" cy="723600"/>
              <a:chOff x="1554120" y="4486320"/>
              <a:chExt cx="0" cy="723600"/>
            </a:xfrm>
          </p:grpSpPr>
          <p:sp>
            <p:nvSpPr>
              <p:cNvPr id="752" name=""/>
              <p:cNvSpPr/>
              <p:nvPr/>
            </p:nvSpPr>
            <p:spPr>
              <a:xfrm>
                <a:off x="1554120" y="52099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554120" y="5133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554120" y="5057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554120" y="4994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554120" y="4917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54120" y="4841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554120" y="4778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554120" y="4701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4120" y="46386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554120" y="4562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54120" y="44863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3" name=""/>
            <p:cNvSpPr/>
            <p:nvPr/>
          </p:nvSpPr>
          <p:spPr>
            <a:xfrm flipV="1">
              <a:off x="2278080" y="44668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2278080" y="4486320"/>
              <a:ext cx="0" cy="723600"/>
              <a:chOff x="2278080" y="4486320"/>
              <a:chExt cx="0" cy="723600"/>
            </a:xfrm>
          </p:grpSpPr>
          <p:sp>
            <p:nvSpPr>
              <p:cNvPr id="765" name=""/>
              <p:cNvSpPr/>
              <p:nvPr/>
            </p:nvSpPr>
            <p:spPr>
              <a:xfrm>
                <a:off x="2278080" y="52099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278080" y="5133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278080" y="5057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78080" y="4994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278080" y="4917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278080" y="4841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278080" y="4778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278080" y="4701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78080" y="46386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278080" y="4562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278080" y="44863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 flipV="1">
              <a:off x="3002040" y="44668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3002040" y="4486320"/>
              <a:ext cx="0" cy="723600"/>
              <a:chOff x="3002040" y="4486320"/>
              <a:chExt cx="0" cy="723600"/>
            </a:xfrm>
          </p:grpSpPr>
          <p:sp>
            <p:nvSpPr>
              <p:cNvPr id="778" name=""/>
              <p:cNvSpPr/>
              <p:nvPr/>
            </p:nvSpPr>
            <p:spPr>
              <a:xfrm>
                <a:off x="3002040" y="52099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02040" y="5133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002040" y="5057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002040" y="4994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002040" y="4917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002040" y="4841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002040" y="4778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02040" y="4701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002040" y="46386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002040" y="4562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002040" y="44863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3726000" y="4511520"/>
              <a:ext cx="0" cy="711360"/>
              <a:chOff x="3726000" y="4511520"/>
              <a:chExt cx="0" cy="711360"/>
            </a:xfrm>
          </p:grpSpPr>
          <p:sp>
            <p:nvSpPr>
              <p:cNvPr id="790" name=""/>
              <p:cNvSpPr/>
              <p:nvPr/>
            </p:nvSpPr>
            <p:spPr>
              <a:xfrm>
                <a:off x="3726000" y="52228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726000" y="51465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726000" y="5083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726000" y="50068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726000" y="49435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726000" y="4867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726000" y="47908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726000" y="47275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726000" y="4651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726000" y="45752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726000" y="45115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"/>
            <p:cNvSpPr/>
            <p:nvPr/>
          </p:nvSpPr>
          <p:spPr>
            <a:xfrm>
              <a:off x="474840" y="4549680"/>
              <a:ext cx="609480" cy="20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97000" y="4486320"/>
              <a:ext cx="647640" cy="21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960560" y="4105440"/>
              <a:ext cx="736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611520" y="5425920"/>
              <a:ext cx="965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aste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649680" y="6035760"/>
              <a:ext cx="9651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lav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he 1s catching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5453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first R-S stage of master-slave F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1-0 glitch on R or S while clock is high is "caught" by master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 constraints on logic to be hazard-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3592440" y="2897280"/>
            <a:ext cx="5497200" cy="1442520"/>
            <a:chOff x="3592440" y="2897280"/>
            <a:chExt cx="5497200" cy="1442520"/>
          </a:xfrm>
        </p:grpSpPr>
        <p:sp>
          <p:nvSpPr>
            <p:cNvPr id="809" name=""/>
            <p:cNvSpPr/>
            <p:nvPr/>
          </p:nvSpPr>
          <p:spPr>
            <a:xfrm>
              <a:off x="5070600" y="2899440"/>
              <a:ext cx="127260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master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578720" y="2897280"/>
              <a:ext cx="115776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slave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1" name=""/>
            <p:cNvGrpSpPr/>
            <p:nvPr/>
          </p:nvGrpSpPr>
          <p:grpSpPr>
            <a:xfrm>
              <a:off x="5331240" y="4013280"/>
              <a:ext cx="680040" cy="326520"/>
              <a:chOff x="5331240" y="4013280"/>
              <a:chExt cx="680040" cy="326520"/>
            </a:xfrm>
          </p:grpSpPr>
          <p:sp>
            <p:nvSpPr>
              <p:cNvPr id="812" name=""/>
              <p:cNvSpPr/>
              <p:nvPr/>
            </p:nvSpPr>
            <p:spPr>
              <a:xfrm>
                <a:off x="5507640" y="4013280"/>
                <a:ext cx="247320" cy="15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5507640" y="4163400"/>
                <a:ext cx="247320" cy="17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503320" y="4013280"/>
                <a:ext cx="0" cy="31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763960" y="4136760"/>
                <a:ext cx="70560" cy="70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852520" y="4167720"/>
                <a:ext cx="158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331240" y="4167720"/>
                <a:ext cx="16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>
              <a:off x="6617160" y="3772080"/>
              <a:ext cx="4064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17160" y="3153600"/>
              <a:ext cx="45936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592440" y="4035240"/>
              <a:ext cx="66276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1" name=""/>
            <p:cNvGrpSpPr/>
            <p:nvPr/>
          </p:nvGrpSpPr>
          <p:grpSpPr>
            <a:xfrm>
              <a:off x="4759200" y="3164400"/>
              <a:ext cx="1944000" cy="989640"/>
              <a:chOff x="4759200" y="3164400"/>
              <a:chExt cx="1944000" cy="989640"/>
            </a:xfrm>
          </p:grpSpPr>
          <p:sp>
            <p:nvSpPr>
              <p:cNvPr id="822" name=""/>
              <p:cNvSpPr/>
              <p:nvPr/>
            </p:nvSpPr>
            <p:spPr>
              <a:xfrm>
                <a:off x="5077080" y="361080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077080" y="393768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V="1">
                <a:off x="5072760" y="3606120"/>
                <a:ext cx="0" cy="335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249880" y="362052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5236920" y="361620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249520" y="3610800"/>
                <a:ext cx="29124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236560" y="359748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757840" y="3164400"/>
                <a:ext cx="821880" cy="812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828760" y="325692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828760" y="366336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301440" y="3663360"/>
                <a:ext cx="264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186240" y="3256920"/>
                <a:ext cx="38880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077080" y="320400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077080" y="353088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072760" y="3199320"/>
                <a:ext cx="0" cy="33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49880" y="321372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36920" y="320940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249520" y="3204360"/>
                <a:ext cx="29124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236560" y="319104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856400" y="329256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62500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55444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856400" y="384048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935960" y="370764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935960" y="343368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62500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55444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57972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57972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931280" y="3438360"/>
                <a:ext cx="0" cy="71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917960" y="3694680"/>
                <a:ext cx="35280" cy="35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759200" y="3769560"/>
                <a:ext cx="88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759200" y="3363120"/>
                <a:ext cx="88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851720" y="329040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V="1">
                <a:off x="4848480" y="37681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"/>
            <p:cNvGrpSpPr/>
            <p:nvPr/>
          </p:nvGrpSpPr>
          <p:grpSpPr>
            <a:xfrm>
              <a:off x="7145640" y="3164400"/>
              <a:ext cx="1944000" cy="989640"/>
              <a:chOff x="7145640" y="3164400"/>
              <a:chExt cx="1944000" cy="989640"/>
            </a:xfrm>
          </p:grpSpPr>
          <p:sp>
            <p:nvSpPr>
              <p:cNvPr id="858" name=""/>
              <p:cNvSpPr/>
              <p:nvPr/>
            </p:nvSpPr>
            <p:spPr>
              <a:xfrm>
                <a:off x="7463520" y="361080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463520" y="393768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7459200" y="3606120"/>
                <a:ext cx="0" cy="335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636320" y="362052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623360" y="361620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635960" y="3610800"/>
                <a:ext cx="29124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23000" y="359748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144280" y="3164400"/>
                <a:ext cx="821880" cy="812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215200" y="325692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215200" y="366336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687880" y="3663360"/>
                <a:ext cx="264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8572680" y="3256920"/>
                <a:ext cx="38880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463520" y="320400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463520" y="353088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V="1">
                <a:off x="7459200" y="3199320"/>
                <a:ext cx="0" cy="33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636320" y="321372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23360" y="320940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635960" y="3204360"/>
                <a:ext cx="29124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623000" y="319104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242840" y="329256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801144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94088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242840" y="384048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322400" y="370764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322400" y="343368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01144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94088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96616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96616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317720" y="3438360"/>
                <a:ext cx="0" cy="71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304400" y="3694680"/>
                <a:ext cx="35280" cy="35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145640" y="3769560"/>
                <a:ext cx="88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145640" y="3363120"/>
                <a:ext cx="9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238160" y="3296880"/>
                <a:ext cx="0" cy="61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V="1">
                <a:off x="7234920" y="37681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3" name=""/>
            <p:cNvSpPr/>
            <p:nvPr/>
          </p:nvSpPr>
          <p:spPr>
            <a:xfrm flipH="1">
              <a:off x="4272480" y="4159080"/>
              <a:ext cx="121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542480" y="3239640"/>
              <a:ext cx="4150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551480" y="3655080"/>
              <a:ext cx="4064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6809040" y="3363480"/>
              <a:ext cx="24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6809040" y="3769920"/>
              <a:ext cx="24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 flipV="1">
              <a:off x="5863680" y="4162680"/>
              <a:ext cx="1452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8DE9-3134-46C3-B037-F6E42AAB29D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7594560" y="6192720"/>
            <a:ext cx="1346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 flip-flop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30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S and R complements of each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s 1s catching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't just hold previous valu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ust have new value ready every clock peri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of D just before clock goes low is what is stored in flip-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make R-S flip-flop by adding logic to make D = S + R’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361800" y="3879720"/>
            <a:ext cx="8761680" cy="2072880"/>
            <a:chOff x="361800" y="3879720"/>
            <a:chExt cx="8761680" cy="2072880"/>
          </a:xfrm>
        </p:grpSpPr>
        <p:sp>
          <p:nvSpPr>
            <p:cNvPr id="903" name=""/>
            <p:cNvSpPr/>
            <p:nvPr/>
          </p:nvSpPr>
          <p:spPr>
            <a:xfrm>
              <a:off x="361800" y="4957920"/>
              <a:ext cx="559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462880" y="4935600"/>
              <a:ext cx="6098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462880" y="4351320"/>
              <a:ext cx="660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6" name=""/>
            <p:cNvGrpSpPr/>
            <p:nvPr/>
          </p:nvGrpSpPr>
          <p:grpSpPr>
            <a:xfrm>
              <a:off x="1208160" y="4330800"/>
              <a:ext cx="977760" cy="469080"/>
              <a:chOff x="1208160" y="4330800"/>
              <a:chExt cx="977760" cy="469080"/>
            </a:xfrm>
          </p:grpSpPr>
          <p:sp>
            <p:nvSpPr>
              <p:cNvPr id="907" name=""/>
              <p:cNvSpPr/>
              <p:nvPr/>
            </p:nvSpPr>
            <p:spPr>
              <a:xfrm>
                <a:off x="1461960" y="4330800"/>
                <a:ext cx="35568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V="1">
                <a:off x="1461960" y="4546080"/>
                <a:ext cx="355680" cy="25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455840" y="4330800"/>
                <a:ext cx="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830600" y="4508280"/>
                <a:ext cx="101520" cy="101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957320" y="455292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208160" y="4552920"/>
                <a:ext cx="241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3" name=""/>
            <p:cNvSpPr/>
            <p:nvPr/>
          </p:nvSpPr>
          <p:spPr>
            <a:xfrm flipH="1">
              <a:off x="966600" y="513720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189080" y="4559400"/>
              <a:ext cx="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170000" y="5118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583000" y="3882960"/>
              <a:ext cx="182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master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186600" y="3879720"/>
              <a:ext cx="1663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slave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8" name=""/>
            <p:cNvGrpSpPr/>
            <p:nvPr/>
          </p:nvGrpSpPr>
          <p:grpSpPr>
            <a:xfrm>
              <a:off x="2957400" y="5483160"/>
              <a:ext cx="977760" cy="469440"/>
              <a:chOff x="2957400" y="5483160"/>
              <a:chExt cx="977760" cy="469440"/>
            </a:xfrm>
          </p:grpSpPr>
          <p:sp>
            <p:nvSpPr>
              <p:cNvPr id="919" name=""/>
              <p:cNvSpPr/>
              <p:nvPr/>
            </p:nvSpPr>
            <p:spPr>
              <a:xfrm>
                <a:off x="3211200" y="5483160"/>
                <a:ext cx="35568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V="1">
                <a:off x="3211200" y="5698800"/>
                <a:ext cx="355680" cy="25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205080" y="54831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579480" y="566100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06560" y="570528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957400" y="5705280"/>
                <a:ext cx="241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>
              <a:off x="4805280" y="5137200"/>
              <a:ext cx="5842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05280" y="4248000"/>
              <a:ext cx="66060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58640" y="5514840"/>
              <a:ext cx="952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8" name=""/>
            <p:cNvGrpSpPr/>
            <p:nvPr/>
          </p:nvGrpSpPr>
          <p:grpSpPr>
            <a:xfrm>
              <a:off x="2135160" y="4264200"/>
              <a:ext cx="2793960" cy="1422360"/>
              <a:chOff x="2135160" y="4264200"/>
              <a:chExt cx="2793960" cy="1422360"/>
            </a:xfrm>
          </p:grpSpPr>
          <p:sp>
            <p:nvSpPr>
              <p:cNvPr id="929" name=""/>
              <p:cNvSpPr/>
              <p:nvPr/>
            </p:nvSpPr>
            <p:spPr>
              <a:xfrm>
                <a:off x="2592360" y="49057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592360" y="53755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V="1">
                <a:off x="2585880" y="48992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840400" y="49197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821320" y="49136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840040" y="49057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820960" y="48873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570120" y="42642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672000" y="43974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672000" y="49816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351320" y="49816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186080" y="43974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592360" y="43214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592360" y="47912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>
                <a:off x="2585880" y="43146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840400" y="43354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821320" y="43293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840040" y="43214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820960" y="43023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74840" y="44485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3796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27816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274840" y="52358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389320" y="50454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389320" y="46515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3796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27816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7512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7512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382840" y="46580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2363760" y="50263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2135160" y="51343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2135160" y="455004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268360" y="4445280"/>
                <a:ext cx="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V="1">
                <a:off x="2263680" y="51325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5564160" y="4264200"/>
              <a:ext cx="2793960" cy="1422360"/>
              <a:chOff x="5564160" y="4264200"/>
              <a:chExt cx="2793960" cy="1422360"/>
            </a:xfrm>
          </p:grpSpPr>
          <p:sp>
            <p:nvSpPr>
              <p:cNvPr id="965" name=""/>
              <p:cNvSpPr/>
              <p:nvPr/>
            </p:nvSpPr>
            <p:spPr>
              <a:xfrm>
                <a:off x="6021360" y="49057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021360" y="53755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V="1">
                <a:off x="6014880" y="48992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269400" y="49197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250320" y="49136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269040" y="49057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249960" y="48873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999120" y="42642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101000" y="43974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101000" y="49816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780320" y="49816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5080" y="43974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021360" y="43214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021360" y="47912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6014880" y="43146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269400" y="43354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250320" y="43293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269040" y="43214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249960" y="43023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703840" y="44485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8086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70716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703840" y="52358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818320" y="50454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818320" y="46515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8086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70716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81802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81802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811840" y="46580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792760" y="50263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64160" y="51343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64160" y="4550040"/>
                <a:ext cx="141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97360" y="445464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V="1">
                <a:off x="5692680" y="51325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0" name=""/>
            <p:cNvSpPr/>
            <p:nvPr/>
          </p:nvSpPr>
          <p:spPr>
            <a:xfrm flipH="1">
              <a:off x="1436760" y="5692680"/>
              <a:ext cx="175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5081400" y="4549680"/>
              <a:ext cx="35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5081400" y="5133960"/>
              <a:ext cx="35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 flipV="1">
              <a:off x="3722400" y="5699160"/>
              <a:ext cx="2087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1B44-2423-43B6-84DF-61FEAF61E2E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"/>
          <p:cNvGrpSpPr/>
          <p:nvPr/>
        </p:nvGrpSpPr>
        <p:grpSpPr>
          <a:xfrm>
            <a:off x="293760" y="2209680"/>
            <a:ext cx="4763880" cy="4419720"/>
            <a:chOff x="293760" y="2209680"/>
            <a:chExt cx="4763880" cy="4419720"/>
          </a:xfrm>
        </p:grpSpPr>
        <p:pic>
          <p:nvPicPr>
            <p:cNvPr id="1005" name="" descr=""/>
            <p:cNvPicPr/>
            <p:nvPr/>
          </p:nvPicPr>
          <p:blipFill>
            <a:blip r:embed="rId1"/>
            <a:srcRect l="0" t="0" r="0" b="1762"/>
            <a:stretch/>
          </p:blipFill>
          <p:spPr>
            <a:xfrm>
              <a:off x="824040" y="2209680"/>
              <a:ext cx="402264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>
              <a:off x="4718160" y="3902040"/>
              <a:ext cx="253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55640" y="61056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3760" y="4370400"/>
              <a:ext cx="7110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025800" y="371628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041640" y="48816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305160" y="5240160"/>
              <a:ext cx="228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300480" y="6018120"/>
              <a:ext cx="304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289320" y="333072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182600" y="2492280"/>
              <a:ext cx="457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262320" y="2554200"/>
              <a:ext cx="330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714920" y="4675320"/>
              <a:ext cx="342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7" name="" descr=""/>
          <p:cNvPicPr/>
          <p:nvPr/>
        </p:nvPicPr>
        <p:blipFill>
          <a:blip r:embed="rId2"/>
          <a:stretch/>
        </p:blipFill>
        <p:spPr>
          <a:xfrm>
            <a:off x="6629400" y="4800600"/>
            <a:ext cx="1262160" cy="116676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/>
          <p:nvPr/>
        </p:nvSpPr>
        <p:spPr>
          <a:xfrm>
            <a:off x="5549760" y="3000240"/>
            <a:ext cx="350532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gative edge-triggered 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lip-flop (D-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-5 gate del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st respect setup and hold tim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traints to successfull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pture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956200" y="5867280"/>
            <a:ext cx="27925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 equ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1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862440" y="2778120"/>
            <a:ext cx="1549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s D’ w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 goe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925800" y="5568840"/>
            <a:ext cx="1409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s D wh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 goe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 flipV="1">
            <a:off x="3484080" y="5441760"/>
            <a:ext cx="381240" cy="317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3481560" y="3070080"/>
            <a:ext cx="342720" cy="29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dge-triggered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718920" y="1676160"/>
            <a:ext cx="855180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efficient solution: only 6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itive to inputs only near edge of clock signal (not while hig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886440" y="548640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5FA5-33F9-42C1-9D32-D004F7892D9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41720" y="46036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27520" y="46036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13320" y="46036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27320" y="540396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41720" y="4946760"/>
            <a:ext cx="1828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78040" y="4603680"/>
            <a:ext cx="0" cy="787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73400" y="4546440"/>
            <a:ext cx="419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81360" y="4546440"/>
            <a:ext cx="736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67160" y="4546440"/>
            <a:ext cx="736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63840" y="48322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49640" y="48322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35440" y="48322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49640" y="517536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228760" y="5283360"/>
            <a:ext cx="92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35240" y="52894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5384880"/>
            <a:ext cx="1028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a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06640" y="563256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4292640"/>
            <a:ext cx="978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6006960"/>
            <a:ext cx="978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79840" y="4927680"/>
            <a:ext cx="9903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27640" y="4794120"/>
            <a:ext cx="18288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1360" y="4336920"/>
            <a:ext cx="0" cy="584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2440" y="4038480"/>
            <a:ext cx="8636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15080" y="6083280"/>
            <a:ext cx="1549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/cl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5187960"/>
            <a:ext cx="0" cy="95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49760" y="433692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4038480"/>
            <a:ext cx="851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35560" y="433692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4038480"/>
            <a:ext cx="8636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92640" y="4775040"/>
            <a:ext cx="86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057560" y="5067360"/>
            <a:ext cx="1409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6914880" y="5492880"/>
            <a:ext cx="12708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927840" y="5378040"/>
            <a:ext cx="10152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42320" y="5511960"/>
            <a:ext cx="545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94560" y="5334120"/>
            <a:ext cx="851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56520" y="5391000"/>
            <a:ext cx="685800" cy="24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67320" y="4933800"/>
            <a:ext cx="1587600" cy="266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070680" y="51879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064200" y="551196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80160" y="520056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02400" y="4915080"/>
            <a:ext cx="1587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b.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88200" y="5346720"/>
            <a:ext cx="927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circui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rcuits with feed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= f(inputs, past inputs, past outpu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s for building "memory" into logic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or combination lock is an example of a sequential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is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is an "output" and an "input" to combinational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 storage elements are also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94A9-6A39-4A9A-AD45-1BE87847D5F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"/>
          <p:cNvGrpSpPr/>
          <p:nvPr/>
        </p:nvGrpSpPr>
        <p:grpSpPr>
          <a:xfrm>
            <a:off x="0" y="1752480"/>
            <a:ext cx="4678200" cy="4419720"/>
            <a:chOff x="0" y="1752480"/>
            <a:chExt cx="4678200" cy="4419720"/>
          </a:xfrm>
        </p:grpSpPr>
        <p:pic>
          <p:nvPicPr>
            <p:cNvPr id="1028" name="" descr=""/>
            <p:cNvPicPr/>
            <p:nvPr/>
          </p:nvPicPr>
          <p:blipFill>
            <a:blip r:embed="rId1"/>
            <a:srcRect l="0" t="0" r="0" b="1762"/>
            <a:stretch/>
          </p:blipFill>
          <p:spPr>
            <a:xfrm>
              <a:off x="530280" y="1752480"/>
              <a:ext cx="402264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9" name=""/>
            <p:cNvSpPr/>
            <p:nvPr/>
          </p:nvSpPr>
          <p:spPr>
            <a:xfrm>
              <a:off x="4424400" y="3444840"/>
              <a:ext cx="253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61880" y="5648400"/>
              <a:ext cx="241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0" y="3913200"/>
              <a:ext cx="711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732040" y="325908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47880" y="4424400"/>
              <a:ext cx="241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011400" y="4782960"/>
              <a:ext cx="228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006720" y="5560920"/>
              <a:ext cx="304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95560" y="287352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88840" y="2035080"/>
              <a:ext cx="457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68560" y="2097000"/>
              <a:ext cx="330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>
            <a:off x="723960" y="6197760"/>
            <a:ext cx="32637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clock goes high-to-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is latc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410080" y="6172200"/>
            <a:ext cx="3111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clock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is h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dge-triggered flip-flo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-by-step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4592520" y="1752480"/>
            <a:ext cx="4678560" cy="4419720"/>
            <a:chOff x="4592520" y="1752480"/>
            <a:chExt cx="4678560" cy="4419720"/>
          </a:xfrm>
        </p:grpSpPr>
        <p:pic>
          <p:nvPicPr>
            <p:cNvPr id="1044" name="" descr=""/>
            <p:cNvPicPr/>
            <p:nvPr/>
          </p:nvPicPr>
          <p:blipFill>
            <a:blip r:embed="rId2"/>
            <a:srcRect l="0" t="0" r="0" b="1762"/>
            <a:stretch/>
          </p:blipFill>
          <p:spPr>
            <a:xfrm>
              <a:off x="5122800" y="1752480"/>
              <a:ext cx="402264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5" name=""/>
            <p:cNvSpPr/>
            <p:nvPr/>
          </p:nvSpPr>
          <p:spPr>
            <a:xfrm>
              <a:off x="9016920" y="3444840"/>
              <a:ext cx="254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054760" y="56484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592520" y="3913200"/>
              <a:ext cx="711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324560" y="3259080"/>
              <a:ext cx="241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340760" y="44244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604280" y="4782960"/>
              <a:ext cx="228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599240" y="5560920"/>
              <a:ext cx="304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588080" y="287352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481720" y="2035080"/>
              <a:ext cx="457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561440" y="2097000"/>
              <a:ext cx="330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4147560" y="5867280"/>
            <a:ext cx="1552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ld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9349-0976-48A9-92B1-18AD18E24CB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" descr=""/>
          <p:cNvPicPr/>
          <p:nvPr/>
        </p:nvPicPr>
        <p:blipFill>
          <a:blip r:embed="rId1"/>
          <a:stretch/>
        </p:blipFill>
        <p:spPr>
          <a:xfrm>
            <a:off x="838080" y="3733920"/>
            <a:ext cx="5486400" cy="2247840"/>
          </a:xfrm>
          <a:prstGeom prst="rect">
            <a:avLst/>
          </a:prstGeom>
          <a:ln w="0">
            <a:noFill/>
          </a:ln>
        </p:spPr>
      </p:pic>
      <p:sp>
        <p:nvSpPr>
          <p:cNvPr id="1057" name=""/>
          <p:cNvSpPr/>
          <p:nvPr/>
        </p:nvSpPr>
        <p:spPr>
          <a:xfrm>
            <a:off x="6095880" y="4965840"/>
            <a:ext cx="261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sitive edge-triggered 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273720" y="554976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gative edge-triggered 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812880" y="4152960"/>
            <a:ext cx="660240" cy="18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09480" y="4089240"/>
            <a:ext cx="80028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po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neg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76920" y="3619440"/>
            <a:ext cx="6602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2880" y="3594240"/>
            <a:ext cx="482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464000" y="4718160"/>
            <a:ext cx="50760" cy="74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740040" y="4705200"/>
            <a:ext cx="88920" cy="16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016080" y="4705200"/>
            <a:ext cx="88920" cy="80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292480" y="4718160"/>
            <a:ext cx="1015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dge-triggered flip-flo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ve edge-trigge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 sampled on rising edge; outputs change after rising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gative edge-triggered flip-fl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 sampled on falling edge; outputs change after falling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5786-859E-4D36-8F51-1BE77404201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ing methodolog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les for interconnecting components and cl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 proper operation of system when strictly follow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oach depends on building blocks used for memory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'll focus on systems with edge-triggered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 in programmable logic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custom integrated circuits focus on level-sensitive la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c rules for correct tim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correct inputs, with respect to time, are provided to the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no flip-flop changes state more than once per clocking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6098-7CC8-4AB2-9168-4CBF3B5FDDE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277920" y="5376960"/>
            <a:ext cx="25146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re is a timing "window"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ound the clocking ev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uring which the input mus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ain stable and unchang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order to be recogn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78720" y="5657760"/>
            <a:ext cx="322200" cy="219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232160" y="5657760"/>
            <a:ext cx="635040" cy="219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121360" y="5657760"/>
            <a:ext cx="1303200" cy="219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238640" y="6280200"/>
            <a:ext cx="77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5018040" y="6067080"/>
            <a:ext cx="1550520" cy="219240"/>
            <a:chOff x="5018040" y="6067080"/>
            <a:chExt cx="1550520" cy="219240"/>
          </a:xfrm>
        </p:grpSpPr>
        <p:sp>
          <p:nvSpPr>
            <p:cNvPr id="1077" name=""/>
            <p:cNvSpPr/>
            <p:nvPr/>
          </p:nvSpPr>
          <p:spPr>
            <a:xfrm flipV="1">
              <a:off x="5018040" y="6067080"/>
              <a:ext cx="0" cy="2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023440" y="6073200"/>
              <a:ext cx="76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790240" y="6078600"/>
              <a:ext cx="0" cy="19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807520" y="6280920"/>
              <a:ext cx="76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6575400" y="6067080"/>
            <a:ext cx="1550520" cy="219240"/>
            <a:chOff x="6575400" y="6067080"/>
            <a:chExt cx="1550520" cy="219240"/>
          </a:xfrm>
        </p:grpSpPr>
        <p:sp>
          <p:nvSpPr>
            <p:cNvPr id="1082" name=""/>
            <p:cNvSpPr/>
            <p:nvPr/>
          </p:nvSpPr>
          <p:spPr>
            <a:xfrm flipV="1">
              <a:off x="6575400" y="6067080"/>
              <a:ext cx="0" cy="2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581160" y="6073200"/>
              <a:ext cx="76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347960" y="6078600"/>
              <a:ext cx="0" cy="19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365240" y="6280920"/>
              <a:ext cx="76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6" name=""/>
          <p:cNvGrpSpPr/>
          <p:nvPr/>
        </p:nvGrpSpPr>
        <p:grpSpPr>
          <a:xfrm>
            <a:off x="4861080" y="5651640"/>
            <a:ext cx="47520" cy="218880"/>
            <a:chOff x="4861080" y="5651640"/>
            <a:chExt cx="47520" cy="218880"/>
          </a:xfrm>
        </p:grpSpPr>
        <p:sp>
          <p:nvSpPr>
            <p:cNvPr id="1087" name=""/>
            <p:cNvSpPr/>
            <p:nvPr/>
          </p:nvSpPr>
          <p:spPr>
            <a:xfrm flipV="1">
              <a:off x="4861080" y="5651640"/>
              <a:ext cx="4752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861080" y="5662800"/>
              <a:ext cx="4752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9" name=""/>
          <p:cNvSpPr/>
          <p:nvPr/>
        </p:nvSpPr>
        <p:spPr>
          <a:xfrm>
            <a:off x="4919760" y="56577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919760" y="586584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4227120" y="565776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4227120" y="586584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5068800" y="5651640"/>
            <a:ext cx="46080" cy="218880"/>
            <a:chOff x="5068800" y="5651640"/>
            <a:chExt cx="46080" cy="218880"/>
          </a:xfrm>
        </p:grpSpPr>
        <p:sp>
          <p:nvSpPr>
            <p:cNvPr id="1094" name=""/>
            <p:cNvSpPr/>
            <p:nvPr/>
          </p:nvSpPr>
          <p:spPr>
            <a:xfrm flipV="1">
              <a:off x="5068800" y="5651640"/>
              <a:ext cx="4608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068800" y="5662800"/>
              <a:ext cx="4608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6418440" y="5651640"/>
            <a:ext cx="47520" cy="218880"/>
            <a:chOff x="6418440" y="5651640"/>
            <a:chExt cx="47520" cy="218880"/>
          </a:xfrm>
        </p:grpSpPr>
        <p:sp>
          <p:nvSpPr>
            <p:cNvPr id="1097" name=""/>
            <p:cNvSpPr/>
            <p:nvPr/>
          </p:nvSpPr>
          <p:spPr>
            <a:xfrm flipV="1">
              <a:off x="6418440" y="5651640"/>
              <a:ext cx="4752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418440" y="5662800"/>
              <a:ext cx="4752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6477120" y="56577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477120" y="586584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127480" y="5657760"/>
            <a:ext cx="127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127480" y="5865840"/>
            <a:ext cx="127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6626160" y="5651640"/>
            <a:ext cx="46080" cy="218880"/>
            <a:chOff x="6626160" y="5651640"/>
            <a:chExt cx="46080" cy="218880"/>
          </a:xfrm>
        </p:grpSpPr>
        <p:sp>
          <p:nvSpPr>
            <p:cNvPr id="1104" name=""/>
            <p:cNvSpPr/>
            <p:nvPr/>
          </p:nvSpPr>
          <p:spPr>
            <a:xfrm flipV="1">
              <a:off x="6626160" y="5651640"/>
              <a:ext cx="4608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626160" y="5662800"/>
              <a:ext cx="4608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6" name=""/>
          <p:cNvSpPr/>
          <p:nvPr/>
        </p:nvSpPr>
        <p:spPr>
          <a:xfrm>
            <a:off x="6684840" y="5657760"/>
            <a:ext cx="30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684840" y="5865840"/>
            <a:ext cx="30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782880" y="6073920"/>
            <a:ext cx="738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817800" y="5668920"/>
            <a:ext cx="6685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397480" y="5381640"/>
            <a:ext cx="10047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n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718160" y="5381640"/>
            <a:ext cx="784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811080" y="3929040"/>
            <a:ext cx="2322360" cy="1382760"/>
            <a:chOff x="811080" y="3929040"/>
            <a:chExt cx="2322360" cy="1382760"/>
          </a:xfrm>
        </p:grpSpPr>
        <p:sp>
          <p:nvSpPr>
            <p:cNvPr id="1113" name=""/>
            <p:cNvSpPr/>
            <p:nvPr/>
          </p:nvSpPr>
          <p:spPr>
            <a:xfrm>
              <a:off x="1344600" y="5224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2259000" y="49190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259000" y="4919400"/>
              <a:ext cx="87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344600" y="4690800"/>
              <a:ext cx="39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1725480" y="4309920"/>
              <a:ext cx="1522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877760" y="43099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563560" y="4309920"/>
              <a:ext cx="1526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716200" y="4690800"/>
              <a:ext cx="40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2271600" y="4167000"/>
              <a:ext cx="0" cy="69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801800" y="4157640"/>
              <a:ext cx="0" cy="71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636640" y="4144680"/>
              <a:ext cx="0" cy="69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344600" y="4309920"/>
              <a:ext cx="39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725480" y="4309920"/>
              <a:ext cx="1522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877760" y="46908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>
              <a:off x="2563560" y="4309920"/>
              <a:ext cx="1526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716200" y="4309920"/>
              <a:ext cx="40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11080" y="4309920"/>
              <a:ext cx="774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11080" y="4913280"/>
              <a:ext cx="797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877760" y="3929040"/>
              <a:ext cx="596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s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282760" y="3951000"/>
              <a:ext cx="552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332080" y="448128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966680" y="4481280"/>
              <a:ext cx="27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5" name=""/>
          <p:cNvSpPr/>
          <p:nvPr/>
        </p:nvSpPr>
        <p:spPr>
          <a:xfrm>
            <a:off x="3706920" y="4995720"/>
            <a:ext cx="738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706920" y="3929040"/>
            <a:ext cx="6681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669080" y="4157640"/>
            <a:ext cx="723960" cy="1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4773600" y="4005360"/>
            <a:ext cx="533520" cy="761760"/>
            <a:chOff x="4773600" y="4005360"/>
            <a:chExt cx="533520" cy="761760"/>
          </a:xfrm>
        </p:grpSpPr>
        <p:sp>
          <p:nvSpPr>
            <p:cNvPr id="1139" name=""/>
            <p:cNvSpPr/>
            <p:nvPr/>
          </p:nvSpPr>
          <p:spPr>
            <a:xfrm>
              <a:off x="4811760" y="4081320"/>
              <a:ext cx="266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002200" y="4081320"/>
              <a:ext cx="27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773600" y="4005360"/>
              <a:ext cx="53352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773600" y="4538520"/>
              <a:ext cx="1526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4773600" y="4614840"/>
              <a:ext cx="1526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4" name=""/>
          <p:cNvSpPr/>
          <p:nvPr/>
        </p:nvSpPr>
        <p:spPr>
          <a:xfrm flipH="1">
            <a:off x="4011120" y="415764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5307120" y="41576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7135560" y="4005360"/>
            <a:ext cx="533520" cy="761760"/>
            <a:chOff x="7135560" y="4005360"/>
            <a:chExt cx="533520" cy="761760"/>
          </a:xfrm>
        </p:grpSpPr>
        <p:sp>
          <p:nvSpPr>
            <p:cNvPr id="1147" name=""/>
            <p:cNvSpPr/>
            <p:nvPr/>
          </p:nvSpPr>
          <p:spPr>
            <a:xfrm>
              <a:off x="7173720" y="4081320"/>
              <a:ext cx="26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364160" y="4081320"/>
              <a:ext cx="279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135920" y="4005360"/>
              <a:ext cx="53316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135920" y="4538520"/>
              <a:ext cx="1522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7135560" y="4614840"/>
              <a:ext cx="1522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 flipH="1">
            <a:off x="6754320" y="461484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754680" y="461484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4011480" y="522432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392720" y="46148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392720" y="461484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6754320" y="415764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ing methodologi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tion of te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ic event, causes state of memory element to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rising edge or falling edge or high level or low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up tim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time before the clocking event by which t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must be stable (Ts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 tim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time after the clocking event until which t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must remain stable (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A662-5042-4843-8592-C298CD770C9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3575160" y="5877000"/>
            <a:ext cx="5194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havior is the same unless input ch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ile the clock is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1" name=""/>
          <p:cNvGrpSpPr/>
          <p:nvPr/>
        </p:nvGrpSpPr>
        <p:grpSpPr>
          <a:xfrm>
            <a:off x="1168560" y="1857240"/>
            <a:ext cx="774720" cy="635040"/>
            <a:chOff x="1168560" y="1857240"/>
            <a:chExt cx="774720" cy="635040"/>
          </a:xfrm>
        </p:grpSpPr>
        <p:sp>
          <p:nvSpPr>
            <p:cNvPr id="1162" name=""/>
            <p:cNvSpPr/>
            <p:nvPr/>
          </p:nvSpPr>
          <p:spPr>
            <a:xfrm>
              <a:off x="1308240" y="1857240"/>
              <a:ext cx="507960" cy="507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1498680" y="2225520"/>
              <a:ext cx="5076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562040" y="2238120"/>
              <a:ext cx="5076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89160" y="1977840"/>
              <a:ext cx="558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317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168560" y="21049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828800" y="21049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555920" y="23778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1174680" y="2473200"/>
            <a:ext cx="7873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30080" y="2892600"/>
            <a:ext cx="170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sitiv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dge-trigger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lip-fl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1181160" y="4435560"/>
            <a:ext cx="774720" cy="635040"/>
            <a:chOff x="1181160" y="4435560"/>
            <a:chExt cx="774720" cy="635040"/>
          </a:xfrm>
        </p:grpSpPr>
        <p:sp>
          <p:nvSpPr>
            <p:cNvPr id="1172" name=""/>
            <p:cNvSpPr/>
            <p:nvPr/>
          </p:nvSpPr>
          <p:spPr>
            <a:xfrm>
              <a:off x="1320840" y="4435560"/>
              <a:ext cx="507960" cy="507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289160" y="4556160"/>
              <a:ext cx="558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317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181160" y="4683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841400" y="4683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568520" y="49564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327320" y="4721400"/>
              <a:ext cx="507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317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1187280" y="5064120"/>
            <a:ext cx="787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17480" y="5432400"/>
            <a:ext cx="179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par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evel-sensitiv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3581280" y="2209320"/>
            <a:ext cx="0" cy="304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396252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472428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548640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624852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701208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777240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8534520" y="2219040"/>
            <a:ext cx="0" cy="88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610000" y="2346480"/>
            <a:ext cx="91440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l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ison of latches and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0" name=""/>
          <p:cNvSpPr/>
          <p:nvPr/>
        </p:nvSpPr>
        <p:spPr>
          <a:xfrm>
            <a:off x="3581280" y="2668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388620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886200" y="243828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33412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334120" y="2668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685800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858000" y="2438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716292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7162920" y="2668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784872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78487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800100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001000" y="2668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581280" y="3429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396252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96252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34340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343400" y="3429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472428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724280" y="3200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10552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105520" y="3429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548640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48640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86728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867280" y="3429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624852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24852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62940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629400" y="3429000"/>
            <a:ext cx="38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701208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7012080" y="320040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39152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391520" y="3429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777240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77240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815328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8153280" y="3429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581280" y="4191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4038480" y="3962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038480" y="396252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56272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5562720" y="41911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7086600" y="3962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086600" y="39625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84872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848720" y="4191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581280" y="495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4038480" y="472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038480" y="472428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56272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562720" y="49528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7086600" y="472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086600" y="4724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23888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238880" y="495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7924680" y="472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924680" y="47242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07732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8077320" y="4952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A133-D0F4-4EE9-8E87-402408D6527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434880" y="1762200"/>
            <a:ext cx="849636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hen inputs are sampl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hen output is va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901"/>
              </a:spcBef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clock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way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input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tc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2200"/>
              </a:spcBef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-sensiti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 hig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input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tc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su/Th around fall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 clock edge (whichever is late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 of clo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901"/>
              </a:spcBef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ster-sla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 hig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falling ed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ip-flo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su/Th around fall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clo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 of clo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901"/>
              </a:spcBef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gati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 hi-to-lo transi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falling ed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-trigger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su/Th around fall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clo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ip-flo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 of clo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924440" y="163368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155680" y="163368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ison of latches and flip-flo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61C0-69AA-4787-B579-D44D53C2521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/>
          <p:nvPr/>
        </p:nvSpPr>
        <p:spPr>
          <a:xfrm>
            <a:off x="355680" y="6210360"/>
            <a:ext cx="84535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ll measurements are made from the clocking event (the rising edge of the cloc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ypical timing specifica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375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edge-triggered D flip-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up and hold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clock 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agation delays (low to high, high to low, max and typi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1789560" y="2959200"/>
            <a:ext cx="5499720" cy="3275640"/>
            <a:chOff x="1789560" y="2959200"/>
            <a:chExt cx="5499720" cy="3275640"/>
          </a:xfrm>
        </p:grpSpPr>
        <p:sp>
          <p:nvSpPr>
            <p:cNvPr id="1258" name=""/>
            <p:cNvSpPr/>
            <p:nvPr/>
          </p:nvSpPr>
          <p:spPr>
            <a:xfrm flipV="1">
              <a:off x="3082680" y="3110760"/>
              <a:ext cx="1080" cy="268092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449080" y="3111120"/>
              <a:ext cx="1440" cy="8600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541320" y="3111120"/>
              <a:ext cx="1440" cy="8348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792240" y="3971520"/>
              <a:ext cx="1080" cy="8078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071600" y="4830480"/>
              <a:ext cx="1440" cy="96156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V="1">
              <a:off x="5743440" y="3110760"/>
              <a:ext cx="1080" cy="268092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706800" y="4830480"/>
              <a:ext cx="1440" cy="96156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790640" y="3895560"/>
              <a:ext cx="20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789560" y="4755960"/>
              <a:ext cx="35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791360" y="5565600"/>
              <a:ext cx="21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815840" y="3312720"/>
              <a:ext cx="5473440" cy="480960"/>
            </a:xfrm>
            <a:custGeom>
              <a:avLst/>
              <a:gdLst/>
              <a:ahLst/>
              <a:rect l="l" t="t" r="r" b="b"/>
              <a:pathLst>
                <a:path w="3448" h="303">
                  <a:moveTo>
                    <a:pt x="0" y="303"/>
                  </a:moveTo>
                  <a:lnTo>
                    <a:pt x="271" y="303"/>
                  </a:lnTo>
                  <a:lnTo>
                    <a:pt x="495" y="0"/>
                  </a:lnTo>
                  <a:lnTo>
                    <a:pt x="1117" y="0"/>
                  </a:lnTo>
                  <a:lnTo>
                    <a:pt x="1325" y="303"/>
                  </a:lnTo>
                  <a:lnTo>
                    <a:pt x="2794" y="303"/>
                  </a:lnTo>
                  <a:lnTo>
                    <a:pt x="2969" y="32"/>
                  </a:lnTo>
                  <a:lnTo>
                    <a:pt x="3448" y="32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815840" y="4147920"/>
              <a:ext cx="5473440" cy="455040"/>
            </a:xfrm>
            <a:custGeom>
              <a:avLst/>
              <a:gdLst/>
              <a:ahLst/>
              <a:rect l="l" t="t" r="r" b="b"/>
              <a:pathLst>
                <a:path w="3448" h="287">
                  <a:moveTo>
                    <a:pt x="0" y="287"/>
                  </a:moveTo>
                  <a:lnTo>
                    <a:pt x="670" y="287"/>
                  </a:lnTo>
                  <a:lnTo>
                    <a:pt x="878" y="0"/>
                  </a:lnTo>
                  <a:lnTo>
                    <a:pt x="1149" y="0"/>
                  </a:lnTo>
                  <a:lnTo>
                    <a:pt x="1341" y="287"/>
                  </a:lnTo>
                  <a:lnTo>
                    <a:pt x="2378" y="287"/>
                  </a:lnTo>
                  <a:lnTo>
                    <a:pt x="2538" y="16"/>
                  </a:lnTo>
                  <a:lnTo>
                    <a:pt x="2857" y="16"/>
                  </a:lnTo>
                  <a:lnTo>
                    <a:pt x="2985" y="287"/>
                  </a:lnTo>
                  <a:lnTo>
                    <a:pt x="3001" y="287"/>
                  </a:lnTo>
                  <a:lnTo>
                    <a:pt x="3097" y="287"/>
                  </a:lnTo>
                  <a:lnTo>
                    <a:pt x="3240" y="287"/>
                  </a:lnTo>
                  <a:lnTo>
                    <a:pt x="3448" y="287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815840" y="4957560"/>
              <a:ext cx="5473440" cy="455040"/>
            </a:xfrm>
            <a:custGeom>
              <a:avLst/>
              <a:gdLst/>
              <a:ahLst/>
              <a:rect l="l" t="t" r="r" b="b"/>
              <a:pathLst>
                <a:path w="3448" h="287">
                  <a:moveTo>
                    <a:pt x="0" y="287"/>
                  </a:moveTo>
                  <a:lnTo>
                    <a:pt x="1373" y="287"/>
                  </a:lnTo>
                  <a:lnTo>
                    <a:pt x="1516" y="0"/>
                  </a:lnTo>
                  <a:lnTo>
                    <a:pt x="3033" y="0"/>
                  </a:lnTo>
                  <a:lnTo>
                    <a:pt x="3145" y="287"/>
                  </a:lnTo>
                  <a:lnTo>
                    <a:pt x="3448" y="287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626920" y="331452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752920" y="343980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634840" y="3628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652120" y="385740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133440" y="331452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284640" y="343980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141360" y="3628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158640" y="385740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336480" y="417492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463200" y="429876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336480" y="44686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3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336120" y="469548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362040" y="546084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487320" y="55846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311640" y="576396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6 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311640" y="599112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 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144760" y="3111120"/>
              <a:ext cx="1080" cy="8600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284520" y="3111120"/>
              <a:ext cx="1440" cy="8348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322600" y="29592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448600" y="308412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347800" y="327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347800" y="35017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829120" y="29592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980320" y="308412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854320" y="32731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5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853960" y="35017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032160" y="509544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157440" y="5219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981760" y="539892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6 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981760" y="562572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 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981400" y="417816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108120" y="430200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981400" y="44715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3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981040" y="46987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1131-F63F-49A3-8922-BE18AA866B8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/>
          <p:nvPr/>
        </p:nvSpPr>
        <p:spPr>
          <a:xfrm>
            <a:off x="2819520" y="4572000"/>
            <a:ext cx="5929200" cy="162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6" name="" descr=""/>
          <p:cNvPicPr/>
          <p:nvPr/>
        </p:nvPicPr>
        <p:blipFill>
          <a:blip r:embed="rId1"/>
          <a:stretch/>
        </p:blipFill>
        <p:spPr>
          <a:xfrm>
            <a:off x="2819520" y="4572000"/>
            <a:ext cx="5918040" cy="1612800"/>
          </a:xfrm>
          <a:prstGeom prst="rect">
            <a:avLst/>
          </a:prstGeom>
          <a:ln w="0">
            <a:noFill/>
          </a:ln>
        </p:spPr>
      </p:pic>
      <p:sp>
        <p:nvSpPr>
          <p:cNvPr id="1307" name=""/>
          <p:cNvSpPr/>
          <p:nvPr/>
        </p:nvSpPr>
        <p:spPr>
          <a:xfrm>
            <a:off x="2819520" y="5003640"/>
            <a:ext cx="660240" cy="119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565360" y="4927680"/>
            <a:ext cx="8002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908760" y="4483080"/>
            <a:ext cx="660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985080" y="4457880"/>
            <a:ext cx="482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edge-triggered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ift regi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value goes into first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previous value of first stage goes into second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setup/hold/propagation delays (prop must be &gt; ho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3886200" y="62229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4622760" y="62229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535932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609588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683244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756936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830592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533520" y="3124080"/>
            <a:ext cx="5409360" cy="1638360"/>
            <a:chOff x="533520" y="3124080"/>
            <a:chExt cx="5409360" cy="1638360"/>
          </a:xfrm>
        </p:grpSpPr>
        <p:sp>
          <p:nvSpPr>
            <p:cNvPr id="1321" name=""/>
            <p:cNvSpPr/>
            <p:nvPr/>
          </p:nvSpPr>
          <p:spPr>
            <a:xfrm>
              <a:off x="533520" y="4419360"/>
              <a:ext cx="4060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2" name=""/>
            <p:cNvGrpSpPr/>
            <p:nvPr/>
          </p:nvGrpSpPr>
          <p:grpSpPr>
            <a:xfrm>
              <a:off x="609480" y="3124080"/>
              <a:ext cx="5333400" cy="1371600"/>
              <a:chOff x="609480" y="3124080"/>
              <a:chExt cx="5333400" cy="1371600"/>
            </a:xfrm>
          </p:grpSpPr>
          <p:sp>
            <p:nvSpPr>
              <p:cNvPr id="1323" name=""/>
              <p:cNvSpPr/>
              <p:nvPr/>
            </p:nvSpPr>
            <p:spPr>
              <a:xfrm>
                <a:off x="4647600" y="3428640"/>
                <a:ext cx="723600" cy="12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09480" y="3352680"/>
                <a:ext cx="2916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2285640" y="3124080"/>
                <a:ext cx="34236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647600" y="312408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7" name=""/>
              <p:cNvGrpSpPr/>
              <p:nvPr/>
            </p:nvGrpSpPr>
            <p:grpSpPr>
              <a:xfrm>
                <a:off x="1751760" y="3276360"/>
                <a:ext cx="533520" cy="761760"/>
                <a:chOff x="1751760" y="3276360"/>
                <a:chExt cx="533520" cy="761760"/>
              </a:xfrm>
            </p:grpSpPr>
            <p:sp>
              <p:nvSpPr>
                <p:cNvPr id="1328" name=""/>
                <p:cNvSpPr/>
                <p:nvPr/>
              </p:nvSpPr>
              <p:spPr>
                <a:xfrm>
                  <a:off x="1789920" y="3352320"/>
                  <a:ext cx="266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1980360" y="3352320"/>
                  <a:ext cx="2790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1752120" y="3276360"/>
                  <a:ext cx="53316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1752120" y="380952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flipH="1">
                  <a:off x="1751760" y="388584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3" name=""/>
              <p:cNvSpPr/>
              <p:nvPr/>
            </p:nvSpPr>
            <p:spPr>
              <a:xfrm flipH="1">
                <a:off x="990000" y="342864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H="1">
                <a:off x="2285280" y="3428640"/>
                <a:ext cx="182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5" name=""/>
              <p:cNvGrpSpPr/>
              <p:nvPr/>
            </p:nvGrpSpPr>
            <p:grpSpPr>
              <a:xfrm>
                <a:off x="4114080" y="3276360"/>
                <a:ext cx="533160" cy="761760"/>
                <a:chOff x="4114080" y="3276360"/>
                <a:chExt cx="533160" cy="76176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4152240" y="3352320"/>
                  <a:ext cx="266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4342680" y="3352320"/>
                  <a:ext cx="2786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4114440" y="3276360"/>
                  <a:ext cx="53280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4114440" y="380952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 flipH="1">
                  <a:off x="4114080" y="388584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1" name=""/>
              <p:cNvSpPr/>
              <p:nvPr/>
            </p:nvSpPr>
            <p:spPr>
              <a:xfrm flipH="1">
                <a:off x="3733200" y="388584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733200" y="3885840"/>
                <a:ext cx="0" cy="60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H="1">
                <a:off x="989640" y="4495680"/>
                <a:ext cx="274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H="1">
                <a:off x="1370880" y="3885840"/>
                <a:ext cx="38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371240" y="3885840"/>
                <a:ext cx="0" cy="60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409720" y="3352680"/>
                <a:ext cx="53316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O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3CE7-A88F-4E0C-8ABB-95967A23217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"/>
          <p:cNvSpPr/>
          <p:nvPr/>
        </p:nvSpPr>
        <p:spPr>
          <a:xfrm>
            <a:off x="5943600" y="3886200"/>
            <a:ext cx="262908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ing constr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uarantee pr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ratio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scaded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006960" y="5334120"/>
            <a:ext cx="2514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sumes infinitely fas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tribution of the 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edge-triggered flip-flo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this 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agation delays exceed hold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 width constraint exceeds setup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uarantees following stage will latch current value before it changes to new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1" name=""/>
          <p:cNvGrpSpPr/>
          <p:nvPr/>
        </p:nvGrpSpPr>
        <p:grpSpPr>
          <a:xfrm>
            <a:off x="885960" y="3448080"/>
            <a:ext cx="4495320" cy="3048120"/>
            <a:chOff x="885960" y="3448080"/>
            <a:chExt cx="4495320" cy="3048120"/>
          </a:xfrm>
        </p:grpSpPr>
        <p:grpSp>
          <p:nvGrpSpPr>
            <p:cNvPr id="1352" name=""/>
            <p:cNvGrpSpPr/>
            <p:nvPr/>
          </p:nvGrpSpPr>
          <p:grpSpPr>
            <a:xfrm>
              <a:off x="1648080" y="3551400"/>
              <a:ext cx="1066680" cy="2666520"/>
              <a:chOff x="1648080" y="3551400"/>
              <a:chExt cx="1066680" cy="2666520"/>
            </a:xfrm>
          </p:grpSpPr>
          <p:sp>
            <p:nvSpPr>
              <p:cNvPr id="1353" name=""/>
              <p:cNvSpPr/>
              <p:nvPr/>
            </p:nvSpPr>
            <p:spPr>
              <a:xfrm>
                <a:off x="1648080" y="355140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2562480" y="3565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2714760" y="3565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2257560" y="3565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" name=""/>
            <p:cNvGrpSpPr/>
            <p:nvPr/>
          </p:nvGrpSpPr>
          <p:grpSpPr>
            <a:xfrm>
              <a:off x="3629160" y="3524400"/>
              <a:ext cx="1066680" cy="2666520"/>
              <a:chOff x="3629160" y="3524400"/>
              <a:chExt cx="1066680" cy="2666520"/>
            </a:xfrm>
          </p:grpSpPr>
          <p:sp>
            <p:nvSpPr>
              <p:cNvPr id="1358" name=""/>
              <p:cNvSpPr/>
              <p:nvPr/>
            </p:nvSpPr>
            <p:spPr>
              <a:xfrm>
                <a:off x="3629160" y="352440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543560" y="3538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4695840" y="3538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238640" y="3538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2" name=""/>
            <p:cNvSpPr/>
            <p:nvPr/>
          </p:nvSpPr>
          <p:spPr>
            <a:xfrm flipV="1">
              <a:off x="1419480" y="3541680"/>
              <a:ext cx="19080" cy="2649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800360" y="3778560"/>
              <a:ext cx="5079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s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8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29160" y="4515120"/>
              <a:ext cx="5191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1-3.6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262240" y="6031080"/>
              <a:ext cx="52884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.5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885960" y="3448080"/>
              <a:ext cx="457200" cy="25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999"/>
                </a:lnSpc>
                <a:spcBef>
                  <a:spcPts val="24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999"/>
                </a:lnSpc>
                <a:spcBef>
                  <a:spcPts val="24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999"/>
                </a:lnSpc>
                <a:spcBef>
                  <a:spcPts val="24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999"/>
                </a:lnSpc>
                <a:spcBef>
                  <a:spcPts val="24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1647720" y="40579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257560" y="47437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9" name=""/>
            <p:cNvGrpSpPr/>
            <p:nvPr/>
          </p:nvGrpSpPr>
          <p:grpSpPr>
            <a:xfrm>
              <a:off x="1419480" y="3676680"/>
              <a:ext cx="3961800" cy="152640"/>
              <a:chOff x="1419480" y="3676680"/>
              <a:chExt cx="3961800" cy="152640"/>
            </a:xfrm>
          </p:grpSpPr>
          <p:sp>
            <p:nvSpPr>
              <p:cNvPr id="1370" name=""/>
              <p:cNvSpPr/>
              <p:nvPr/>
            </p:nvSpPr>
            <p:spPr>
              <a:xfrm>
                <a:off x="1419480" y="3829320"/>
                <a:ext cx="15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V="1">
                <a:off x="1571400" y="367668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1571400" y="367668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638440" y="367668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638440" y="3829320"/>
                <a:ext cx="274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5" name=""/>
            <p:cNvSpPr/>
            <p:nvPr/>
          </p:nvSpPr>
          <p:spPr>
            <a:xfrm>
              <a:off x="2257560" y="6031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6" name=""/>
            <p:cNvGrpSpPr/>
            <p:nvPr/>
          </p:nvGrpSpPr>
          <p:grpSpPr>
            <a:xfrm>
              <a:off x="1419480" y="4362120"/>
              <a:ext cx="3886200" cy="152640"/>
              <a:chOff x="1419480" y="4362120"/>
              <a:chExt cx="3886200" cy="152640"/>
            </a:xfrm>
          </p:grpSpPr>
          <p:sp>
            <p:nvSpPr>
              <p:cNvPr id="1377" name=""/>
              <p:cNvSpPr/>
              <p:nvPr/>
            </p:nvSpPr>
            <p:spPr>
              <a:xfrm>
                <a:off x="1419480" y="451476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V="1">
                <a:off x="2714760" y="43621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2714760" y="4362480"/>
                <a:ext cx="198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696200" y="436248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696200" y="45147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2" name=""/>
            <p:cNvSpPr/>
            <p:nvPr/>
          </p:nvSpPr>
          <p:spPr>
            <a:xfrm>
              <a:off x="3781440" y="3778560"/>
              <a:ext cx="5079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s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8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710240" y="4515120"/>
              <a:ext cx="5191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1-3.6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>
              <a:off x="3628800" y="40579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238640" y="47437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238640" y="6031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238640" y="6031080"/>
              <a:ext cx="52884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.5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8" name=""/>
            <p:cNvGrpSpPr/>
            <p:nvPr/>
          </p:nvGrpSpPr>
          <p:grpSpPr>
            <a:xfrm>
              <a:off x="1419480" y="5733720"/>
              <a:ext cx="3886200" cy="152640"/>
              <a:chOff x="1419480" y="5733720"/>
              <a:chExt cx="3886200" cy="152640"/>
            </a:xfrm>
          </p:grpSpPr>
          <p:sp>
            <p:nvSpPr>
              <p:cNvPr id="1389" name=""/>
              <p:cNvSpPr/>
              <p:nvPr/>
            </p:nvSpPr>
            <p:spPr>
              <a:xfrm>
                <a:off x="1419480" y="588636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2257560" y="57337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257560" y="573408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3019680" y="573408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3019680" y="5886360"/>
                <a:ext cx="1219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V="1">
                <a:off x="4239000" y="57337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239000" y="573408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000760" y="573408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000760" y="588636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8" name=""/>
            <p:cNvGrpSpPr/>
            <p:nvPr/>
          </p:nvGrpSpPr>
          <p:grpSpPr>
            <a:xfrm>
              <a:off x="1419480" y="5047920"/>
              <a:ext cx="3886200" cy="152640"/>
              <a:chOff x="1419480" y="5047920"/>
              <a:chExt cx="3886200" cy="152640"/>
            </a:xfrm>
          </p:grpSpPr>
          <p:sp>
            <p:nvSpPr>
              <p:cNvPr id="1399" name=""/>
              <p:cNvSpPr/>
              <p:nvPr/>
            </p:nvSpPr>
            <p:spPr>
              <a:xfrm>
                <a:off x="1419480" y="5200560"/>
                <a:ext cx="327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V="1">
                <a:off x="4696200" y="50479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696200" y="50482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EB98-15EA-4DBF-A5C7-198736325CC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2" name="" descr=""/>
          <p:cNvPicPr/>
          <p:nvPr/>
        </p:nvPicPr>
        <p:blipFill>
          <a:blip r:embed="rId1"/>
          <a:stretch/>
        </p:blipFill>
        <p:spPr>
          <a:xfrm>
            <a:off x="1295280" y="3657600"/>
            <a:ext cx="4711680" cy="1955880"/>
          </a:xfrm>
          <a:prstGeom prst="rect">
            <a:avLst/>
          </a:prstGeom>
          <a:ln w="0">
            <a:noFill/>
          </a:ln>
        </p:spPr>
      </p:pic>
      <p:sp>
        <p:nvSpPr>
          <p:cNvPr id="1403" name=""/>
          <p:cNvSpPr/>
          <p:nvPr/>
        </p:nvSpPr>
        <p:spPr>
          <a:xfrm>
            <a:off x="609480" y="5956200"/>
            <a:ext cx="80899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iginal state: IN = 0, Q0 = 1, Q1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ue to skew, next state becomes: Q0 = 0, Q1 = 0, and not Q0 = 0, Q1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753000" y="4946760"/>
            <a:ext cx="82368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489720" y="4191120"/>
            <a:ext cx="21207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1 is a delay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sion of CLK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257480" y="4076640"/>
            <a:ext cx="736560" cy="14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079640" y="4000680"/>
            <a:ext cx="7999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511960" y="3568680"/>
            <a:ext cx="6602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587920" y="3543480"/>
            <a:ext cx="482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H="1">
            <a:off x="4615920" y="4387680"/>
            <a:ext cx="1932120" cy="889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ock skew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 behavior assumes next state of all storage ele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d by all storage elements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difficult in high-performance systems because time for cloc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rrive at flip-flop is comparable to delays through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 of skew on cascaded flip-flo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2733-D518-4074-B496-4C495479D37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1857240" y="4629240"/>
            <a:ext cx="4946760" cy="1217520"/>
            <a:chOff x="1857240" y="4629240"/>
            <a:chExt cx="4946760" cy="1217520"/>
          </a:xfrm>
        </p:grpSpPr>
        <p:sp>
          <p:nvSpPr>
            <p:cNvPr id="131" name=""/>
            <p:cNvSpPr/>
            <p:nvPr/>
          </p:nvSpPr>
          <p:spPr>
            <a:xfrm>
              <a:off x="1857240" y="4749840"/>
              <a:ext cx="4946760" cy="1096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84320" y="4629240"/>
              <a:ext cx="3187800" cy="45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857680" y="3225960"/>
            <a:ext cx="4572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60640" y="3746520"/>
            <a:ext cx="12193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witc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26080" y="3238560"/>
            <a:ext cx="4572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3200400"/>
            <a:ext cx="1295640" cy="18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18120" y="342900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18120" y="369576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18120" y="482616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03720" y="3403440"/>
            <a:ext cx="50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03720" y="3683160"/>
            <a:ext cx="50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03720" y="4800600"/>
            <a:ext cx="50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ircuits with feedba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control feedbac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tops values from cycling around endles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1360" y="5846760"/>
            <a:ext cx="622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EA0A-B45A-4432-9CB5-C82EBA368A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"/>
          <p:cNvSpPr/>
          <p:nvPr/>
        </p:nvSpPr>
        <p:spPr>
          <a:xfrm>
            <a:off x="1028880" y="3390840"/>
            <a:ext cx="69087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mary of latches and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807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of D-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-sensitive used in custom integrated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made with 4 swit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ge-triggered used in programmable logic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choice for data storage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ly J-K FF was popular but now never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R-S but with 1-1 being used to toggle output (complement st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in days of TTL/SSI (more complex input function: D = J Q’ + K’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 good choice for PALs/PLAs as it requires 2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lways be implemented using D-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t and clear inputs are highly desirable on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at start-up or to reset system to a known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C3C2-A8C3-4853-B6A9-17EDFD7A83B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"/>
          <p:cNvSpPr/>
          <p:nvPr/>
        </p:nvSpPr>
        <p:spPr>
          <a:xfrm>
            <a:off x="2679840" y="520560"/>
            <a:ext cx="441936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tastability and asynchronous inpu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ocked synchronous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, state, and outputs sampled or changed in relation to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reference signal (called the cl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master/slave, edge-trigg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, state, and outputs sampled or changed independently of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reference signal (glitches/hazards a major concer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R-S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inputs to synchronous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 can change at any time, will not meet setup/hold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gerous, synchronous inputs are greatly pre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be avoided (e.g., reset signal, memory wait, user inp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C869-28A1-4145-A1A0-57C8F9C6477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9" name="" descr=""/>
          <p:cNvPicPr/>
          <p:nvPr/>
        </p:nvPicPr>
        <p:blipFill>
          <a:blip r:embed="rId1"/>
          <a:stretch/>
        </p:blipFill>
        <p:spPr>
          <a:xfrm>
            <a:off x="4495680" y="3200400"/>
            <a:ext cx="4432320" cy="2641680"/>
          </a:xfrm>
          <a:prstGeom prst="rect">
            <a:avLst/>
          </a:prstGeom>
          <a:ln w="0">
            <a:noFill/>
          </a:ln>
        </p:spPr>
      </p:pic>
      <p:sp>
        <p:nvSpPr>
          <p:cNvPr id="1420" name=""/>
          <p:cNvSpPr/>
          <p:nvPr/>
        </p:nvSpPr>
        <p:spPr>
          <a:xfrm>
            <a:off x="3467160" y="1422360"/>
            <a:ext cx="405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95360" y="5931000"/>
            <a:ext cx="35305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mall, but non-zero probabilit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at the FF output will get stuck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an in-between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749840" y="5918040"/>
            <a:ext cx="40640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scilloscope traces demonst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chronizer failure and even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ay to steady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-495360" y="2311560"/>
            <a:ext cx="2717640" cy="290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224080" y="2311560"/>
            <a:ext cx="2717640" cy="290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451240" y="3797280"/>
            <a:ext cx="64764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H="1">
            <a:off x="1282320" y="3797280"/>
            <a:ext cx="723960" cy="876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87320" y="5283360"/>
            <a:ext cx="111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451240" y="5308560"/>
            <a:ext cx="1117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546440" y="5232240"/>
            <a:ext cx="851040" cy="33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533840" y="3238560"/>
            <a:ext cx="85104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ynchronization fail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curs when FF input changes close to clock 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F may enter a metastable state – neither a logic 0 nor 1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ay stay in this state an indefinite amount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not likely in practice but has some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762120" y="4724280"/>
            <a:ext cx="457200" cy="4572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998720" y="3276720"/>
            <a:ext cx="457200" cy="4572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200400" y="4724280"/>
            <a:ext cx="457200" cy="4572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95FC-5CEA-4890-8834-6AB7FA200A6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067200" y="4711680"/>
            <a:ext cx="7873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819680" y="4699080"/>
            <a:ext cx="7873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060720" y="4933800"/>
            <a:ext cx="317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26160" y="4946760"/>
            <a:ext cx="317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17920" y="4933800"/>
            <a:ext cx="342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965840" y="4819680"/>
            <a:ext cx="1001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854520" y="5060880"/>
            <a:ext cx="9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624560" y="4871160"/>
            <a:ext cx="380520" cy="38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" y="13755"/>
                </a:moveTo>
                <a:arcTo wR="10800" hR="10800" stAng="9847191" swAng="1932971"/>
                <a:lnTo>
                  <a:pt x="10800" y="10800"/>
                </a:lnTo>
                <a:close/>
              </a:path>
              <a:path fill="none" w="21600" h="21600">
                <a:moveTo>
                  <a:pt x="412" y="13755"/>
                </a:moveTo>
                <a:arcTo wR="10800" hR="10800" stAng="9847191" swAng="193297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216160" y="508644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871720" y="4896000"/>
            <a:ext cx="380520" cy="38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" y="13755"/>
                </a:moveTo>
                <a:arcTo wR="10800" hR="10800" stAng="9847191" swAng="1932971"/>
                <a:lnTo>
                  <a:pt x="10800" y="10800"/>
                </a:lnTo>
                <a:close/>
              </a:path>
              <a:path fill="none" w="21600" h="21600">
                <a:moveTo>
                  <a:pt x="412" y="13755"/>
                </a:moveTo>
                <a:arcTo wR="10800" hR="10800" stAng="9847191" swAng="193297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5607000" y="5086440"/>
            <a:ext cx="77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199200" y="4896000"/>
            <a:ext cx="380520" cy="38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" y="13755"/>
                </a:moveTo>
                <a:arcTo wR="10800" hR="10800" stAng="9847191" swAng="1932971"/>
                <a:lnTo>
                  <a:pt x="10800" y="10800"/>
                </a:lnTo>
                <a:close/>
              </a:path>
              <a:path fill="none" w="21600" h="21600">
                <a:moveTo>
                  <a:pt x="412" y="13755"/>
                </a:moveTo>
                <a:arcTo wR="10800" hR="10800" stAng="9847191" swAng="193297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3358800" y="5334120"/>
            <a:ext cx="11412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473280" y="5359320"/>
            <a:ext cx="7632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5111640" y="5308560"/>
            <a:ext cx="11448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226120" y="5334120"/>
            <a:ext cx="759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467160" y="556272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473280" y="5784840"/>
            <a:ext cx="306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219640" y="5549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57200" y="4844880"/>
            <a:ext cx="175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527880" y="4844880"/>
            <a:ext cx="16635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chron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394000" y="4216320"/>
            <a:ext cx="6540480" cy="1879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445080" y="5969160"/>
            <a:ext cx="2502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chronous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5943600" y="5340240"/>
            <a:ext cx="812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aling with synchronization fail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 of failure can never be reduced to 0, but it can be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 slow down the system clock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ives the synchronizer more time to decay into a steady state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er failure becomes a big problem for very high spe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 use fastest possible logic technology in the synchroniz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kes for a very sharp "peak" upon which to 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cascade two synchronizer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ffectively synchronizes twice (both would have to fa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65F8-8222-4CA8-96F8-B77F966C12A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2" name=""/>
          <p:cNvGrpSpPr/>
          <p:nvPr/>
        </p:nvGrpSpPr>
        <p:grpSpPr>
          <a:xfrm>
            <a:off x="2746440" y="3648240"/>
            <a:ext cx="482400" cy="758520"/>
            <a:chOff x="2746440" y="3648240"/>
            <a:chExt cx="482400" cy="758520"/>
          </a:xfrm>
        </p:grpSpPr>
        <p:sp>
          <p:nvSpPr>
            <p:cNvPr id="1463" name=""/>
            <p:cNvSpPr/>
            <p:nvPr/>
          </p:nvSpPr>
          <p:spPr>
            <a:xfrm>
              <a:off x="2746440" y="3648240"/>
              <a:ext cx="482400" cy="758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773440" y="369108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V="1">
              <a:off x="2892600" y="4199040"/>
              <a:ext cx="101520" cy="18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006720" y="4199040"/>
              <a:ext cx="101520" cy="18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050640" y="369108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8" name=""/>
          <p:cNvGrpSpPr/>
          <p:nvPr/>
        </p:nvGrpSpPr>
        <p:grpSpPr>
          <a:xfrm>
            <a:off x="2746440" y="4724280"/>
            <a:ext cx="482400" cy="758880"/>
            <a:chOff x="2746440" y="4724280"/>
            <a:chExt cx="482400" cy="758880"/>
          </a:xfrm>
        </p:grpSpPr>
        <p:sp>
          <p:nvSpPr>
            <p:cNvPr id="1469" name=""/>
            <p:cNvSpPr/>
            <p:nvPr/>
          </p:nvSpPr>
          <p:spPr>
            <a:xfrm>
              <a:off x="2746440" y="4724280"/>
              <a:ext cx="48240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773440" y="476712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V="1">
              <a:off x="2892600" y="5275440"/>
              <a:ext cx="1015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006720" y="5273640"/>
              <a:ext cx="1015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050640" y="47671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4" name=""/>
          <p:cNvSpPr/>
          <p:nvPr/>
        </p:nvSpPr>
        <p:spPr>
          <a:xfrm>
            <a:off x="1446120" y="3781440"/>
            <a:ext cx="13320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284560" y="3781440"/>
            <a:ext cx="1440" cy="10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2284560" y="4843440"/>
            <a:ext cx="468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017800" y="3097080"/>
            <a:ext cx="75960" cy="268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3235320" y="3781440"/>
            <a:ext cx="6714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222720" y="4881600"/>
            <a:ext cx="696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006720" y="4387680"/>
            <a:ext cx="14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006720" y="4514760"/>
            <a:ext cx="785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3006720" y="5489640"/>
            <a:ext cx="14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006720" y="5614920"/>
            <a:ext cx="861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655800" y="356544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294360" y="429912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332520" y="540072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3693960" y="467820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435680" y="3578400"/>
            <a:ext cx="53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syn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1479960" y="3780000"/>
            <a:ext cx="45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028880" y="2806560"/>
            <a:ext cx="3371760" cy="33912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1630440" y="3211200"/>
            <a:ext cx="2219400" cy="260676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2" name=""/>
          <p:cNvGrpSpPr/>
          <p:nvPr/>
        </p:nvGrpSpPr>
        <p:grpSpPr>
          <a:xfrm>
            <a:off x="7068960" y="3622680"/>
            <a:ext cx="482760" cy="758880"/>
            <a:chOff x="7068960" y="3622680"/>
            <a:chExt cx="482760" cy="758880"/>
          </a:xfrm>
        </p:grpSpPr>
        <p:sp>
          <p:nvSpPr>
            <p:cNvPr id="1493" name=""/>
            <p:cNvSpPr/>
            <p:nvPr/>
          </p:nvSpPr>
          <p:spPr>
            <a:xfrm>
              <a:off x="7068960" y="3622680"/>
              <a:ext cx="48276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096320" y="366696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7227720" y="4173480"/>
              <a:ext cx="889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329600" y="4173480"/>
              <a:ext cx="1015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373520" y="36669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8" name=""/>
          <p:cNvGrpSpPr/>
          <p:nvPr/>
        </p:nvGrpSpPr>
        <p:grpSpPr>
          <a:xfrm>
            <a:off x="7068960" y="4711680"/>
            <a:ext cx="482760" cy="758880"/>
            <a:chOff x="7068960" y="4711680"/>
            <a:chExt cx="482760" cy="758880"/>
          </a:xfrm>
        </p:grpSpPr>
        <p:sp>
          <p:nvSpPr>
            <p:cNvPr id="1499" name=""/>
            <p:cNvSpPr/>
            <p:nvPr/>
          </p:nvSpPr>
          <p:spPr>
            <a:xfrm>
              <a:off x="7068960" y="4711680"/>
              <a:ext cx="48276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096320" y="475452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V="1">
              <a:off x="7227720" y="5262120"/>
              <a:ext cx="8892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329600" y="5261040"/>
              <a:ext cx="10152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373520" y="47545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4" name=""/>
          <p:cNvSpPr/>
          <p:nvPr/>
        </p:nvSpPr>
        <p:spPr>
          <a:xfrm>
            <a:off x="5300640" y="3768840"/>
            <a:ext cx="1800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607080" y="3768840"/>
            <a:ext cx="1800" cy="103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607080" y="4830840"/>
            <a:ext cx="468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948280" y="3097080"/>
            <a:ext cx="74520" cy="268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7558200" y="3768840"/>
            <a:ext cx="671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7545240" y="4856040"/>
            <a:ext cx="696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7329600" y="4375080"/>
            <a:ext cx="14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99200" y="4502160"/>
            <a:ext cx="1916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7329600" y="5477040"/>
            <a:ext cx="14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7329600" y="5602320"/>
            <a:ext cx="861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7978680" y="354024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7618680" y="42861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7656840" y="538812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8016840" y="466560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290200" y="3565440"/>
            <a:ext cx="53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syn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5334480" y="3754440"/>
            <a:ext cx="45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0" name=""/>
          <p:cNvGrpSpPr/>
          <p:nvPr/>
        </p:nvGrpSpPr>
        <p:grpSpPr>
          <a:xfrm>
            <a:off x="5942160" y="3622680"/>
            <a:ext cx="480960" cy="758880"/>
            <a:chOff x="5942160" y="3622680"/>
            <a:chExt cx="480960" cy="758880"/>
          </a:xfrm>
        </p:grpSpPr>
        <p:sp>
          <p:nvSpPr>
            <p:cNvPr id="1521" name=""/>
            <p:cNvSpPr/>
            <p:nvPr/>
          </p:nvSpPr>
          <p:spPr>
            <a:xfrm>
              <a:off x="5942160" y="3622680"/>
              <a:ext cx="48096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956560" y="366696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V="1">
              <a:off x="6086520" y="4173480"/>
              <a:ext cx="889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200640" y="4173480"/>
              <a:ext cx="10188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244560" y="36669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6" name=""/>
          <p:cNvSpPr/>
          <p:nvPr/>
        </p:nvSpPr>
        <p:spPr>
          <a:xfrm flipV="1">
            <a:off x="6199200" y="4374720"/>
            <a:ext cx="32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2278080" y="3774960"/>
            <a:ext cx="381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600960" y="3749760"/>
            <a:ext cx="3780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323120" y="4495680"/>
            <a:ext cx="381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2445840" y="29448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ed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2244960" y="3147840"/>
            <a:ext cx="1134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chronou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2505240" y="3349800"/>
            <a:ext cx="60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3" name=""/>
          <p:cNvGrpSpPr/>
          <p:nvPr/>
        </p:nvGrpSpPr>
        <p:grpSpPr>
          <a:xfrm>
            <a:off x="6289560" y="3262320"/>
            <a:ext cx="340920" cy="341280"/>
            <a:chOff x="6289560" y="3262320"/>
            <a:chExt cx="340920" cy="341280"/>
          </a:xfrm>
        </p:grpSpPr>
        <p:sp>
          <p:nvSpPr>
            <p:cNvPr id="1534" name=""/>
            <p:cNvSpPr/>
            <p:nvPr/>
          </p:nvSpPr>
          <p:spPr>
            <a:xfrm>
              <a:off x="6289560" y="3402000"/>
              <a:ext cx="190440" cy="201600"/>
            </a:xfrm>
            <a:custGeom>
              <a:avLst/>
              <a:gdLst/>
              <a:ahLst/>
              <a:rect l="l" t="t" r="r" b="b"/>
              <a:pathLst>
                <a:path w="120" h="127">
                  <a:moveTo>
                    <a:pt x="0" y="127"/>
                  </a:moveTo>
                  <a:lnTo>
                    <a:pt x="64" y="0"/>
                  </a:lnTo>
                  <a:lnTo>
                    <a:pt x="64" y="55"/>
                  </a:lnTo>
                  <a:lnTo>
                    <a:pt x="120" y="5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6391080" y="3262320"/>
              <a:ext cx="23940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6" name=""/>
          <p:cNvSpPr/>
          <p:nvPr/>
        </p:nvSpPr>
        <p:spPr>
          <a:xfrm>
            <a:off x="6627960" y="3021120"/>
            <a:ext cx="108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chroni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ndling asynchronous inpu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ver allow asynchronous inputs to fan-out to more than one flip-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e as soon as possible and then treat as synchronous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46EE-23BB-41AF-BAC5-D18443F1B7E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"/>
          <p:cNvSpPr/>
          <p:nvPr/>
        </p:nvSpPr>
        <p:spPr>
          <a:xfrm>
            <a:off x="5715000" y="3683160"/>
            <a:ext cx="267984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14480" indent="-114480"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is asynchronous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ns out to D0 and D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e FF catches th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gnal, one does 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inconsistent state may 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be reache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H="1" flipV="1">
            <a:off x="5181480" y="4266720"/>
            <a:ext cx="99072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H="1">
            <a:off x="5257800" y="4648320"/>
            <a:ext cx="91440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260280" y="3459240"/>
            <a:ext cx="9144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ndling asynchronous input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can go wro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changes too close to clock edge (violating setup time constra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1295280" y="38862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V="1">
            <a:off x="1905120" y="365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905120" y="36576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1295280" y="4495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V="1">
            <a:off x="2057400" y="426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057400" y="426708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295280" y="5181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V="1">
            <a:off x="2057400" y="49525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2133720" y="495288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209680" y="5181480"/>
            <a:ext cx="335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295280" y="57913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V="1">
            <a:off x="1981080" y="55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981080" y="55627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97180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2971800" y="5791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V="1">
            <a:off x="3886200" y="55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886200" y="55627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876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876920" y="57913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24D5-1DB5-45E7-91AF-DF88B2B7041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lip-flop featur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t (set state to 0) –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: Dnew = R' • Dold (when next clock edge arriv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: doesn't wait for clock, quick but danger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t or set (set state to 1) – S (or sometimes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: Dnew = Dold + S (when next clock edge arriv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: doesn't wait for clock, quick but danger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reset and p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ew = R' • Dold + 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t-domin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ew = R' • Dold + R'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set-domin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ve input capability (input enable or load) – LD or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xor at input: Dnew = LD' • Q + LD • D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may or may not override reset/set (usually R/S have prior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mentary outputs – Q and Q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733A-ED3A-4EA7-A3E0-B420AAFF2FA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6" name=""/>
          <p:cNvGrpSpPr/>
          <p:nvPr/>
        </p:nvGrpSpPr>
        <p:grpSpPr>
          <a:xfrm>
            <a:off x="2438280" y="3962520"/>
            <a:ext cx="6121440" cy="2412360"/>
            <a:chOff x="2438280" y="3962520"/>
            <a:chExt cx="6121440" cy="2412360"/>
          </a:xfrm>
        </p:grpSpPr>
        <p:sp>
          <p:nvSpPr>
            <p:cNvPr id="1567" name=""/>
            <p:cNvSpPr/>
            <p:nvPr/>
          </p:nvSpPr>
          <p:spPr>
            <a:xfrm>
              <a:off x="3612960" y="4717800"/>
              <a:ext cx="52092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632040" y="4800600"/>
              <a:ext cx="241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886200" y="4800600"/>
              <a:ext cx="2538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921200" y="4717800"/>
              <a:ext cx="52056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940280" y="4800600"/>
              <a:ext cx="2412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194440" y="4800600"/>
              <a:ext cx="2538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216480" y="4717800"/>
              <a:ext cx="52092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235560" y="4800600"/>
              <a:ext cx="241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489720" y="4800600"/>
              <a:ext cx="2538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V="1">
              <a:off x="3803760" y="5378400"/>
              <a:ext cx="633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 flipV="1">
              <a:off x="386712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632040" y="51051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89880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V="1">
              <a:off x="5111640" y="5378400"/>
              <a:ext cx="507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 flipV="1">
              <a:off x="516240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94028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194440" y="510516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V="1">
              <a:off x="6407280" y="5378400"/>
              <a:ext cx="633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 flipV="1">
              <a:off x="647064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235560" y="51051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50232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524720" y="4717800"/>
              <a:ext cx="52056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V="1">
              <a:off x="7715160" y="5378400"/>
              <a:ext cx="507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 flipV="1">
              <a:off x="776592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54380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797600" y="51051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48624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13388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781520" y="524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25448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911400" y="396252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441760" y="52448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08976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56272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219640" y="396252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385040" y="524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73740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85800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514920" y="396252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8045280" y="52448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16624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823160" y="396252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87360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860640" y="56512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16888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156280" y="56512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47712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464160" y="56512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77240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965320" y="56642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879720" y="56642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175360" y="56642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483240" y="56642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451240" y="551160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46716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77504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07068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37856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124080" y="6032520"/>
              <a:ext cx="7239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432320" y="6032520"/>
              <a:ext cx="7110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727600" y="6032520"/>
              <a:ext cx="7113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035840" y="6032520"/>
              <a:ext cx="736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543800" y="4800600"/>
              <a:ext cx="2412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797600" y="4800600"/>
              <a:ext cx="2541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8045280" y="492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8102520" y="4502160"/>
              <a:ext cx="0" cy="43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2952360" y="4495680"/>
              <a:ext cx="515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H="1">
              <a:off x="7448400" y="4914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7442280" y="44888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737400" y="492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V="1">
              <a:off x="6794640" y="44892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140160" y="49147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V="1">
              <a:off x="6134040" y="44888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441760" y="490212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5499000" y="44762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4844880" y="48895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V="1">
              <a:off x="4838760" y="4502160"/>
              <a:ext cx="0" cy="39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133880" y="492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V="1">
              <a:off x="4191120" y="4502160"/>
              <a:ext cx="0" cy="43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3536640" y="49147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V="1">
              <a:off x="3530520" y="44888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17816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51792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48640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82580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78168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12144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42932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438280" y="4356000"/>
              <a:ext cx="5079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0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ist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ions of flip-flops with similar controls and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values somehow related (for example, form binary va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clock, reset, and set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logic at each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B0EE-3B8A-4564-B12F-8BD1AC2114A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8" name=""/>
          <p:cNvGrpSpPr/>
          <p:nvPr/>
        </p:nvGrpSpPr>
        <p:grpSpPr>
          <a:xfrm>
            <a:off x="1371600" y="3352680"/>
            <a:ext cx="6781680" cy="1422360"/>
            <a:chOff x="1371600" y="3352680"/>
            <a:chExt cx="6781680" cy="1422360"/>
          </a:xfrm>
        </p:grpSpPr>
        <p:sp>
          <p:nvSpPr>
            <p:cNvPr id="1659" name=""/>
            <p:cNvSpPr/>
            <p:nvPr/>
          </p:nvSpPr>
          <p:spPr>
            <a:xfrm>
              <a:off x="2610000" y="390528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V="1">
              <a:off x="2800440" y="429876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 flipV="1">
              <a:off x="286380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629080" y="40258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895480" y="402588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917880" y="390528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 flipV="1">
              <a:off x="4108320" y="429876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 flipV="1">
              <a:off x="415908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6960" y="402588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191120" y="40258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213520" y="390528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V="1">
              <a:off x="5403960" y="429876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 flipV="1">
              <a:off x="546732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232240" y="402588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499000" y="402588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521400" y="390528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V="1">
              <a:off x="6711840" y="429876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 flipV="1">
              <a:off x="676260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540480" y="402588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794640" y="40258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48292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962000" y="416556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371600" y="4051440"/>
              <a:ext cx="533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13056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778200" y="416556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257640" y="41655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505320" y="415296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524400" y="41655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51792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517920" y="3352680"/>
              <a:ext cx="723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43880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08644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565520" y="416556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800600" y="415296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819680" y="41655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81320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813200" y="335268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381720" y="416556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73408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861160" y="41655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108840" y="415296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127920" y="41655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12144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121440" y="3352680"/>
              <a:ext cx="7110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04232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169040" y="416556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741672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416720" y="3352680"/>
              <a:ext cx="736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87028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844720" y="457200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16556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152960" y="4572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47380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460840" y="4572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76908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962000" y="458460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876400" y="458460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172040" y="458460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479920" y="458460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447920" y="443232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hift regis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lds samples of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 last 4 input valu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-bit shift regis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FC26-958E-4A6B-800B-43748890583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"/>
          <p:cNvSpPr/>
          <p:nvPr/>
        </p:nvSpPr>
        <p:spPr>
          <a:xfrm>
            <a:off x="5321160" y="3657600"/>
            <a:ext cx="389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46960" bIns="27000" anchor="t">
            <a:noAutofit/>
          </a:bodyPr>
          <a:p>
            <a:pPr>
              <a:lnSpc>
                <a:spcPts val="1599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ear sets the register conten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 output to 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 and s0 determine the shift fun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 st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ift righ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ift lef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ad new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683320" y="511164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553080" y="49528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4" name=""/>
          <p:cNvGrpSpPr/>
          <p:nvPr/>
        </p:nvGrpSpPr>
        <p:grpSpPr>
          <a:xfrm>
            <a:off x="76320" y="3505320"/>
            <a:ext cx="4851360" cy="2666520"/>
            <a:chOff x="76320" y="3505320"/>
            <a:chExt cx="4851360" cy="2666520"/>
          </a:xfrm>
        </p:grpSpPr>
        <p:sp>
          <p:nvSpPr>
            <p:cNvPr id="1725" name=""/>
            <p:cNvSpPr/>
            <p:nvPr/>
          </p:nvSpPr>
          <p:spPr>
            <a:xfrm>
              <a:off x="165240" y="4330440"/>
              <a:ext cx="90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ft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6320" y="4559040"/>
              <a:ext cx="10162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ft_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810240" y="4330440"/>
              <a:ext cx="1117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ight_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40040" y="4762440"/>
              <a:ext cx="698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530720" y="4248000"/>
              <a:ext cx="1828800" cy="11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073520" y="44704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359520" y="44704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3346560" y="46990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H="1">
              <a:off x="1060560" y="46990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31244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V="1">
              <a:off x="26672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V="1">
              <a:off x="22100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V="1">
              <a:off x="17528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1244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6672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2100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7528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44920" y="492768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844920" y="504180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844920" y="515628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810240" y="4559040"/>
              <a:ext cx="1015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ight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943280" y="3505320"/>
              <a:ext cx="927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057760" y="5867280"/>
              <a:ext cx="812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16000" y="4914720"/>
              <a:ext cx="622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16000" y="5067360"/>
              <a:ext cx="6224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346560" y="505440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051440" y="4927680"/>
              <a:ext cx="6987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Universal shift regis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s 4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or parallel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or parallel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ts shift left o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in new values from left o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D068-D511-4642-BE6E-CCD0BACB918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1486080" y="5135400"/>
            <a:ext cx="6819480" cy="1417680"/>
            <a:chOff x="1486080" y="5135400"/>
            <a:chExt cx="6819480" cy="141768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2222280" y="5135400"/>
              <a:ext cx="4952880" cy="14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305240" y="5173560"/>
              <a:ext cx="15998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remember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95480" y="5707080"/>
              <a:ext cx="7236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load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86080" y="5897520"/>
              <a:ext cx="8380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data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14920" y="5783040"/>
              <a:ext cx="17906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stored value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772080" y="2544840"/>
            <a:ext cx="4419000" cy="1220760"/>
            <a:chOff x="3772080" y="2544840"/>
            <a:chExt cx="4419000" cy="1220760"/>
          </a:xfrm>
        </p:grpSpPr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3772080" y="2621160"/>
              <a:ext cx="329400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788000" y="3306960"/>
              <a:ext cx="5076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0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88000" y="2544840"/>
              <a:ext cx="5076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1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00800" y="3002040"/>
              <a:ext cx="17902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stored value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mplest circuits with feedba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94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inverters form a static memory c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hold value as long as it has power applied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get a new value into the memory cel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vely break feedback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new value into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288B-4053-4F3A-AD84-C3DBF8CDF1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"/>
          <p:cNvSpPr/>
          <p:nvPr/>
        </p:nvSpPr>
        <p:spPr>
          <a:xfrm>
            <a:off x="6210360" y="3124080"/>
            <a:ext cx="1257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th 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5" name=""/>
          <p:cNvGrpSpPr/>
          <p:nvPr/>
        </p:nvGrpSpPr>
        <p:grpSpPr>
          <a:xfrm>
            <a:off x="488520" y="3397320"/>
            <a:ext cx="4127400" cy="1510920"/>
            <a:chOff x="488520" y="3397320"/>
            <a:chExt cx="4127400" cy="1510920"/>
          </a:xfrm>
        </p:grpSpPr>
        <p:sp>
          <p:nvSpPr>
            <p:cNvPr id="1756" name=""/>
            <p:cNvSpPr/>
            <p:nvPr/>
          </p:nvSpPr>
          <p:spPr>
            <a:xfrm>
              <a:off x="9586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4158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488520" y="38610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>
              <a:off x="14025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>
              <a:off x="48852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8730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3302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23169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7874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32446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32313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7018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1590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41457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V="1">
              <a:off x="39240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30096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V="1">
              <a:off x="20952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V="1">
              <a:off x="11808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V="1">
              <a:off x="39240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V="1">
              <a:off x="30096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V="1">
              <a:off x="20952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V="1">
              <a:off x="11808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V="1">
              <a:off x="40384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V="1">
              <a:off x="38098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V="1">
              <a:off x="31240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V="1">
              <a:off x="28954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22096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V="1">
              <a:off x="19810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12952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10666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H="1">
              <a:off x="1288800" y="4432320"/>
              <a:ext cx="33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>
              <a:off x="488880" y="4660920"/>
              <a:ext cx="33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8" name=""/>
          <p:cNvSpPr/>
          <p:nvPr/>
        </p:nvSpPr>
        <p:spPr>
          <a:xfrm flipV="1">
            <a:off x="3701880" y="3180960"/>
            <a:ext cx="158760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3701880" y="4222800"/>
            <a:ext cx="1587600" cy="238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 flipV="1">
            <a:off x="4159080" y="3638160"/>
            <a:ext cx="113040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159080" y="4235400"/>
            <a:ext cx="1130400" cy="54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302080" y="3193920"/>
            <a:ext cx="35434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394320" y="3765600"/>
            <a:ext cx="5461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394320" y="3956040"/>
            <a:ext cx="12708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 flipV="1">
            <a:off x="6394320" y="4006800"/>
            <a:ext cx="1270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6566040" y="4025880"/>
            <a:ext cx="241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553080" y="3720960"/>
            <a:ext cx="2541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 flipH="1">
            <a:off x="6267600" y="401328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273720" y="4030560"/>
            <a:ext cx="0" cy="3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5784840" y="4394160"/>
            <a:ext cx="2400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245280" y="4368960"/>
            <a:ext cx="5076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7683480" y="4152960"/>
            <a:ext cx="762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3" name=""/>
          <p:cNvGrpSpPr/>
          <p:nvPr/>
        </p:nvGrpSpPr>
        <p:grpSpPr>
          <a:xfrm>
            <a:off x="5257800" y="5708520"/>
            <a:ext cx="1857240" cy="870120"/>
            <a:chOff x="5257800" y="5708520"/>
            <a:chExt cx="1857240" cy="870120"/>
          </a:xfrm>
        </p:grpSpPr>
        <p:sp>
          <p:nvSpPr>
            <p:cNvPr id="1804" name=""/>
            <p:cNvSpPr/>
            <p:nvPr/>
          </p:nvSpPr>
          <p:spPr>
            <a:xfrm>
              <a:off x="7112160" y="57085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794200" y="62514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257800" y="6019920"/>
              <a:ext cx="7621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[N-1]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lef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7" name=""/>
          <p:cNvGrpSpPr/>
          <p:nvPr/>
        </p:nvGrpSpPr>
        <p:grpSpPr>
          <a:xfrm>
            <a:off x="7362720" y="5708520"/>
            <a:ext cx="1425600" cy="870120"/>
            <a:chOff x="7362720" y="5708520"/>
            <a:chExt cx="1425600" cy="870120"/>
          </a:xfrm>
        </p:grpSpPr>
        <p:sp>
          <p:nvSpPr>
            <p:cNvPr id="1808" name=""/>
            <p:cNvSpPr/>
            <p:nvPr/>
          </p:nvSpPr>
          <p:spPr>
            <a:xfrm>
              <a:off x="7365960" y="57085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362720" y="6251400"/>
              <a:ext cx="81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8026560" y="6019920"/>
              <a:ext cx="7617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[N+1]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righ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1" name=""/>
          <p:cNvGrpSpPr/>
          <p:nvPr/>
        </p:nvGrpSpPr>
        <p:grpSpPr>
          <a:xfrm>
            <a:off x="6553080" y="5708520"/>
            <a:ext cx="1155960" cy="997200"/>
            <a:chOff x="6553080" y="5708520"/>
            <a:chExt cx="1155960" cy="997200"/>
          </a:xfrm>
        </p:grpSpPr>
        <p:sp>
          <p:nvSpPr>
            <p:cNvPr id="1812" name=""/>
            <p:cNvSpPr/>
            <p:nvPr/>
          </p:nvSpPr>
          <p:spPr>
            <a:xfrm>
              <a:off x="7620120" y="5708520"/>
              <a:ext cx="0" cy="7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553080" y="6362640"/>
              <a:ext cx="1155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[N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4" name=""/>
          <p:cNvGrpSpPr/>
          <p:nvPr/>
        </p:nvGrpSpPr>
        <p:grpSpPr>
          <a:xfrm>
            <a:off x="5105520" y="3556080"/>
            <a:ext cx="3581280" cy="571320"/>
            <a:chOff x="5105520" y="3556080"/>
            <a:chExt cx="3581280" cy="571320"/>
          </a:xfrm>
        </p:grpSpPr>
        <p:sp>
          <p:nvSpPr>
            <p:cNvPr id="1815" name=""/>
            <p:cNvSpPr/>
            <p:nvPr/>
          </p:nvSpPr>
          <p:spPr>
            <a:xfrm>
              <a:off x="5810400" y="3568680"/>
              <a:ext cx="236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105520" y="3556080"/>
              <a:ext cx="10666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o N-1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709040" y="3568680"/>
              <a:ext cx="9777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o N+1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8" name=""/>
          <p:cNvSpPr/>
          <p:nvPr/>
        </p:nvSpPr>
        <p:spPr>
          <a:xfrm>
            <a:off x="4413240" y="1600200"/>
            <a:ext cx="50292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ea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w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value of FF to left (shift right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value of FF to right (shift left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of universal shift regis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one of the four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value at next clock cyc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1" name=""/>
          <p:cNvGrpSpPr/>
          <p:nvPr/>
        </p:nvGrpSpPr>
        <p:grpSpPr>
          <a:xfrm>
            <a:off x="6168960" y="3568680"/>
            <a:ext cx="701640" cy="2559240"/>
            <a:chOff x="6168960" y="3568680"/>
            <a:chExt cx="701640" cy="2559240"/>
          </a:xfrm>
        </p:grpSpPr>
        <p:sp>
          <p:nvSpPr>
            <p:cNvPr id="1822" name=""/>
            <p:cNvSpPr/>
            <p:nvPr/>
          </p:nvSpPr>
          <p:spPr>
            <a:xfrm>
              <a:off x="6168960" y="6124680"/>
              <a:ext cx="70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3" name=""/>
            <p:cNvGrpSpPr/>
            <p:nvPr/>
          </p:nvGrpSpPr>
          <p:grpSpPr>
            <a:xfrm>
              <a:off x="6172200" y="3568680"/>
              <a:ext cx="685800" cy="2559240"/>
              <a:chOff x="6172200" y="3568680"/>
              <a:chExt cx="685800" cy="2559240"/>
            </a:xfrm>
          </p:grpSpPr>
          <p:sp>
            <p:nvSpPr>
              <p:cNvPr id="1824" name=""/>
              <p:cNvSpPr/>
              <p:nvPr/>
            </p:nvSpPr>
            <p:spPr>
              <a:xfrm>
                <a:off x="6858000" y="5708520"/>
                <a:ext cx="0" cy="419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6172200" y="3575160"/>
                <a:ext cx="0" cy="255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6667560" y="3575160"/>
                <a:ext cx="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172200" y="3568680"/>
                <a:ext cx="495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8" name=""/>
          <p:cNvGrpSpPr/>
          <p:nvPr/>
        </p:nvGrpSpPr>
        <p:grpSpPr>
          <a:xfrm>
            <a:off x="6667200" y="4299120"/>
            <a:ext cx="2476800" cy="1631880"/>
            <a:chOff x="6667200" y="4299120"/>
            <a:chExt cx="2476800" cy="1631880"/>
          </a:xfrm>
        </p:grpSpPr>
        <p:sp>
          <p:nvSpPr>
            <p:cNvPr id="1829" name=""/>
            <p:cNvSpPr/>
            <p:nvPr/>
          </p:nvSpPr>
          <p:spPr>
            <a:xfrm>
              <a:off x="7759800" y="5372280"/>
              <a:ext cx="13842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 and s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 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0" name=""/>
            <p:cNvGrpSpPr/>
            <p:nvPr/>
          </p:nvGrpSpPr>
          <p:grpSpPr>
            <a:xfrm>
              <a:off x="6667200" y="4299120"/>
              <a:ext cx="1086120" cy="1517400"/>
              <a:chOff x="6667200" y="4299120"/>
              <a:chExt cx="1086120" cy="1517400"/>
            </a:xfrm>
          </p:grpSpPr>
          <p:sp>
            <p:nvSpPr>
              <p:cNvPr id="1831" name=""/>
              <p:cNvSpPr/>
              <p:nvPr/>
            </p:nvSpPr>
            <p:spPr>
              <a:xfrm>
                <a:off x="6730920" y="50101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6737400" y="5111640"/>
                <a:ext cx="514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238880" y="511812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6667560" y="4299120"/>
                <a:ext cx="0" cy="24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5" name=""/>
              <p:cNvGrpSpPr/>
              <p:nvPr/>
            </p:nvGrpSpPr>
            <p:grpSpPr>
              <a:xfrm>
                <a:off x="6711840" y="5473800"/>
                <a:ext cx="1041480" cy="342720"/>
                <a:chOff x="6711840" y="5473800"/>
                <a:chExt cx="1041480" cy="342720"/>
              </a:xfrm>
            </p:grpSpPr>
            <p:sp>
              <p:nvSpPr>
                <p:cNvPr id="1836" name=""/>
                <p:cNvSpPr/>
                <p:nvPr/>
              </p:nvSpPr>
              <p:spPr>
                <a:xfrm>
                  <a:off x="6864480" y="5499000"/>
                  <a:ext cx="74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6724800" y="5702040"/>
                  <a:ext cx="1028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7626240" y="5505120"/>
                  <a:ext cx="127080" cy="190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 flipH="1">
                  <a:off x="6711840" y="5505120"/>
                  <a:ext cx="152640" cy="190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674388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699768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725184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750564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4" name=""/>
              <p:cNvSpPr/>
              <p:nvPr/>
            </p:nvSpPr>
            <p:spPr>
              <a:xfrm flipH="1" flipV="1">
                <a:off x="6667200" y="4552560"/>
                <a:ext cx="66600" cy="43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5" name=""/>
          <p:cNvGrpSpPr/>
          <p:nvPr/>
        </p:nvGrpSpPr>
        <p:grpSpPr>
          <a:xfrm>
            <a:off x="5797440" y="4552920"/>
            <a:ext cx="2889360" cy="870120"/>
            <a:chOff x="5797440" y="4552920"/>
            <a:chExt cx="2889360" cy="870120"/>
          </a:xfrm>
        </p:grpSpPr>
        <p:sp>
          <p:nvSpPr>
            <p:cNvPr id="1846" name=""/>
            <p:cNvSpPr/>
            <p:nvPr/>
          </p:nvSpPr>
          <p:spPr>
            <a:xfrm>
              <a:off x="6603840" y="506088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797440" y="5346720"/>
              <a:ext cx="24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575400" y="53182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7670880" y="5079960"/>
              <a:ext cx="10159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0" name=""/>
            <p:cNvGrpSpPr/>
            <p:nvPr/>
          </p:nvGrpSpPr>
          <p:grpSpPr>
            <a:xfrm>
              <a:off x="6499440" y="4552920"/>
              <a:ext cx="334800" cy="507960"/>
              <a:chOff x="6499440" y="4552920"/>
              <a:chExt cx="334800" cy="507960"/>
            </a:xfrm>
          </p:grpSpPr>
          <p:grpSp>
            <p:nvGrpSpPr>
              <p:cNvPr id="1851" name=""/>
              <p:cNvGrpSpPr/>
              <p:nvPr/>
            </p:nvGrpSpPr>
            <p:grpSpPr>
              <a:xfrm>
                <a:off x="6499440" y="4554360"/>
                <a:ext cx="334800" cy="506520"/>
                <a:chOff x="6499440" y="4554360"/>
                <a:chExt cx="334800" cy="506520"/>
              </a:xfrm>
            </p:grpSpPr>
            <p:sp>
              <p:nvSpPr>
                <p:cNvPr id="1852" name=""/>
                <p:cNvSpPr/>
                <p:nvPr/>
              </p:nvSpPr>
              <p:spPr>
                <a:xfrm flipV="1">
                  <a:off x="6515280" y="4692600"/>
                  <a:ext cx="0" cy="31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 flipV="1">
                  <a:off x="6819840" y="4679640"/>
                  <a:ext cx="0" cy="330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 flipH="1">
                  <a:off x="6508800" y="5003640"/>
                  <a:ext cx="317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6529320" y="4560840"/>
                  <a:ext cx="30492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641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64191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6513480" y="4554360"/>
                  <a:ext cx="317160" cy="29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656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6562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6505560" y="4560840"/>
                  <a:ext cx="30456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6499440" y="4554360"/>
                  <a:ext cx="316800" cy="29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6585120" y="5010120"/>
                  <a:ext cx="50760" cy="507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0" name=""/>
              <p:cNvSpPr/>
              <p:nvPr/>
            </p:nvSpPr>
            <p:spPr>
              <a:xfrm>
                <a:off x="6667560" y="4552920"/>
                <a:ext cx="66600" cy="4478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1" name=""/>
          <p:cNvSpPr/>
          <p:nvPr/>
        </p:nvSpPr>
        <p:spPr>
          <a:xfrm>
            <a:off x="4753080" y="184788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124680" y="1619280"/>
            <a:ext cx="0" cy="135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45D4-528A-4ED3-95C0-D0A6597FA94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"/>
          <p:cNvSpPr/>
          <p:nvPr/>
        </p:nvSpPr>
        <p:spPr>
          <a:xfrm>
            <a:off x="1332000" y="4381560"/>
            <a:ext cx="1995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llel 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032520" y="2527200"/>
            <a:ext cx="20192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llel 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5" name=""/>
          <p:cNvGrpSpPr/>
          <p:nvPr/>
        </p:nvGrpSpPr>
        <p:grpSpPr>
          <a:xfrm>
            <a:off x="437760" y="2927520"/>
            <a:ext cx="3683520" cy="1371600"/>
            <a:chOff x="437760" y="2927520"/>
            <a:chExt cx="3683520" cy="1371600"/>
          </a:xfrm>
        </p:grpSpPr>
        <p:sp>
          <p:nvSpPr>
            <p:cNvPr id="1866" name=""/>
            <p:cNvSpPr/>
            <p:nvPr/>
          </p:nvSpPr>
          <p:spPr>
            <a:xfrm>
              <a:off x="90792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5072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05092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>
              <a:off x="203796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H="1">
              <a:off x="43776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V="1">
              <a:off x="18162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V="1">
              <a:off x="15876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V="1">
              <a:off x="134604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V="1">
              <a:off x="11304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162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5876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3590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1304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52108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6388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66408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H="1">
              <a:off x="365112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205092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34290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32004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29592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27432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4290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2004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9718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7432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2" name=""/>
          <p:cNvGrpSpPr/>
          <p:nvPr/>
        </p:nvGrpSpPr>
        <p:grpSpPr>
          <a:xfrm>
            <a:off x="5149440" y="2927520"/>
            <a:ext cx="3683520" cy="1371600"/>
            <a:chOff x="5149440" y="2927520"/>
            <a:chExt cx="3683520" cy="1371600"/>
          </a:xfrm>
        </p:grpSpPr>
        <p:sp>
          <p:nvSpPr>
            <p:cNvPr id="1893" name=""/>
            <p:cNvSpPr/>
            <p:nvPr/>
          </p:nvSpPr>
          <p:spPr>
            <a:xfrm>
              <a:off x="561960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16240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76260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>
              <a:off x="674964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H="1">
              <a:off x="514944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V="1">
              <a:off x="65278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62992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60580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58420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5278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2992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0706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58420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723276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77556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837576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836280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>
              <a:off x="676260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V="1">
              <a:off x="81406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V="1">
              <a:off x="79120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V="1">
              <a:off x="76708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74548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81406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79120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76834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74548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9" name=""/>
          <p:cNvSpPr/>
          <p:nvPr/>
        </p:nvSpPr>
        <p:spPr>
          <a:xfrm>
            <a:off x="4025880" y="5283360"/>
            <a:ext cx="30225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ial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4686480" y="3860640"/>
            <a:ext cx="647640" cy="138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1" name=""/>
          <p:cNvGrpSpPr/>
          <p:nvPr/>
        </p:nvGrpSpPr>
        <p:grpSpPr>
          <a:xfrm>
            <a:off x="4057560" y="3200400"/>
            <a:ext cx="1155960" cy="609480"/>
            <a:chOff x="4057560" y="3200400"/>
            <a:chExt cx="1155960" cy="609480"/>
          </a:xfrm>
        </p:grpSpPr>
        <p:sp>
          <p:nvSpPr>
            <p:cNvPr id="1922" name=""/>
            <p:cNvSpPr/>
            <p:nvPr/>
          </p:nvSpPr>
          <p:spPr>
            <a:xfrm>
              <a:off x="4121280" y="3390840"/>
              <a:ext cx="101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H="1">
              <a:off x="4107960" y="3619440"/>
              <a:ext cx="104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057560" y="3397320"/>
              <a:ext cx="12708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099040" y="3397320"/>
              <a:ext cx="11448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4121280" y="3409920"/>
              <a:ext cx="101520" cy="20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070520" y="3473280"/>
              <a:ext cx="88560" cy="7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546440" y="3200400"/>
              <a:ext cx="177840" cy="609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667400" y="3409920"/>
              <a:ext cx="101520" cy="20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hift register appl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llel-to-serial conversion for serial transmi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B6B3-C71B-4A28-8306-D26F85BB976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2" name=""/>
          <p:cNvGrpSpPr/>
          <p:nvPr/>
        </p:nvGrpSpPr>
        <p:grpSpPr>
          <a:xfrm>
            <a:off x="685800" y="2990880"/>
            <a:ext cx="7785000" cy="2419200"/>
            <a:chOff x="685800" y="2990880"/>
            <a:chExt cx="7785000" cy="2419200"/>
          </a:xfrm>
        </p:grpSpPr>
        <p:sp>
          <p:nvSpPr>
            <p:cNvPr id="1933" name=""/>
            <p:cNvSpPr/>
            <p:nvPr/>
          </p:nvSpPr>
          <p:spPr>
            <a:xfrm>
              <a:off x="4984920" y="3054240"/>
              <a:ext cx="17748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V="1">
              <a:off x="4984920" y="3168360"/>
              <a:ext cx="17748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978440" y="305424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175360" y="3156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568840" y="3181320"/>
              <a:ext cx="17784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V="1">
              <a:off x="5568840" y="3308400"/>
              <a:ext cx="1778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562720" y="318132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759280" y="329580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877080" y="3086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877080" y="3403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870600" y="30924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7048800" y="3100320"/>
              <a:ext cx="2786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7042320" y="3094200"/>
              <a:ext cx="291600" cy="32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7048440" y="3085920"/>
              <a:ext cx="2790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7041960" y="3079440"/>
              <a:ext cx="291960" cy="33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353360" y="3225960"/>
              <a:ext cx="381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334280" y="321948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870600" y="299088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V="1">
              <a:off x="6870600" y="3396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442120" y="33148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435640" y="3321000"/>
              <a:ext cx="0" cy="128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844880" y="317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4127400" y="3181320"/>
              <a:ext cx="0" cy="142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4133880" y="3174840"/>
              <a:ext cx="69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737400" y="304812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825640" y="3048120"/>
              <a:ext cx="389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819520" y="305424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238720" y="31748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737400" y="317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365800" y="317484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823000" y="33148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6737400" y="33148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962680" y="33148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6737400" y="3441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730920" y="344808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7397640" y="32385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7524720" y="32385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924200" y="454032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2114640" y="493380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 flipV="1">
              <a:off x="217800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943280" y="466092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2209680" y="466092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232080" y="454032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V="1">
              <a:off x="3422520" y="493380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H="1" flipV="1">
              <a:off x="347328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251160" y="466092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505320" y="466092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4527720" y="454032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4718160" y="493380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H="1" flipV="1">
              <a:off x="478152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546440" y="466092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4813200" y="466092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835600" y="454032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6026040" y="493380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 flipV="1">
              <a:off x="607680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854680" y="466092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108840" y="466092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79712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276200" y="480060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85800" y="4686480"/>
              <a:ext cx="533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244476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092400" y="4800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571840" y="48006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795760" y="478800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2838600" y="48006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80836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2908440" y="4140360"/>
              <a:ext cx="7236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75300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40064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879720" y="480060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4114800" y="478800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4133880" y="48006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12740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203720" y="414036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695920" y="4800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504828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175360" y="48006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423040" y="478800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442120" y="48006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43564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511960" y="414036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35652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483240" y="480060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73092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807240" y="414036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18448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158920" y="520704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47976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3467160" y="52070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478800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4775040" y="52070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08328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276200" y="52196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190600" y="52196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486240" y="52196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4794120" y="52196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62120" y="506736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7670880" y="3098880"/>
              <a:ext cx="7999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ttern recogniz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 function of input s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ase, recognizing the pattern 1001 on the single input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76BB-473E-48B8-A298-94FD0607186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3" name=""/>
          <p:cNvGrpSpPr/>
          <p:nvPr/>
        </p:nvGrpSpPr>
        <p:grpSpPr>
          <a:xfrm>
            <a:off x="1207800" y="3271680"/>
            <a:ext cx="7017120" cy="1415880"/>
            <a:chOff x="1207800" y="3271680"/>
            <a:chExt cx="7017120" cy="1415880"/>
          </a:xfrm>
        </p:grpSpPr>
        <p:sp>
          <p:nvSpPr>
            <p:cNvPr id="2034" name=""/>
            <p:cNvSpPr/>
            <p:nvPr/>
          </p:nvSpPr>
          <p:spPr>
            <a:xfrm>
              <a:off x="2605320" y="3709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flipV="1">
              <a:off x="2795760" y="410328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flipH="1" flipV="1">
              <a:off x="2859120" y="410328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2624400" y="383040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2891160" y="383040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3913560" y="3709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4104000" y="410328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H="1" flipV="1">
              <a:off x="4154400" y="4103280"/>
              <a:ext cx="759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3932280" y="383040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4186440" y="383040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208840" y="3709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 flipV="1">
              <a:off x="5399280" y="410328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 flipH="1" flipV="1">
              <a:off x="5462640" y="410328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227920" y="383040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494680" y="383040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516720" y="370980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 flipV="1">
              <a:off x="6707520" y="410328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H="1" flipV="1">
              <a:off x="6757920" y="4103280"/>
              <a:ext cx="759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535800" y="383040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789960" y="383040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247824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1957680" y="397008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366920" y="3855600"/>
              <a:ext cx="533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12588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773520" y="39700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252960" y="3970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500640" y="3957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51972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351324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3589560" y="327168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434120" y="397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08176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456120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4795920" y="3957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4815000" y="3970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80888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884840" y="327168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377040" y="39700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72940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856480" y="3970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104160" y="3957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12324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11676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193080" y="327168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7037640" y="397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716472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41240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7488360" y="327168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286560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2840400" y="43765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16088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148280" y="437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46912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456520" y="437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76440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957680" y="438912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2872080" y="438912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167360" y="438912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475600" y="438912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1443240" y="423684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7412400" y="3963600"/>
              <a:ext cx="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H="1">
              <a:off x="1207800" y="4681080"/>
              <a:ext cx="621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V="1">
              <a:off x="1214640" y="3951000"/>
              <a:ext cx="0" cy="7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233720" y="395748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399440" y="39574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unt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ces through a fixed set of patt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ase, 1000, 0100, 0010, 0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one of the patterns is its initial state (by loading or set/res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D3AF-654D-41A4-BD59-65126D06684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es this counter 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3" name=""/>
          <p:cNvGrpSpPr/>
          <p:nvPr/>
        </p:nvGrpSpPr>
        <p:grpSpPr>
          <a:xfrm>
            <a:off x="1351080" y="2260440"/>
            <a:ext cx="7016760" cy="1503360"/>
            <a:chOff x="1351080" y="2260440"/>
            <a:chExt cx="7016760" cy="1503360"/>
          </a:xfrm>
        </p:grpSpPr>
        <p:sp>
          <p:nvSpPr>
            <p:cNvPr id="2104" name=""/>
            <p:cNvSpPr/>
            <p:nvPr/>
          </p:nvSpPr>
          <p:spPr>
            <a:xfrm>
              <a:off x="2748240" y="26604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2938680" y="30538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 flipV="1">
              <a:off x="3002040" y="30538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767320" y="278136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034080" y="27813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056480" y="26604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V="1">
              <a:off x="4246920" y="305388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H="1" flipV="1">
              <a:off x="4297320" y="305388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4075200" y="278136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329360" y="27813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351760" y="26604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V="1">
              <a:off x="5542200" y="30538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H="1" flipV="1">
              <a:off x="5605560" y="30538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370840" y="278136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637600" y="27813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659640" y="266040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V="1">
              <a:off x="6850440" y="305388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 flipV="1">
              <a:off x="6900840" y="305388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678720" y="278136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6932880" y="27813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262116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2100600" y="292104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509840" y="2806560"/>
              <a:ext cx="533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26880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916440" y="29210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395880" y="29210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643560" y="29080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366264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365616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3732480" y="2260440"/>
              <a:ext cx="723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577040" y="29210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22468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70412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938840" y="29080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957920" y="29210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95180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027760" y="226044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519960" y="29210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87232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999400" y="29210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247080" y="29080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26616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25968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336000" y="2260440"/>
              <a:ext cx="7110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180560" y="29210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30764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755532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631280" y="2260440"/>
              <a:ext cx="736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00852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983320" y="332748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430380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4291200" y="33274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61204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599440" y="33274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90732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100600" y="334008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3015000" y="33400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4310280" y="334008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618520" y="33400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1586160" y="318744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555320" y="2914560"/>
              <a:ext cx="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H="1">
              <a:off x="4475520" y="3632040"/>
              <a:ext cx="308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V="1">
              <a:off x="1357560" y="2901960"/>
              <a:ext cx="0" cy="7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376640" y="290808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7542360" y="29080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H="1">
              <a:off x="4285080" y="3510000"/>
              <a:ext cx="20304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H="1" flipV="1">
              <a:off x="4285080" y="3624120"/>
              <a:ext cx="2030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481640" y="35100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246920" y="36115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488120" y="363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4094280" y="3630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H="1">
              <a:off x="1351080" y="363204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6" name=""/>
          <p:cNvSpPr/>
          <p:nvPr/>
        </p:nvSpPr>
        <p:spPr>
          <a:xfrm>
            <a:off x="460440" y="4124160"/>
            <a:ext cx="881064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b8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nts through the sequence: 1000, 1100, 1110, 1111, 0111, 0011, 0001, 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b8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nown as Mobius (or Johnson)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b8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307800" y="3917880"/>
            <a:ext cx="87868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932B-A29B-4DC1-8AB7-CFABC4263B5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8" name=""/>
          <p:cNvGrpSpPr/>
          <p:nvPr/>
        </p:nvGrpSpPr>
        <p:grpSpPr>
          <a:xfrm>
            <a:off x="1328760" y="3478320"/>
            <a:ext cx="6524640" cy="2930400"/>
            <a:chOff x="1328760" y="3478320"/>
            <a:chExt cx="6524640" cy="2930400"/>
          </a:xfrm>
        </p:grpSpPr>
        <p:sp>
          <p:nvSpPr>
            <p:cNvPr id="2179" name=""/>
            <p:cNvSpPr/>
            <p:nvPr/>
          </p:nvSpPr>
          <p:spPr>
            <a:xfrm>
              <a:off x="2490840" y="396396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 flipV="1">
              <a:off x="2681280" y="435744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 flipH="1" flipV="1">
              <a:off x="2744640" y="435744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250992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2776680" y="408456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798720" y="396396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 flipV="1">
              <a:off x="3989520" y="435744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 flipH="1" flipV="1">
              <a:off x="4039920" y="435744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817800" y="408456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07196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094360" y="396396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 flipV="1">
              <a:off x="5284800" y="435744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H="1" flipV="1">
              <a:off x="5348160" y="435744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11344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380200" y="408456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402240" y="396396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 flipV="1">
              <a:off x="6593040" y="435744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 flipH="1" flipV="1">
              <a:off x="6643440" y="435744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6421320" y="408456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67548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363760" y="4224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13000" y="422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011400" y="4224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684600" y="42242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144960" y="421164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3157560" y="3621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3205080" y="347832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319640" y="42242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992840" y="4224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452840" y="421164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465800" y="3621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513320" y="347832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300720" y="4224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614920" y="4224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761080" y="421164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773680" y="3621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821200" y="347832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923160" y="42242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7050240" y="42242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7068960" y="36338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7116840" y="349092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75112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725560" y="4630680"/>
              <a:ext cx="51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04640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4033800" y="46306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535464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342040" y="46306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64992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843200" y="464328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757600" y="46432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052880" y="464328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361120" y="46432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328760" y="449100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3546360" y="5261040"/>
              <a:ext cx="29196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532320" y="5261040"/>
              <a:ext cx="2916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V="1">
              <a:off x="361476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374184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3546360" y="519732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3546360" y="4791240"/>
              <a:ext cx="29196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532320" y="4791240"/>
              <a:ext cx="29160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3532320" y="5197320"/>
              <a:ext cx="2916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842000" y="5261040"/>
              <a:ext cx="3042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827600" y="5261040"/>
              <a:ext cx="30456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V="1">
              <a:off x="492300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 flipV="1">
              <a:off x="504972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842000" y="5197320"/>
              <a:ext cx="2790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09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09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842000" y="4791240"/>
              <a:ext cx="30420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827600" y="4791240"/>
              <a:ext cx="3045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827600" y="5197320"/>
              <a:ext cx="3045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6149880" y="5261040"/>
              <a:ext cx="30492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136200" y="5261040"/>
              <a:ext cx="3038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V="1">
              <a:off x="623088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V="1">
              <a:off x="635796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149880" y="5197320"/>
              <a:ext cx="2790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09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09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149880" y="4791240"/>
              <a:ext cx="30492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6136200" y="4791240"/>
              <a:ext cx="3038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6136200" y="5197320"/>
              <a:ext cx="3038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V="1">
              <a:off x="4694400" y="56912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 flipV="1">
              <a:off x="5011560" y="5678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H="1">
              <a:off x="4687560" y="6002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708440" y="555948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702320" y="5553000"/>
              <a:ext cx="3294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695120" y="5559480"/>
              <a:ext cx="31608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688640" y="5553000"/>
              <a:ext cx="3290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 flipV="1">
              <a:off x="6002280" y="56912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 flipV="1">
              <a:off x="6319800" y="5678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6008760" y="60022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6016680" y="555948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010200" y="5553000"/>
              <a:ext cx="3301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6002640" y="5559480"/>
              <a:ext cx="3168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996160" y="5553000"/>
              <a:ext cx="3297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174760" y="5261040"/>
              <a:ext cx="29196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2160720" y="5261040"/>
              <a:ext cx="2916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 flipV="1">
              <a:off x="224316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 flipV="1">
              <a:off x="237024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2174760" y="519732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174760" y="4791240"/>
              <a:ext cx="29196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2160720" y="4791240"/>
              <a:ext cx="29160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160720" y="5197320"/>
              <a:ext cx="2916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35796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706896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6364440" y="5430960"/>
              <a:ext cx="69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367812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615456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78296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374184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46580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452840" y="5418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65800" y="543708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3747960" y="5430960"/>
              <a:ext cx="71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471920" y="6256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770360" y="6243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789440" y="625644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782960" y="61358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154560" y="61358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498636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02784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04972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77368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748480" y="541800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773680" y="54370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056200" y="5430960"/>
              <a:ext cx="71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780160" y="61293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29460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92300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846680" y="54370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4853160" y="54309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23088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154560" y="54370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6161040" y="543096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224316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243160" y="543708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027160" y="5888160"/>
              <a:ext cx="469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1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29460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92300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361476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37024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294600" y="613584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164040" y="63831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3602160" y="6370560"/>
              <a:ext cx="37800" cy="38160"/>
            </a:xfrm>
            <a:prstGeom prst="rect">
              <a:avLst/>
            </a:prstGeom>
            <a:solidFill>
              <a:srgbClr val="d500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621240" y="638316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910040" y="6370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929120" y="638316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4923000" y="613584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614760" y="543708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15756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3144960" y="541800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157560" y="543708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2376360" y="543096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30652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367812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498636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29460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30652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7056360" y="421164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inary coun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c between registers (not just multiplex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OR decides when bit should be togg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for low-order bi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when first bit is true for second bi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o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113C-A5B0-4FEC-93EA-871C551F387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6" name=""/>
          <p:cNvGrpSpPr/>
          <p:nvPr/>
        </p:nvGrpSpPr>
        <p:grpSpPr>
          <a:xfrm>
            <a:off x="7342200" y="2844720"/>
            <a:ext cx="1467000" cy="2178000"/>
            <a:chOff x="7342200" y="2844720"/>
            <a:chExt cx="1467000" cy="2178000"/>
          </a:xfrm>
        </p:grpSpPr>
        <p:sp>
          <p:nvSpPr>
            <p:cNvPr id="2337" name=""/>
            <p:cNvSpPr/>
            <p:nvPr/>
          </p:nvSpPr>
          <p:spPr>
            <a:xfrm>
              <a:off x="7647120" y="2939760"/>
              <a:ext cx="774720" cy="208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br>
                <a:rPr sz="1400"/>
              </a:b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7589880" y="2844720"/>
              <a:ext cx="1028880" cy="2120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589880" y="4431960"/>
              <a:ext cx="6372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 flipV="1">
              <a:off x="7589880" y="4495320"/>
              <a:ext cx="637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7399440" y="4235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7399440" y="3956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8631360" y="4451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399440" y="3778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8631360" y="42735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7399440" y="3600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8631360" y="40957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399440" y="4502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399440" y="47685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8631360" y="3904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399440" y="3409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342200" y="3549600"/>
              <a:ext cx="129564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D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C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B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863136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7399440" y="3041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5" name=""/>
          <p:cNvSpPr/>
          <p:nvPr/>
        </p:nvSpPr>
        <p:spPr>
          <a:xfrm>
            <a:off x="385920" y="4071960"/>
            <a:ext cx="4457520" cy="264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6" name="" descr=""/>
          <p:cNvPicPr/>
          <p:nvPr/>
        </p:nvPicPr>
        <p:blipFill>
          <a:blip r:embed="rId1"/>
          <a:stretch/>
        </p:blipFill>
        <p:spPr>
          <a:xfrm>
            <a:off x="385920" y="4071960"/>
            <a:ext cx="4444920" cy="2628720"/>
          </a:xfrm>
          <a:prstGeom prst="rect">
            <a:avLst/>
          </a:prstGeom>
          <a:ln w="0">
            <a:noFill/>
          </a:ln>
        </p:spPr>
      </p:pic>
      <p:sp>
        <p:nvSpPr>
          <p:cNvPr id="2357" name=""/>
          <p:cNvSpPr/>
          <p:nvPr/>
        </p:nvSpPr>
        <p:spPr>
          <a:xfrm>
            <a:off x="157320" y="6497640"/>
            <a:ext cx="476244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5237280" y="5811840"/>
            <a:ext cx="24382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1) Low order 4-bits = 1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5249880" y="3932280"/>
            <a:ext cx="2197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2) RCO goes 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5211720" y="4960800"/>
            <a:ext cx="19558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3) High order 4-bit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 incremen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4494240" y="5665680"/>
            <a:ext cx="139680" cy="838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 flipV="1">
            <a:off x="4633920" y="5958000"/>
            <a:ext cx="584280" cy="126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flipV="1">
            <a:off x="4786200" y="5106960"/>
            <a:ext cx="419040" cy="393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 flipV="1">
            <a:off x="4659480" y="4103280"/>
            <a:ext cx="558720" cy="54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ur-bit binary synchronous up-coun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component with many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edge-triggered FFs w/ synchronous load and clear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load data from D, C, B,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inputs: must be asserted to enable 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O: ripple-carry out used for cascading 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when counter is in its highest state 11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ed using an AND 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B8C0-D8CD-46FD-B1FD-54BC30645B9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7" name=""/>
          <p:cNvGrpSpPr/>
          <p:nvPr/>
        </p:nvGrpSpPr>
        <p:grpSpPr>
          <a:xfrm>
            <a:off x="6608880" y="4238640"/>
            <a:ext cx="2380680" cy="2108160"/>
            <a:chOff x="6608880" y="4238640"/>
            <a:chExt cx="2380680" cy="2108160"/>
          </a:xfrm>
        </p:grpSpPr>
        <p:sp>
          <p:nvSpPr>
            <p:cNvPr id="2368" name=""/>
            <p:cNvSpPr/>
            <p:nvPr/>
          </p:nvSpPr>
          <p:spPr>
            <a:xfrm>
              <a:off x="7065720" y="4384440"/>
              <a:ext cx="1028520" cy="18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091280" y="4244760"/>
              <a:ext cx="81216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7084800" y="4238640"/>
              <a:ext cx="825120" cy="19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7084800" y="5749920"/>
              <a:ext cx="630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V="1">
              <a:off x="7084800" y="5800320"/>
              <a:ext cx="6300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6945120" y="560376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6945120" y="537516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7897680" y="53751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6945120" y="523548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7897680" y="523548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6945120" y="509580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932520" y="4524120"/>
              <a:ext cx="12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897680" y="509580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945120" y="580680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945120" y="602280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7897680" y="494352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6945120" y="494352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6875280" y="4600440"/>
              <a:ext cx="10281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7897680" y="472752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608880" y="4384440"/>
              <a:ext cx="46944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8043840" y="49496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V="1">
              <a:off x="8043840" y="521604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 flipV="1">
              <a:off x="8043840" y="531756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8983440" y="517824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H="1">
              <a:off x="6932520" y="6340320"/>
              <a:ext cx="205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V="1">
              <a:off x="6938640" y="60292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8049960" y="500688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049960" y="51084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049960" y="522288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049960" y="53244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02240" y="5114880"/>
              <a:ext cx="12672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V="1">
              <a:off x="8202240" y="5216040"/>
              <a:ext cx="1267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8196120" y="511488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8342280" y="5216400"/>
              <a:ext cx="37440" cy="38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8557920" y="503208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8557920" y="5298840"/>
              <a:ext cx="22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V="1">
              <a:off x="8551800" y="502596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8551800" y="49622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8679600" y="5046480"/>
              <a:ext cx="22680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8673120" y="5040000"/>
              <a:ext cx="239760" cy="27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679240" y="5032440"/>
              <a:ext cx="22716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8672760" y="5038920"/>
              <a:ext cx="24012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8088120" y="5222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443800" y="5006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8088120" y="5006880"/>
              <a:ext cx="34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8443800" y="510840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8088120" y="5108400"/>
              <a:ext cx="34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8393040" y="5222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8443800" y="5222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8443800" y="532440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8088120" y="5324400"/>
              <a:ext cx="34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8913600" y="5172120"/>
              <a:ext cx="6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0" name=""/>
          <p:cNvGrpSpPr/>
          <p:nvPr/>
        </p:nvGrpSpPr>
        <p:grpSpPr>
          <a:xfrm>
            <a:off x="7085160" y="1606680"/>
            <a:ext cx="1675800" cy="2221920"/>
            <a:chOff x="7085160" y="1606680"/>
            <a:chExt cx="1675800" cy="2221920"/>
          </a:xfrm>
        </p:grpSpPr>
        <p:sp>
          <p:nvSpPr>
            <p:cNvPr id="2421" name=""/>
            <p:cNvSpPr/>
            <p:nvPr/>
          </p:nvSpPr>
          <p:spPr>
            <a:xfrm>
              <a:off x="7637400" y="1612800"/>
              <a:ext cx="812520" cy="19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7630920" y="1606680"/>
              <a:ext cx="838080" cy="199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7630920" y="3168720"/>
              <a:ext cx="50400" cy="5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 flipV="1">
              <a:off x="7630920" y="3219480"/>
              <a:ext cx="5040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7478640" y="30099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7478640" y="27813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8456400" y="27813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7478640" y="262872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456400" y="262872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7478640" y="248904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7466040" y="18921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8456400" y="248904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7478640" y="322560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7478640" y="344160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8456400" y="23367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7478640" y="23367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8456400" y="21207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8609040" y="21207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8754840" y="2127240"/>
              <a:ext cx="0" cy="167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 flipH="1">
              <a:off x="7694640" y="3822480"/>
              <a:ext cx="106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 flipH="1">
              <a:off x="7085160" y="3822480"/>
              <a:ext cx="79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 flipV="1">
              <a:off x="7091280" y="3003480"/>
              <a:ext cx="0" cy="82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097760" y="300996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192800" y="3340080"/>
              <a:ext cx="57132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624800" y="1803240"/>
              <a:ext cx="990000" cy="18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7434360" y="2006640"/>
              <a:ext cx="990000" cy="10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7180200" y="1803240"/>
              <a:ext cx="45684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8" name=""/>
          <p:cNvSpPr/>
          <p:nvPr/>
        </p:nvSpPr>
        <p:spPr>
          <a:xfrm flipH="1">
            <a:off x="5321160" y="2328840"/>
            <a:ext cx="1555920" cy="260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 flipH="1" flipV="1">
            <a:off x="4997160" y="4475160"/>
            <a:ext cx="1368360" cy="603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ffset count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offset counters – use of synchronous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0110, 0111, 1000, 1001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0, 1011, 1100, 1101, 1111, 0110, . . 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ing offset counter – comparator for ending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0000, 0001, 0010, ..., 1100, 1101, 0000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s of the above (start and stop va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EF4B-997D-4333-A7A4-00F63917ACB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 and 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ip-fl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clocks - timing of stat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vs. synchro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 coun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7E04-A27C-4484-B731-E0E586E4063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"/>
          <p:cNvSpPr/>
          <p:nvPr/>
        </p:nvSpPr>
        <p:spPr>
          <a:xfrm>
            <a:off x="2743200" y="2668680"/>
            <a:ext cx="38862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ule dff (clk, d, q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put  clk, d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lip-flop in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always block's sensitivity list to wait for clock 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B048-A611-4EE2-98EA-54E74D7DE47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5486400" y="2471760"/>
            <a:ext cx="2540160" cy="1643040"/>
            <a:chOff x="5486400" y="2471760"/>
            <a:chExt cx="2540160" cy="164304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5588280" y="2471760"/>
              <a:ext cx="212076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486400" y="270036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86400" y="365292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81960" y="2789280"/>
              <a:ext cx="228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07520" y="3576960"/>
              <a:ext cx="4190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600200" y="2700360"/>
            <a:ext cx="3238560" cy="1219320"/>
            <a:chOff x="1600200" y="2700360"/>
            <a:chExt cx="3238560" cy="1219320"/>
          </a:xfrm>
        </p:grpSpPr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1676160" y="2700360"/>
              <a:ext cx="316260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1600200" y="322092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12800" y="352584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76360" y="3005280"/>
              <a:ext cx="228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752480" y="5062680"/>
            <a:ext cx="3238560" cy="1231920"/>
            <a:chOff x="1752480" y="5062680"/>
            <a:chExt cx="3238560" cy="1231920"/>
          </a:xfrm>
        </p:grpSpPr>
        <p:pic>
          <p:nvPicPr>
            <p:cNvPr id="171" name="" descr=""/>
            <p:cNvPicPr/>
            <p:nvPr/>
          </p:nvPicPr>
          <p:blipFill>
            <a:blip r:embed="rId3"/>
            <a:stretch/>
          </p:blipFill>
          <p:spPr>
            <a:xfrm>
              <a:off x="1828440" y="5062680"/>
              <a:ext cx="316260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752480" y="5900760"/>
              <a:ext cx="457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65080" y="5596200"/>
              <a:ext cx="3682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28640" y="5367600"/>
              <a:ext cx="228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562720" y="4910040"/>
            <a:ext cx="2501640" cy="1643040"/>
            <a:chOff x="5562720" y="4910040"/>
            <a:chExt cx="2501640" cy="1643040"/>
          </a:xfrm>
        </p:grpSpPr>
        <p:pic>
          <p:nvPicPr>
            <p:cNvPr id="176" name="" descr=""/>
            <p:cNvPicPr/>
            <p:nvPr/>
          </p:nvPicPr>
          <p:blipFill>
            <a:blip r:embed="rId4"/>
            <a:stretch/>
          </p:blipFill>
          <p:spPr>
            <a:xfrm>
              <a:off x="5638680" y="4910040"/>
              <a:ext cx="212112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7620120" y="5214600"/>
              <a:ext cx="228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45320" y="6002280"/>
              <a:ext cx="4190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62720" y="5138640"/>
              <a:ext cx="3682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62720" y="6116400"/>
              <a:ext cx="457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mory with cross-coupled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94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0000"/>
          </a:bodyPr>
          <a:p>
            <a:pPr marL="312840" indent="-312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ss-coupled NOR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99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inverter pair, with capability to force output to 0 (reset=1) or 1 (set=1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ss-coupled NAND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99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inverter pair, with capability to force output to 0 (reset=0) or 1 (set=0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BA78-6A2C-4C8F-A3E9-9CB40A6D22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"/>
          <p:cNvSpPr/>
          <p:nvPr/>
        </p:nvSpPr>
        <p:spPr>
          <a:xfrm>
            <a:off x="685800" y="3476520"/>
            <a:ext cx="440676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dff (clk, s, r, d, q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put  clk, s, r, d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r)      q = 1'b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 if (s) q = 1'b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        q = 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4863960" y="3476520"/>
            <a:ext cx="4407120" cy="31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dff (clk, s, r, d, q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put  clk, s, r, d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r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 = 1'b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s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 = 1'b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nchronous/asynchronous reset/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thread that waits for the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parallel threads – only one of which waits for the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>
            <a:off x="1509840" y="2894040"/>
            <a:ext cx="1809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Synchron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5243040" y="2894040"/>
            <a:ext cx="1966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0000"/>
                </a:solidFill>
                <a:latin typeface="Arial"/>
              </a:rPr>
              <a:t>Asynchron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359D-F690-44FA-98FB-DD7BF6AF94A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"/>
          <p:cNvSpPr/>
          <p:nvPr/>
        </p:nvSpPr>
        <p:spPr>
          <a:xfrm>
            <a:off x="1752480" y="2668680"/>
            <a:ext cx="38862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ule dff (clk, d, q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put  clk, d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ways @(clk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ncorrect Flip-flop in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always block's sensitivity list to wait for clock t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 flipH="1">
            <a:off x="4113360" y="3886200"/>
            <a:ext cx="144936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5616720" y="3440160"/>
            <a:ext cx="18903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Not correct!  Q w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change whenever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clock changes, 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just on an ed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B583-131B-4248-8667-1171D9594D6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"/>
          <p:cNvSpPr/>
          <p:nvPr/>
        </p:nvSpPr>
        <p:spPr>
          <a:xfrm>
            <a:off x="2666880" y="4292640"/>
            <a:ext cx="2362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mp 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 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 = temp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5638680" y="4292640"/>
            <a:ext cx="2362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 &lt;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 &lt;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locking and Non-Blocking Assignmen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91520" cy="2210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5000"/>
          </a:bodyPr>
          <a:p>
            <a:pPr marL="330120" indent="-330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cking assignments (X=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s the assignment before continuing on to next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blocking assignments (X&lt;=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s in zero time and doesn’t change the value of the target until a blocking point (delay/wait) is encoun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sw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D4E4-A6EB-493A-836D-87F29909A3B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"/>
          <p:cNvSpPr/>
          <p:nvPr/>
        </p:nvSpPr>
        <p:spPr>
          <a:xfrm>
            <a:off x="533520" y="3219480"/>
            <a:ext cx="3719520" cy="167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4343400" y="4648320"/>
            <a:ext cx="4038480" cy="1676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ister-transfer-level (RTL)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blocking assignment is also known as an RTL ass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used in an always block triggered by a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flip-flops change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609480" y="3284640"/>
            <a:ext cx="4572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B,C,D all get the value of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B 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C 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D = C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4419720" y="4724280"/>
            <a:ext cx="4190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implements a shift register to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B &lt;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C &lt;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D &lt;= C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726A-6F0F-4A9E-A5D2-4C9CD1978E4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bius Counter in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457200"/>
                <a:tab algn="l" pos="914400"/>
                <a:tab algn="l" pos="137016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A = 1’b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B = 1’b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C = 1’b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D = 1’b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end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A &lt;= ~D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B &lt;= A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C &lt;= B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D &lt;= C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28FC-D181-46CB-8C4C-08FAF86214F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inary Counter in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448920" y="1620720"/>
            <a:ext cx="4637160" cy="476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440" bIns="46440" anchor="t">
            <a:normAutofit/>
          </a:bodyPr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dule binary_counter (clk, c8, c4, c2, c1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put  clk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utput c8, c4, c2, c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g [3:0] cou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 = 0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ways @(posedge clk) beg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 = count + 4’b0001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8 = count[3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4 = count[2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2 = count[1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1 = count[0]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4218120" y="2147760"/>
            <a:ext cx="4802040" cy="434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dule binary_counter (clk, c8, c4, c2, c1, rco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put  clk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utput c8, c4, c2, c1, rc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g [3:0] count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g rc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ial begin . . . end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ways @(posedge clk) begin . . .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8 = count[3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4 = count[2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2 = count[1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1 = count[0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rco = (count == 4b’1111)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C71B-2691-470A-9D75-B9E4BB582D5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amental building block of circuits with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ch and flip-f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-S latch, R-S master/slave, D master/slave, edge-triggered D flip-f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 method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c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caded FFs work because propagation delays exceed hold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ware of clock sk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inputs and their dan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er failure: what it is and how to minimize its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 and 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5DAF-3416-4C17-92DE-089B82AFD7A8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4267080"/>
            <a:ext cx="7518240" cy="21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7720" y="4813200"/>
            <a:ext cx="647640" cy="1536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75240" y="4826160"/>
            <a:ext cx="11941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rcRect l="5377" t="0" r="0" b="0"/>
          <a:stretch/>
        </p:blipFill>
        <p:spPr>
          <a:xfrm>
            <a:off x="1089000" y="4267080"/>
            <a:ext cx="7102440" cy="20955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562040" y="4152960"/>
            <a:ext cx="838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66880" y="4140360"/>
            <a:ext cx="648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200664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11240" y="4476600"/>
            <a:ext cx="36828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97720" y="4738320"/>
            <a:ext cx="379080" cy="38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9" y="4727"/>
                </a:moveTo>
                <a:arcTo wR="10800" hR="10800" stAng="-8747058" swAng="1906410"/>
                <a:lnTo>
                  <a:pt x="10800" y="10800"/>
                </a:lnTo>
                <a:close/>
              </a:path>
              <a:path fill="none" w="21600" h="21600">
                <a:moveTo>
                  <a:pt x="1869" y="4727"/>
                </a:moveTo>
                <a:arcTo wR="10800" hR="10800" stAng="-8747058" swAng="190641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73080" y="4476600"/>
            <a:ext cx="152640" cy="96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53640" y="5259240"/>
            <a:ext cx="381960" cy="38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42" y="1105"/>
                </a:moveTo>
                <a:arcTo wR="10800" hR="10800" stAng="-6968344" swAng="1910979"/>
                <a:lnTo>
                  <a:pt x="10800" y="10800"/>
                </a:lnTo>
                <a:close/>
              </a:path>
              <a:path fill="none" w="21600" h="21600">
                <a:moveTo>
                  <a:pt x="6042" y="1105"/>
                </a:moveTo>
                <a:arcTo wR="10800" hR="10800" stAng="-6968344" swAng="1910979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40120" y="4476600"/>
            <a:ext cx="177840" cy="55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47320" y="4853160"/>
            <a:ext cx="38232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25" y="1940"/>
                </a:moveTo>
                <a:arcTo wR="10800" hR="10800" stAng="-7492520" swAng="1892212"/>
                <a:lnTo>
                  <a:pt x="10800" y="10800"/>
                </a:lnTo>
                <a:close/>
              </a:path>
              <a:path fill="none" w="21600" h="21600">
                <a:moveTo>
                  <a:pt x="4625" y="1940"/>
                </a:moveTo>
                <a:arcTo wR="10800" hR="10800" stAng="-7492520" swAng="1892212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40120" y="4502160"/>
            <a:ext cx="7596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45080" y="5234040"/>
            <a:ext cx="383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774" y="779"/>
                </a:moveTo>
                <a:arcTo wR="10800" hR="10800" stAng="-6713373" swAng="1885796"/>
                <a:lnTo>
                  <a:pt x="10800" y="10800"/>
                </a:lnTo>
                <a:close/>
              </a:path>
              <a:path fill="none" w="21600" h="21600">
                <a:moveTo>
                  <a:pt x="6774" y="779"/>
                </a:moveTo>
                <a:arcTo wR="10800" hR="10800" stAng="-6713373" swAng="1885796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16360" y="4502160"/>
            <a:ext cx="6336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8720" y="5145120"/>
            <a:ext cx="383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81" y="736"/>
                </a:moveTo>
                <a:arcTo wR="10800" hR="10800" stAng="-6676498" swAng="1910158"/>
                <a:lnTo>
                  <a:pt x="10800" y="10800"/>
                </a:lnTo>
                <a:close/>
              </a:path>
              <a:path fill="none" w="21600" h="21600">
                <a:moveTo>
                  <a:pt x="6881" y="736"/>
                </a:moveTo>
                <a:arcTo wR="10800" hR="10800" stAng="-6676498" swAng="1910158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663720" y="4502160"/>
            <a:ext cx="1522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92720" y="4853880"/>
            <a:ext cx="380880" cy="37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98" y="317"/>
                </a:moveTo>
                <a:arcTo wR="10800" hR="10800" stAng="-4564742" swAng="1905185"/>
                <a:lnTo>
                  <a:pt x="10800" y="10800"/>
                </a:lnTo>
                <a:close/>
              </a:path>
              <a:path fill="none" w="21600" h="21600">
                <a:moveTo>
                  <a:pt x="13398" y="317"/>
                </a:moveTo>
                <a:arcTo wR="10800" hR="10800" stAng="-4564742" swAng="190518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793760" y="4514760"/>
            <a:ext cx="38124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23120" y="5260320"/>
            <a:ext cx="379800" cy="379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875" y="54"/>
                </a:moveTo>
                <a:arcTo wR="10800" hR="10800" stAng="-5057365" swAng="1909731"/>
                <a:lnTo>
                  <a:pt x="10800" y="10800"/>
                </a:lnTo>
                <a:close/>
              </a:path>
              <a:path fill="none" w="21600" h="21600">
                <a:moveTo>
                  <a:pt x="11875" y="54"/>
                </a:moveTo>
                <a:arcTo wR="10800" hR="10800" stAng="-5057365" swAng="190973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781520" y="4502160"/>
            <a:ext cx="39384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10520" y="4739040"/>
            <a:ext cx="379800" cy="37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303" y="984"/>
                </a:moveTo>
                <a:arcTo wR="10800" hR="10800" stAng="-3921500" swAng="1916012"/>
                <a:lnTo>
                  <a:pt x="10800" y="10800"/>
                </a:lnTo>
                <a:close/>
              </a:path>
              <a:path fill="none" w="21600" h="21600">
                <a:moveTo>
                  <a:pt x="15303" y="984"/>
                </a:moveTo>
                <a:arcTo wR="10800" hR="10800" stAng="-3921500" swAng="1916012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46680" y="4502160"/>
            <a:ext cx="330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95360" y="4853520"/>
            <a:ext cx="375480" cy="37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772" y="3575"/>
                </a:moveTo>
                <a:arcTo wR="10800" hR="10800" stAng="-8280767" swAng="1900605"/>
                <a:lnTo>
                  <a:pt x="10800" y="10800"/>
                </a:lnTo>
                <a:close/>
              </a:path>
              <a:path fill="none" w="21600" h="21600">
                <a:moveTo>
                  <a:pt x="2772" y="3575"/>
                </a:moveTo>
                <a:arcTo wR="10800" hR="10800" stAng="-8280767" swAng="190060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21480" y="4476600"/>
            <a:ext cx="17784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29040" y="5145120"/>
            <a:ext cx="38088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509" y="1385"/>
                </a:moveTo>
                <a:arcTo wR="10800" hR="10800" stAng="-7159910" swAng="1931655"/>
                <a:lnTo>
                  <a:pt x="10800" y="10800"/>
                </a:lnTo>
                <a:close/>
              </a:path>
              <a:path fill="none" w="21600" h="21600">
                <a:moveTo>
                  <a:pt x="5509" y="1385"/>
                </a:moveTo>
                <a:arcTo wR="10800" hR="10800" stAng="-7159910" swAng="193165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714800" y="4502160"/>
            <a:ext cx="584280" cy="11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43080" y="5501520"/>
            <a:ext cx="381960" cy="37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90" y="149"/>
                </a:moveTo>
                <a:arcTo wR="10800" hR="10800" stAng="-4827578" swAng="1925590"/>
                <a:lnTo>
                  <a:pt x="10800" y="10800"/>
                </a:lnTo>
                <a:close/>
              </a:path>
              <a:path fill="none" w="21600" h="21600">
                <a:moveTo>
                  <a:pt x="12590" y="149"/>
                </a:moveTo>
                <a:arcTo wR="10800" hR="10800" stAng="-4827578" swAng="192559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905600" y="4502160"/>
            <a:ext cx="39384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34960" y="5907600"/>
            <a:ext cx="379440" cy="38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143" y="257"/>
                </a:moveTo>
                <a:arcTo wR="10800" hR="10800" stAng="-4648271" swAng="1927930"/>
                <a:lnTo>
                  <a:pt x="10800" y="10800"/>
                </a:lnTo>
                <a:close/>
              </a:path>
              <a:path fill="none" w="21600" h="21600">
                <a:moveTo>
                  <a:pt x="13143" y="257"/>
                </a:moveTo>
                <a:arcTo wR="10800" hR="10800" stAng="-4648271" swAng="192793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17920" y="4152960"/>
            <a:ext cx="647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200664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48240" y="4152960"/>
            <a:ext cx="647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200664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73520" y="4152960"/>
            <a:ext cx="838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924680" y="4140360"/>
            <a:ext cx="838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81160" y="4724280"/>
            <a:ext cx="57132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34040" y="4216320"/>
            <a:ext cx="507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56200" y="4216320"/>
            <a:ext cx="838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ing behavi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733920" y="1523880"/>
            <a:ext cx="2539440" cy="1643040"/>
            <a:chOff x="3733920" y="1523880"/>
            <a:chExt cx="2539440" cy="1643040"/>
          </a:xfrm>
        </p:grpSpPr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3835440" y="1523880"/>
              <a:ext cx="212040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3733920" y="175248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33920" y="270504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29120" y="1841400"/>
              <a:ext cx="228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54680" y="2629080"/>
              <a:ext cx="4186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4734-F0BF-4C47-9A4B-7EFDCB73F39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1371600" y="2819520"/>
            <a:ext cx="2146320" cy="1803240"/>
            <a:chOff x="1371600" y="2819520"/>
            <a:chExt cx="2146320" cy="1803240"/>
          </a:xfrm>
        </p:grpSpPr>
        <p:sp>
          <p:nvSpPr>
            <p:cNvPr id="228" name=""/>
            <p:cNvSpPr/>
            <p:nvPr/>
          </p:nvSpPr>
          <p:spPr>
            <a:xfrm>
              <a:off x="1396800" y="2819520"/>
              <a:ext cx="2121120" cy="18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ol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uns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1371600" y="2869920"/>
              <a:ext cx="2057400" cy="1409400"/>
              <a:chOff x="1371600" y="2869920"/>
              <a:chExt cx="2057400" cy="1409400"/>
            </a:xfrm>
          </p:grpSpPr>
          <p:sp>
            <p:nvSpPr>
              <p:cNvPr id="230" name=""/>
              <p:cNvSpPr/>
              <p:nvPr/>
            </p:nvSpPr>
            <p:spPr>
              <a:xfrm>
                <a:off x="2247840" y="2869920"/>
                <a:ext cx="0" cy="1409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371600" y="3136320"/>
                <a:ext cx="2057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behavior or R-S latch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 of R-S latch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648320" y="2057400"/>
            <a:ext cx="3504600" cy="3962520"/>
            <a:chOff x="4648320" y="2057400"/>
            <a:chExt cx="3504600" cy="3962520"/>
          </a:xfrm>
        </p:grpSpPr>
        <p:sp>
          <p:nvSpPr>
            <p:cNvPr id="235" name=""/>
            <p:cNvSpPr/>
            <p:nvPr/>
          </p:nvSpPr>
          <p:spPr>
            <a:xfrm>
              <a:off x="4724280" y="22096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67480" y="22096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95880" y="35812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95880" y="54100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48320" y="205740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91160" y="205740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20258400">
              <a:off x="6019560" y="342864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19560" y="525780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7570800" y="485640"/>
            <a:ext cx="1386000" cy="897120"/>
            <a:chOff x="7570800" y="485640"/>
            <a:chExt cx="1386000" cy="897120"/>
          </a:xfrm>
        </p:grpSpPr>
        <p:pic>
          <p:nvPicPr>
            <p:cNvPr id="244" name="" descr=""/>
            <p:cNvPicPr/>
            <p:nvPr/>
          </p:nvPicPr>
          <p:blipFill>
            <a:blip r:embed="rId1"/>
            <a:stretch/>
          </p:blipFill>
          <p:spPr>
            <a:xfrm>
              <a:off x="7626240" y="485640"/>
              <a:ext cx="11570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7570800" y="6102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70800" y="11304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714160" y="658800"/>
              <a:ext cx="12456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728200" y="1089000"/>
              <a:ext cx="2286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B8A8-4F46-47C6-A87B-F26EF447F6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heoretical R-S latch behavi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358128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2000"/>
          </a:bodyPr>
          <a:p>
            <a:pPr marL="319680" indent="-319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possible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s: chang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4343400" y="2362320"/>
            <a:ext cx="3505320" cy="3961800"/>
            <a:chOff x="4343400" y="2362320"/>
            <a:chExt cx="3505320" cy="3961800"/>
          </a:xfrm>
        </p:grpSpPr>
        <p:sp>
          <p:nvSpPr>
            <p:cNvPr id="252" name=""/>
            <p:cNvSpPr/>
            <p:nvPr/>
          </p:nvSpPr>
          <p:spPr>
            <a:xfrm>
              <a:off x="4419720" y="25142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62920" y="25142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91320" y="38858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91320" y="57146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43400" y="236232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86600" y="236232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20258400">
              <a:off x="5714640" y="373320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15000" y="556236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240240" y="4465080"/>
            <a:ext cx="1290960" cy="1208160"/>
            <a:chOff x="6240240" y="4465080"/>
            <a:chExt cx="1290960" cy="1208160"/>
          </a:xfrm>
        </p:grpSpPr>
        <p:sp>
          <p:nvSpPr>
            <p:cNvPr id="261" name=""/>
            <p:cNvSpPr/>
            <p:nvPr/>
          </p:nvSpPr>
          <p:spPr>
            <a:xfrm>
              <a:off x="6324480" y="4724280"/>
              <a:ext cx="120672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2" name=""/>
            <p:cNvCxnSpPr>
              <a:stCxn id="259" idx="7"/>
              <a:endCxn id="258" idx="4"/>
            </p:cNvCxnSpPr>
            <p:nvPr/>
          </p:nvCxnSpPr>
          <p:spPr>
            <a:xfrm flipV="1" rot="16200000">
              <a:off x="5698800" y="5006160"/>
              <a:ext cx="1208520" cy="126000"/>
            </a:xfrm>
            <a:prstGeom prst="curvedConnector5">
              <a:avLst>
                <a:gd name="adj1" fmla="val 48480"/>
                <a:gd name="adj2" fmla="val 49856"/>
                <a:gd name="adj3" fmla="val 4848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3" name=""/>
          <p:cNvGrpSpPr/>
          <p:nvPr/>
        </p:nvGrpSpPr>
        <p:grpSpPr>
          <a:xfrm>
            <a:off x="4724280" y="4465440"/>
            <a:ext cx="1223640" cy="1208160"/>
            <a:chOff x="4724280" y="4465440"/>
            <a:chExt cx="1223640" cy="1208160"/>
          </a:xfrm>
        </p:grpSpPr>
        <p:sp>
          <p:nvSpPr>
            <p:cNvPr id="264" name=""/>
            <p:cNvSpPr/>
            <p:nvPr/>
          </p:nvSpPr>
          <p:spPr>
            <a:xfrm>
              <a:off x="4724280" y="4876560"/>
              <a:ext cx="1155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3"/>
              <a:endCxn id="259" idx="1"/>
            </p:cNvCxnSpPr>
            <p:nvPr/>
          </p:nvCxnSpPr>
          <p:spPr>
            <a:xfrm rot="5400000">
              <a:off x="5282640" y="5008680"/>
              <a:ext cx="1208520" cy="122400"/>
            </a:xfrm>
            <a:prstGeom prst="curvedConnector5">
              <a:avLst>
                <a:gd name="adj1" fmla="val 51370"/>
                <a:gd name="adj2" fmla="val 49852"/>
                <a:gd name="adj3" fmla="val 5137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6" name=""/>
          <p:cNvGrpSpPr/>
          <p:nvPr/>
        </p:nvGrpSpPr>
        <p:grpSpPr>
          <a:xfrm>
            <a:off x="4993920" y="1905120"/>
            <a:ext cx="2203920" cy="570240"/>
            <a:chOff x="4993920" y="1905120"/>
            <a:chExt cx="2203920" cy="570240"/>
          </a:xfrm>
        </p:grpSpPr>
        <p:sp>
          <p:nvSpPr>
            <p:cNvPr id="267" name=""/>
            <p:cNvSpPr/>
            <p:nvPr/>
          </p:nvSpPr>
          <p:spPr>
            <a:xfrm>
              <a:off x="5562720" y="1905120"/>
              <a:ext cx="1003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6" idx="7"/>
              <a:endCxn id="257" idx="1"/>
            </p:cNvCxnSpPr>
            <p:nvPr/>
          </p:nvCxnSpPr>
          <p:spPr>
            <a:xfrm flipH="1" rot="16200000">
              <a:off x="6095160" y="1372320"/>
              <a:ext cx="2160" cy="2204280"/>
            </a:xfrm>
            <a:prstGeom prst="curvedConnector5">
              <a:avLst>
                <a:gd name="adj1" fmla="val -21400000"/>
                <a:gd name="adj2" fmla="val 50000"/>
                <a:gd name="adj3" fmla="val -21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9" name=""/>
          <p:cNvGrpSpPr/>
          <p:nvPr/>
        </p:nvGrpSpPr>
        <p:grpSpPr>
          <a:xfrm>
            <a:off x="5104800" y="2514600"/>
            <a:ext cx="1981440" cy="304920"/>
            <a:chOff x="5104800" y="2514600"/>
            <a:chExt cx="1981440" cy="304920"/>
          </a:xfrm>
        </p:grpSpPr>
        <p:sp>
          <p:nvSpPr>
            <p:cNvPr id="270" name=""/>
            <p:cNvSpPr/>
            <p:nvPr/>
          </p:nvSpPr>
          <p:spPr>
            <a:xfrm>
              <a:off x="5562720" y="2514600"/>
              <a:ext cx="110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1" name=""/>
            <p:cNvCxnSpPr>
              <a:stCxn id="257" idx="2"/>
              <a:endCxn id="256" idx="6"/>
            </p:cNvCxnSpPr>
            <p:nvPr/>
          </p:nvCxnSpPr>
          <p:spPr>
            <a:xfrm rot="10800000">
              <a:off x="5104800" y="2742480"/>
              <a:ext cx="198180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2" name=""/>
          <p:cNvGrpSpPr/>
          <p:nvPr/>
        </p:nvGrpSpPr>
        <p:grpSpPr>
          <a:xfrm>
            <a:off x="7466760" y="2133000"/>
            <a:ext cx="1753560" cy="609840"/>
            <a:chOff x="7466760" y="2133000"/>
            <a:chExt cx="1753560" cy="609840"/>
          </a:xfrm>
        </p:grpSpPr>
        <p:sp>
          <p:nvSpPr>
            <p:cNvPr id="273" name=""/>
            <p:cNvSpPr/>
            <p:nvPr/>
          </p:nvSpPr>
          <p:spPr>
            <a:xfrm>
              <a:off x="8153280" y="2209680"/>
              <a:ext cx="10670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57" idx="6"/>
              <a:endCxn id="257" idx="0"/>
            </p:cNvCxnSpPr>
            <p:nvPr/>
          </p:nvCxnSpPr>
          <p:spPr>
            <a:xfrm flipH="1" flipV="1">
              <a:off x="7466760" y="2361600"/>
              <a:ext cx="381960" cy="381600"/>
            </a:xfrm>
            <a:prstGeom prst="curvedConnector5">
              <a:avLst>
                <a:gd name="adj1" fmla="val -60000"/>
                <a:gd name="adj2" fmla="val 79981"/>
                <a:gd name="adj3" fmla="val -6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5" name=""/>
          <p:cNvGrpSpPr/>
          <p:nvPr/>
        </p:nvGrpSpPr>
        <p:grpSpPr>
          <a:xfrm>
            <a:off x="2971800" y="2133000"/>
            <a:ext cx="1752840" cy="609840"/>
            <a:chOff x="2971800" y="2133000"/>
            <a:chExt cx="1752840" cy="609840"/>
          </a:xfrm>
        </p:grpSpPr>
        <p:sp>
          <p:nvSpPr>
            <p:cNvPr id="276" name=""/>
            <p:cNvSpPr/>
            <p:nvPr/>
          </p:nvSpPr>
          <p:spPr>
            <a:xfrm>
              <a:off x="2971800" y="2209680"/>
              <a:ext cx="1079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7" name=""/>
            <p:cNvCxnSpPr>
              <a:stCxn id="256" idx="2"/>
              <a:endCxn id="256" idx="0"/>
            </p:cNvCxnSpPr>
            <p:nvPr/>
          </p:nvCxnSpPr>
          <p:spPr>
            <a:xfrm flipH="1" rot="10800000">
              <a:off x="4343040" y="2361240"/>
              <a:ext cx="381600" cy="381600"/>
            </a:xfrm>
            <a:prstGeom prst="curvedConnector5">
              <a:avLst>
                <a:gd name="adj1" fmla="val -59962"/>
                <a:gd name="adj2" fmla="val 79981"/>
                <a:gd name="adj3" fmla="val -5996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8" name=""/>
          <p:cNvGrpSpPr/>
          <p:nvPr/>
        </p:nvGrpSpPr>
        <p:grpSpPr>
          <a:xfrm>
            <a:off x="4343400" y="3123720"/>
            <a:ext cx="1399320" cy="1448280"/>
            <a:chOff x="4343400" y="3123720"/>
            <a:chExt cx="1399320" cy="1448280"/>
          </a:xfrm>
        </p:grpSpPr>
        <p:sp>
          <p:nvSpPr>
            <p:cNvPr id="279" name=""/>
            <p:cNvSpPr/>
            <p:nvPr/>
          </p:nvSpPr>
          <p:spPr>
            <a:xfrm>
              <a:off x="4343400" y="4267080"/>
              <a:ext cx="1181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0" name=""/>
            <p:cNvCxnSpPr/>
            <p:nvPr/>
          </p:nvCxnSpPr>
          <p:spPr>
            <a:xfrm flipH="1" rot="16200000">
              <a:off x="4665240" y="3181680"/>
              <a:ext cx="1135800" cy="10198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1" name=""/>
          <p:cNvGrpSpPr/>
          <p:nvPr/>
        </p:nvGrpSpPr>
        <p:grpSpPr>
          <a:xfrm>
            <a:off x="6476400" y="3158640"/>
            <a:ext cx="1219680" cy="1413360"/>
            <a:chOff x="6476400" y="3158640"/>
            <a:chExt cx="1219680" cy="1413360"/>
          </a:xfrm>
        </p:grpSpPr>
        <p:sp>
          <p:nvSpPr>
            <p:cNvPr id="282" name=""/>
            <p:cNvSpPr/>
            <p:nvPr/>
          </p:nvSpPr>
          <p:spPr>
            <a:xfrm>
              <a:off x="6692760" y="4267080"/>
              <a:ext cx="1003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3" name=""/>
            <p:cNvCxnSpPr/>
            <p:nvPr/>
          </p:nvCxnSpPr>
          <p:spPr>
            <a:xfrm rot="5400000">
              <a:off x="6418440" y="3216600"/>
              <a:ext cx="1135800" cy="10198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4" name=""/>
          <p:cNvGrpSpPr/>
          <p:nvPr/>
        </p:nvGrpSpPr>
        <p:grpSpPr>
          <a:xfrm>
            <a:off x="3809880" y="3012840"/>
            <a:ext cx="4584960" cy="2930760"/>
            <a:chOff x="3809880" y="3012840"/>
            <a:chExt cx="4584960" cy="2930760"/>
          </a:xfrm>
        </p:grpSpPr>
        <p:sp>
          <p:nvSpPr>
            <p:cNvPr id="285" name=""/>
            <p:cNvSpPr/>
            <p:nvPr/>
          </p:nvSpPr>
          <p:spPr>
            <a:xfrm>
              <a:off x="7315200" y="5181480"/>
              <a:ext cx="1079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09880" y="5105520"/>
              <a:ext cx="1117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7" name=""/>
            <p:cNvCxnSpPr/>
            <p:nvPr/>
          </p:nvCxnSpPr>
          <p:spPr>
            <a:xfrm rot="10800000">
              <a:off x="4453920" y="3012480"/>
              <a:ext cx="1261080" cy="29311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6476760" y="3012840"/>
              <a:ext cx="1261080" cy="29311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9" name=""/>
          <p:cNvGrpSpPr/>
          <p:nvPr/>
        </p:nvGrpSpPr>
        <p:grpSpPr>
          <a:xfrm>
            <a:off x="4993560" y="3012840"/>
            <a:ext cx="2232720" cy="989280"/>
            <a:chOff x="4993560" y="3012840"/>
            <a:chExt cx="2232720" cy="989280"/>
          </a:xfrm>
        </p:grpSpPr>
        <p:sp>
          <p:nvSpPr>
            <p:cNvPr id="290" name=""/>
            <p:cNvSpPr/>
            <p:nvPr/>
          </p:nvSpPr>
          <p:spPr>
            <a:xfrm>
              <a:off x="5143680" y="3048120"/>
              <a:ext cx="1257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43600" y="3048120"/>
              <a:ext cx="1155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2" name=""/>
            <p:cNvCxnSpPr/>
            <p:nvPr/>
          </p:nvCxnSpPr>
          <p:spPr>
            <a:xfrm flipV="1" rot="16200000">
              <a:off x="4891320" y="3115080"/>
              <a:ext cx="954720" cy="749880"/>
            </a:xfrm>
            <a:prstGeom prst="curvedConnector5">
              <a:avLst>
                <a:gd name="adj1" fmla="val 62542"/>
                <a:gd name="adj2" fmla="val 50000"/>
                <a:gd name="adj3" fmla="val 6254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3" name=""/>
            <p:cNvCxnSpPr/>
            <p:nvPr/>
          </p:nvCxnSpPr>
          <p:spPr>
            <a:xfrm flipH="1" flipV="1" rot="5400000">
              <a:off x="6374160" y="3150000"/>
              <a:ext cx="954720" cy="749880"/>
            </a:xfrm>
            <a:prstGeom prst="curvedConnector5">
              <a:avLst>
                <a:gd name="adj1" fmla="val 62542"/>
                <a:gd name="adj2" fmla="val 50000"/>
                <a:gd name="adj3" fmla="val 6254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4" name=""/>
          <p:cNvGrpSpPr/>
          <p:nvPr/>
        </p:nvGrpSpPr>
        <p:grpSpPr>
          <a:xfrm>
            <a:off x="5562720" y="3337200"/>
            <a:ext cx="1104840" cy="426600"/>
            <a:chOff x="5562720" y="3337200"/>
            <a:chExt cx="1104840" cy="426600"/>
          </a:xfrm>
        </p:grpSpPr>
        <p:sp>
          <p:nvSpPr>
            <p:cNvPr id="295" name=""/>
            <p:cNvSpPr/>
            <p:nvPr/>
          </p:nvSpPr>
          <p:spPr>
            <a:xfrm>
              <a:off x="5562720" y="3429000"/>
              <a:ext cx="110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6" name=""/>
            <p:cNvCxnSpPr>
              <a:stCxn id="258" idx="0"/>
              <a:endCxn id="258" idx="7"/>
            </p:cNvCxnSpPr>
            <p:nvPr/>
          </p:nvCxnSpPr>
          <p:spPr>
            <a:xfrm flipH="1" rot="16200000">
              <a:off x="6095160" y="3616560"/>
              <a:ext cx="2160" cy="292680"/>
            </a:xfrm>
            <a:prstGeom prst="curvedConnector5">
              <a:avLst>
                <a:gd name="adj1" fmla="val -23600000"/>
                <a:gd name="adj2" fmla="val 50000"/>
                <a:gd name="adj3" fmla="val -23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7" name=""/>
          <p:cNvGrpSpPr/>
          <p:nvPr/>
        </p:nvGrpSpPr>
        <p:grpSpPr>
          <a:xfrm>
            <a:off x="1315440" y="4495680"/>
            <a:ext cx="5085360" cy="1889640"/>
            <a:chOff x="1315440" y="4495680"/>
            <a:chExt cx="5085360" cy="1889640"/>
          </a:xfrm>
        </p:grpSpPr>
        <p:sp>
          <p:nvSpPr>
            <p:cNvPr id="298" name=""/>
            <p:cNvSpPr/>
            <p:nvPr/>
          </p:nvSpPr>
          <p:spPr>
            <a:xfrm>
              <a:off x="1315440" y="5563440"/>
              <a:ext cx="26204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possible oscillation</a:t>
              </a:r>
              <a:br>
                <a:rPr sz="1600"/>
              </a:b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etween states 00 and 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67280" y="4495680"/>
              <a:ext cx="457200" cy="1372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48520" y="502956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5791320" y="502884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570800" y="485640"/>
            <a:ext cx="1386000" cy="897120"/>
            <a:chOff x="7570800" y="485640"/>
            <a:chExt cx="1386000" cy="89712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7626240" y="485640"/>
              <a:ext cx="11570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7570800" y="6102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70800" y="11304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714160" y="658800"/>
              <a:ext cx="12456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728200" y="1089000"/>
              <a:ext cx="2286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8BE7-0F6C-48D5-9010-036AD9CDB59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bserved R-S latch behavi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y difficult to observe R-S latch in the 1-1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R or S usually changes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mbiguously returns to state 0-1 or 1-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o-called "race conditio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non-deterministic tran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133720" y="4577760"/>
            <a:ext cx="4965480" cy="1981800"/>
            <a:chOff x="2133720" y="4577760"/>
            <a:chExt cx="4965480" cy="1981800"/>
          </a:xfrm>
        </p:grpSpPr>
        <p:sp>
          <p:nvSpPr>
            <p:cNvPr id="311" name=""/>
            <p:cNvSpPr/>
            <p:nvPr/>
          </p:nvSpPr>
          <p:spPr>
            <a:xfrm>
              <a:off x="6019920" y="6254640"/>
              <a:ext cx="1079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133720" y="6178680"/>
              <a:ext cx="1117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>
              <a:stCxn id="314" idx="3"/>
            </p:cNvCxnSpPr>
            <p:nvPr/>
          </p:nvCxnSpPr>
          <p:spPr>
            <a:xfrm flipV="1" rot="16200000">
              <a:off x="3026880" y="4556880"/>
              <a:ext cx="1453320" cy="1494720"/>
            </a:xfrm>
            <a:prstGeom prst="curvedConnector5">
              <a:avLst>
                <a:gd name="adj1" fmla="val -25768"/>
                <a:gd name="adj2" fmla="val 52902"/>
                <a:gd name="adj3" fmla="val -25768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5" name=""/>
            <p:cNvCxnSpPr>
              <a:stCxn id="314" idx="4"/>
            </p:cNvCxnSpPr>
            <p:nvPr/>
          </p:nvCxnSpPr>
          <p:spPr>
            <a:xfrm flipH="1" flipV="1" rot="5400000">
              <a:off x="4814640" y="4555800"/>
              <a:ext cx="1453320" cy="1497600"/>
            </a:xfrm>
            <a:prstGeom prst="curvedConnector5">
              <a:avLst>
                <a:gd name="adj1" fmla="val -25768"/>
                <a:gd name="adj2" fmla="val 53594"/>
                <a:gd name="adj3" fmla="val -25768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16" name=""/>
          <p:cNvGrpSpPr/>
          <p:nvPr/>
        </p:nvGrpSpPr>
        <p:grpSpPr>
          <a:xfrm>
            <a:off x="1523880" y="3470400"/>
            <a:ext cx="6248160" cy="2706840"/>
            <a:chOff x="1523880" y="3470400"/>
            <a:chExt cx="6248160" cy="2706840"/>
          </a:xfrm>
        </p:grpSpPr>
        <p:sp>
          <p:nvSpPr>
            <p:cNvPr id="317" name=""/>
            <p:cNvSpPr/>
            <p:nvPr/>
          </p:nvSpPr>
          <p:spPr>
            <a:xfrm>
              <a:off x="2971800" y="407988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715000" y="407988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43400" y="545148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895480" y="392760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38680" y="392760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20258400">
              <a:off x="4266720" y="529884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3546000" y="3470400"/>
              <a:ext cx="2203920" cy="570240"/>
              <a:chOff x="3546000" y="3470400"/>
              <a:chExt cx="2203920" cy="570240"/>
            </a:xfrm>
          </p:grpSpPr>
          <p:sp>
            <p:nvSpPr>
              <p:cNvPr id="323" name=""/>
              <p:cNvSpPr/>
              <p:nvPr/>
            </p:nvSpPr>
            <p:spPr>
              <a:xfrm>
                <a:off x="4114800" y="3470400"/>
                <a:ext cx="1003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24" name=""/>
              <p:cNvCxnSpPr>
                <a:stCxn id="320" idx="7"/>
                <a:endCxn id="321" idx="1"/>
              </p:cNvCxnSpPr>
              <p:nvPr/>
            </p:nvCxnSpPr>
            <p:spPr>
              <a:xfrm flipH="1" rot="16200000">
                <a:off x="4647240" y="2937600"/>
                <a:ext cx="2160" cy="2204280"/>
              </a:xfrm>
              <a:prstGeom prst="curvedConnector5">
                <a:avLst>
                  <a:gd name="adj1" fmla="val -21400000"/>
                  <a:gd name="adj2" fmla="val 50000"/>
                  <a:gd name="adj3" fmla="val -214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25" name=""/>
            <p:cNvGrpSpPr/>
            <p:nvPr/>
          </p:nvGrpSpPr>
          <p:grpSpPr>
            <a:xfrm>
              <a:off x="3656880" y="4079880"/>
              <a:ext cx="1981440" cy="304920"/>
              <a:chOff x="3656880" y="4079880"/>
              <a:chExt cx="1981440" cy="304920"/>
            </a:xfrm>
          </p:grpSpPr>
          <p:sp>
            <p:nvSpPr>
              <p:cNvPr id="326" name=""/>
              <p:cNvSpPr/>
              <p:nvPr/>
            </p:nvSpPr>
            <p:spPr>
              <a:xfrm>
                <a:off x="4114800" y="4079880"/>
                <a:ext cx="1104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27" name=""/>
              <p:cNvCxnSpPr>
                <a:stCxn id="321" idx="2"/>
                <a:endCxn id="320" idx="6"/>
              </p:cNvCxnSpPr>
              <p:nvPr/>
            </p:nvCxnSpPr>
            <p:spPr>
              <a:xfrm rot="10800000">
                <a:off x="3656880" y="4307760"/>
                <a:ext cx="1981800" cy="1080"/>
              </a:xfrm>
              <a:prstGeom prst="curved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28" name=""/>
            <p:cNvGrpSpPr/>
            <p:nvPr/>
          </p:nvGrpSpPr>
          <p:grpSpPr>
            <a:xfrm>
              <a:off x="6019560" y="3698280"/>
              <a:ext cx="1752480" cy="609840"/>
              <a:chOff x="6019560" y="3698280"/>
              <a:chExt cx="1752480" cy="609840"/>
            </a:xfrm>
          </p:grpSpPr>
          <p:sp>
            <p:nvSpPr>
              <p:cNvPr id="329" name=""/>
              <p:cNvSpPr/>
              <p:nvPr/>
            </p:nvSpPr>
            <p:spPr>
              <a:xfrm>
                <a:off x="6705360" y="3774960"/>
                <a:ext cx="106668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0" name=""/>
              <p:cNvCxnSpPr>
                <a:stCxn id="321" idx="6"/>
                <a:endCxn id="321" idx="0"/>
              </p:cNvCxnSpPr>
              <p:nvPr/>
            </p:nvCxnSpPr>
            <p:spPr>
              <a:xfrm flipH="1" flipV="1">
                <a:off x="6019560" y="3926880"/>
                <a:ext cx="381600" cy="381600"/>
              </a:xfrm>
              <a:prstGeom prst="curvedConnector5">
                <a:avLst>
                  <a:gd name="adj1" fmla="val -59962"/>
                  <a:gd name="adj2" fmla="val 79981"/>
                  <a:gd name="adj3" fmla="val -5996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31" name=""/>
            <p:cNvGrpSpPr/>
            <p:nvPr/>
          </p:nvGrpSpPr>
          <p:grpSpPr>
            <a:xfrm>
              <a:off x="1523880" y="3698280"/>
              <a:ext cx="1752840" cy="609840"/>
              <a:chOff x="1523880" y="3698280"/>
              <a:chExt cx="1752840" cy="609840"/>
            </a:xfrm>
          </p:grpSpPr>
          <p:sp>
            <p:nvSpPr>
              <p:cNvPr id="332" name=""/>
              <p:cNvSpPr/>
              <p:nvPr/>
            </p:nvSpPr>
            <p:spPr>
              <a:xfrm>
                <a:off x="1523880" y="3774960"/>
                <a:ext cx="107964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3" name=""/>
              <p:cNvCxnSpPr>
                <a:stCxn id="320" idx="2"/>
                <a:endCxn id="320" idx="0"/>
              </p:cNvCxnSpPr>
              <p:nvPr/>
            </p:nvCxnSpPr>
            <p:spPr>
              <a:xfrm flipH="1" rot="10800000">
                <a:off x="2895120" y="3926520"/>
                <a:ext cx="381600" cy="381600"/>
              </a:xfrm>
              <a:prstGeom prst="curvedConnector5">
                <a:avLst>
                  <a:gd name="adj1" fmla="val -59962"/>
                  <a:gd name="adj2" fmla="val 79981"/>
                  <a:gd name="adj3" fmla="val -5996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2895480" y="4689000"/>
              <a:ext cx="1399320" cy="1448280"/>
              <a:chOff x="2895480" y="4689000"/>
              <a:chExt cx="1399320" cy="1448280"/>
            </a:xfrm>
          </p:grpSpPr>
          <p:sp>
            <p:nvSpPr>
              <p:cNvPr id="335" name=""/>
              <p:cNvSpPr/>
              <p:nvPr/>
            </p:nvSpPr>
            <p:spPr>
              <a:xfrm>
                <a:off x="2895480" y="5832360"/>
                <a:ext cx="11811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6" name=""/>
              <p:cNvCxnSpPr/>
              <p:nvPr/>
            </p:nvCxnSpPr>
            <p:spPr>
              <a:xfrm flipH="1" rot="16200000">
                <a:off x="3217320" y="4746960"/>
                <a:ext cx="1135800" cy="1019880"/>
              </a:xfrm>
              <a:prstGeom prst="curved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37" name=""/>
            <p:cNvGrpSpPr/>
            <p:nvPr/>
          </p:nvGrpSpPr>
          <p:grpSpPr>
            <a:xfrm>
              <a:off x="5028480" y="4723920"/>
              <a:ext cx="1219680" cy="1413360"/>
              <a:chOff x="5028480" y="4723920"/>
              <a:chExt cx="1219680" cy="1413360"/>
            </a:xfrm>
          </p:grpSpPr>
          <p:sp>
            <p:nvSpPr>
              <p:cNvPr id="338" name=""/>
              <p:cNvSpPr/>
              <p:nvPr/>
            </p:nvSpPr>
            <p:spPr>
              <a:xfrm>
                <a:off x="5244840" y="5832360"/>
                <a:ext cx="1003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9" name=""/>
              <p:cNvCxnSpPr/>
              <p:nvPr/>
            </p:nvCxnSpPr>
            <p:spPr>
              <a:xfrm rot="5400000">
                <a:off x="4970520" y="4781880"/>
                <a:ext cx="1135800" cy="1019880"/>
              </a:xfrm>
              <a:prstGeom prst="curved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40" name=""/>
            <p:cNvGrpSpPr/>
            <p:nvPr/>
          </p:nvGrpSpPr>
          <p:grpSpPr>
            <a:xfrm>
              <a:off x="3545640" y="4578120"/>
              <a:ext cx="2232720" cy="989280"/>
              <a:chOff x="3545640" y="4578120"/>
              <a:chExt cx="2232720" cy="989280"/>
            </a:xfrm>
          </p:grpSpPr>
          <p:sp>
            <p:nvSpPr>
              <p:cNvPr id="341" name=""/>
              <p:cNvSpPr/>
              <p:nvPr/>
            </p:nvSpPr>
            <p:spPr>
              <a:xfrm>
                <a:off x="3695760" y="4613400"/>
                <a:ext cx="1257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495680" y="4613400"/>
                <a:ext cx="11556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43" name=""/>
              <p:cNvCxnSpPr/>
              <p:nvPr/>
            </p:nvCxnSpPr>
            <p:spPr>
              <a:xfrm flipV="1" rot="16200000">
                <a:off x="3443400" y="4680360"/>
                <a:ext cx="954720" cy="749880"/>
              </a:xfrm>
              <a:prstGeom prst="curvedConnector5">
                <a:avLst>
                  <a:gd name="adj1" fmla="val 62542"/>
                  <a:gd name="adj2" fmla="val 50000"/>
                  <a:gd name="adj3" fmla="val 6254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4" name=""/>
              <p:cNvCxnSpPr/>
              <p:nvPr/>
            </p:nvCxnSpPr>
            <p:spPr>
              <a:xfrm flipH="1" flipV="1" rot="5400000">
                <a:off x="4926240" y="4715280"/>
                <a:ext cx="954720" cy="749880"/>
              </a:xfrm>
              <a:prstGeom prst="curvedConnector5">
                <a:avLst>
                  <a:gd name="adj1" fmla="val 62542"/>
                  <a:gd name="adj2" fmla="val 50000"/>
                  <a:gd name="adj3" fmla="val 6254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45" name=""/>
            <p:cNvGrpSpPr/>
            <p:nvPr/>
          </p:nvGrpSpPr>
          <p:grpSpPr>
            <a:xfrm>
              <a:off x="4114800" y="4902480"/>
              <a:ext cx="1104840" cy="426600"/>
              <a:chOff x="4114800" y="4902480"/>
              <a:chExt cx="1104840" cy="426600"/>
            </a:xfrm>
          </p:grpSpPr>
          <p:sp>
            <p:nvSpPr>
              <p:cNvPr id="346" name=""/>
              <p:cNvSpPr/>
              <p:nvPr/>
            </p:nvSpPr>
            <p:spPr>
              <a:xfrm>
                <a:off x="4114800" y="4994280"/>
                <a:ext cx="11048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47" name=""/>
              <p:cNvCxnSpPr>
                <a:stCxn id="314" idx="0"/>
                <a:endCxn id="314" idx="7"/>
              </p:cNvCxnSpPr>
              <p:nvPr/>
            </p:nvCxnSpPr>
            <p:spPr>
              <a:xfrm flipH="1" rot="16200000">
                <a:off x="4647240" y="5181840"/>
                <a:ext cx="2160" cy="292680"/>
              </a:xfrm>
              <a:prstGeom prst="curvedConnector5">
                <a:avLst>
                  <a:gd name="adj1" fmla="val -23600000"/>
                  <a:gd name="adj2" fmla="val 50000"/>
                  <a:gd name="adj3" fmla="val -236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48" name=""/>
          <p:cNvGrpSpPr/>
          <p:nvPr/>
        </p:nvGrpSpPr>
        <p:grpSpPr>
          <a:xfrm>
            <a:off x="7570800" y="485640"/>
            <a:ext cx="1386000" cy="897120"/>
            <a:chOff x="7570800" y="485640"/>
            <a:chExt cx="1386000" cy="897120"/>
          </a:xfrm>
        </p:grpSpPr>
        <p:pic>
          <p:nvPicPr>
            <p:cNvPr id="349" name="" descr=""/>
            <p:cNvPicPr/>
            <p:nvPr/>
          </p:nvPicPr>
          <p:blipFill>
            <a:blip r:embed="rId1"/>
            <a:stretch/>
          </p:blipFill>
          <p:spPr>
            <a:xfrm>
              <a:off x="7626240" y="485640"/>
              <a:ext cx="11570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7570800" y="6102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570800" y="11304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714160" y="658800"/>
              <a:ext cx="12456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728200" y="1089000"/>
              <a:ext cx="2286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4DAC-678F-4946-83C6-47B5B7AF040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55:38Z</dcterms:created>
  <dc:creator>Gaetano Borriello</dc:creator>
  <dc:description/>
  <dc:language>en-US</dc:language>
  <cp:lastModifiedBy>Gaetano Borriello</cp:lastModifiedBy>
  <cp:lastPrinted>2000-05-11T18:59:43Z</cp:lastPrinted>
  <dcterms:modified xsi:type="dcterms:W3CDTF">2005-01-24T07:00:37Z</dcterms:modified>
  <cp:revision>33</cp:revision>
  <dc:subject/>
  <dc:title>Sequential log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