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193-10F9-4ED0-BE56-AE1D0669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94E-142B-494A-A924-AFA2A2D1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C04-816B-4AF4-AE3D-51E9A898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751-3F1F-4075-BBEB-76E6C72F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1638-A05B-4054-B517-50926EF0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DCFA-AC22-46B0-820E-155430E0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141F-5DB9-4755-809A-0AE36604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64FB-F7F6-4A45-9E71-10FFF655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F920-EF0E-46B1-8FBD-792F8E95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A784-588F-4543-AEAE-8181CA8A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696E-CFD5-43C7-BF3E-A4DDD6B9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6A7-690C-4531-98F3-5515DAAB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5852-239F-4604-B628-77EF577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6ACE-4E4B-47E1-9825-F618D238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1F06-CDFF-4B01-A7D8-53813734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0FB8-547E-4C8E-847D-CB48A8F5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27B6-52BC-43B2-A7DA-3A6D86F9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072-B9ED-4284-8E33-AE219C36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5FA-9073-4D76-A318-5D861B2D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870-1AEE-45D9-B2AB-7F563663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699-C904-4866-B57B-5BF983A6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E42-11E3-4ED5-9940-F295090D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45F-E9C6-494D-90D6-6951936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DBC-6BF3-4E4D-8717-27481DA2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6400800"/>
            <a:ext cx="398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776B-63ED-4127-99B4-3A984451A4E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C133-412C-43AE-A04B-FA6AC442572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study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vious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is part of the CS/Comp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implementation basis for all modern computing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large things from sma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model of how a computer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important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herent parallelism in hardware is often our first exposure to paralle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ffers an interesting counterpoint to software design and is therefo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in furthering our understanding of computation, 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E14-6636-49CA-AE6A-C398FBE4862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92600" y="2873520"/>
            <a:ext cx="4070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 switch (if A is “1” or 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n light bulb (Z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924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26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533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2600" y="4554360"/>
            <a:ext cx="407052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switch (if A is “0” or un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ff light bulb 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: basic element of physical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ing a simple circuit (arrow shows action if wire changes to “1”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11400" y="5734080"/>
            <a:ext cx="877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143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95480" y="360036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219320" y="36003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21932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1431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23720" y="2592360"/>
            <a:ext cx="762480" cy="550800"/>
            <a:chOff x="3123720" y="2592360"/>
            <a:chExt cx="762480" cy="550800"/>
          </a:xfrm>
        </p:grpSpPr>
        <p:sp>
          <p:nvSpPr>
            <p:cNvPr id="127" name=""/>
            <p:cNvSpPr/>
            <p:nvPr/>
          </p:nvSpPr>
          <p:spPr>
            <a:xfrm>
              <a:off x="3408120" y="27115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6360" y="25923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7360" y="27367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3000" y="272412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3760" y="271152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0320" y="282420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46360" y="281160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29000" y="305748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52840" y="304308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8120" y="269856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128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2372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52480" y="2914200"/>
            <a:ext cx="609840" cy="305280"/>
            <a:chOff x="1752480" y="2914200"/>
            <a:chExt cx="609840" cy="305280"/>
          </a:xfrm>
        </p:grpSpPr>
        <p:sp>
          <p:nvSpPr>
            <p:cNvPr id="140" name=""/>
            <p:cNvSpPr/>
            <p:nvPr/>
          </p:nvSpPr>
          <p:spPr>
            <a:xfrm flipH="1" flipV="1">
              <a:off x="1905120" y="29142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14600" y="3371760"/>
            <a:ext cx="380880" cy="457200"/>
            <a:chOff x="2514600" y="3371760"/>
            <a:chExt cx="380880" cy="457200"/>
          </a:xfrm>
        </p:grpSpPr>
        <p:sp>
          <p:nvSpPr>
            <p:cNvPr id="144" name=""/>
            <p:cNvSpPr/>
            <p:nvPr/>
          </p:nvSpPr>
          <p:spPr>
            <a:xfrm>
              <a:off x="289548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92400" y="429264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4340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81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480" y="5276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9320" y="527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1932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81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23720" y="4268880"/>
            <a:ext cx="762480" cy="550800"/>
            <a:chOff x="3123720" y="4268880"/>
            <a:chExt cx="762480" cy="550800"/>
          </a:xfrm>
        </p:grpSpPr>
        <p:sp>
          <p:nvSpPr>
            <p:cNvPr id="159" name=""/>
            <p:cNvSpPr/>
            <p:nvPr/>
          </p:nvSpPr>
          <p:spPr>
            <a:xfrm>
              <a:off x="3408120" y="43880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4268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7360" y="44132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000" y="440064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3760" y="438804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70320" y="450072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46360" y="448812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429000" y="473400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52840" y="471960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8120" y="437508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128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12372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52480" y="4743360"/>
            <a:ext cx="609840" cy="152280"/>
            <a:chOff x="1752480" y="4743360"/>
            <a:chExt cx="609840" cy="152280"/>
          </a:xfrm>
        </p:grpSpPr>
        <p:sp>
          <p:nvSpPr>
            <p:cNvPr id="172" name=""/>
            <p:cNvSpPr/>
            <p:nvPr/>
          </p:nvSpPr>
          <p:spPr>
            <a:xfrm flipH="1">
              <a:off x="1828800" y="4819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96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24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14600" y="5048280"/>
            <a:ext cx="380880" cy="457200"/>
            <a:chOff x="2514600" y="5048280"/>
            <a:chExt cx="380880" cy="457200"/>
          </a:xfrm>
        </p:grpSpPr>
        <p:sp>
          <p:nvSpPr>
            <p:cNvPr id="176" name=""/>
            <p:cNvSpPr/>
            <p:nvPr/>
          </p:nvSpPr>
          <p:spPr>
            <a:xfrm>
              <a:off x="289548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952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809880" y="4133880"/>
            <a:ext cx="55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76F-7843-473F-AC2F-23970C6016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0" y="2521080"/>
            <a:ext cx="90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6760" y="4376880"/>
            <a:ext cx="750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05280" y="2816280"/>
            <a:ext cx="2017080" cy="218880"/>
            <a:chOff x="3005280" y="2816280"/>
            <a:chExt cx="2017080" cy="218880"/>
          </a:xfrm>
        </p:grpSpPr>
        <p:sp>
          <p:nvSpPr>
            <p:cNvPr id="186" name=""/>
            <p:cNvSpPr/>
            <p:nvPr/>
          </p:nvSpPr>
          <p:spPr>
            <a:xfrm>
              <a:off x="30052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6360" y="2816280"/>
              <a:ext cx="32544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9440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45480" y="2816280"/>
              <a:ext cx="32580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838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30560" y="48783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89280" y="46594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95760" y="5105520"/>
            <a:ext cx="21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19680" y="5110200"/>
            <a:ext cx="325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57720" y="510552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78400" y="4646520"/>
            <a:ext cx="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244760" y="4653000"/>
            <a:ext cx="23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906360" y="4421160"/>
            <a:ext cx="3510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82800" y="465300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84520" y="4878360"/>
            <a:ext cx="4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036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8948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64040" y="41702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4040" y="52992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6680" y="2990880"/>
            <a:ext cx="1126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068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4000" y="2990880"/>
            <a:ext cx="1144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70360" y="4610160"/>
            <a:ext cx="1126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0360" y="5060880"/>
            <a:ext cx="1126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4000" y="5048280"/>
            <a:ext cx="1144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4000" y="4610160"/>
            <a:ext cx="1144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80080" y="2647800"/>
            <a:ext cx="15778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3840" y="4552920"/>
            <a:ext cx="14540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8520" y="2359080"/>
            <a:ext cx="5493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333520"/>
            <a:ext cx="550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925800"/>
            <a:ext cx="549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87920" y="549288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e switches into more complex ones (Boolean function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C57-BC03-43FE-8BE3-1270462EC4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ing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or not a conducting path exists to ligh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ght bu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uild larger compu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light bulb (output of the network) to set other switches (inputs to another networ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together switching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struct larger  switching networks, i.e., there is a way to connect outputs of one network to the inputs of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CEF-A9C7-4AEE-83EF-EBD1FBA5D3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62320" y="3139920"/>
            <a:ext cx="1466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uc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h comp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witch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38720" y="3228840"/>
            <a:ext cx="163080" cy="763200"/>
            <a:chOff x="5238720" y="3228840"/>
            <a:chExt cx="163080" cy="763200"/>
          </a:xfrm>
        </p:grpSpPr>
        <p:sp>
          <p:nvSpPr>
            <p:cNvPr id="225" name=""/>
            <p:cNvSpPr/>
            <p:nvPr/>
          </p:nvSpPr>
          <p:spPr>
            <a:xfrm>
              <a:off x="5238720" y="32288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8760" y="340380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38720" y="33411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88760" y="327852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8720" y="34664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8760" y="36417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8720" y="357912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88760" y="351648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8720" y="37040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88760" y="38793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38720" y="381708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8760" y="37544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46480" y="4307040"/>
            <a:ext cx="33955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flowing through coi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gnetizes core and causes norm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 (nc) contact to be pulled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30680" y="5092560"/>
            <a:ext cx="42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no current flows, the spring of the cont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it to its normal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lay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15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way to convert between conducting paths and switch settings is to use (electro-mechanical) rel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 relay?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etermines the switching speed of a relay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0" y="2838600"/>
            <a:ext cx="380880" cy="457200"/>
            <a:chOff x="4572000" y="2838600"/>
            <a:chExt cx="380880" cy="457200"/>
          </a:xfrm>
        </p:grpSpPr>
        <p:sp>
          <p:nvSpPr>
            <p:cNvPr id="242" name=""/>
            <p:cNvSpPr/>
            <p:nvPr/>
          </p:nvSpPr>
          <p:spPr>
            <a:xfrm>
              <a:off x="495288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692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832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067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38480" y="3067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5424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98160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038480" y="4057560"/>
            <a:ext cx="130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81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990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26859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914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2610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838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6859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089680" y="2330280"/>
            <a:ext cx="1484280" cy="1587240"/>
            <a:chOff x="5089680" y="2330280"/>
            <a:chExt cx="1484280" cy="1587240"/>
          </a:xfrm>
        </p:grpSpPr>
        <p:grpSp>
          <p:nvGrpSpPr>
            <p:cNvPr id="264" name=""/>
            <p:cNvGrpSpPr/>
            <p:nvPr/>
          </p:nvGrpSpPr>
          <p:grpSpPr>
            <a:xfrm>
              <a:off x="5245200" y="2330280"/>
              <a:ext cx="1328760" cy="914400"/>
              <a:chOff x="5245200" y="2330280"/>
              <a:chExt cx="1328760" cy="914400"/>
            </a:xfrm>
          </p:grpSpPr>
          <p:sp>
            <p:nvSpPr>
              <p:cNvPr id="265" name=""/>
              <p:cNvSpPr/>
              <p:nvPr/>
            </p:nvSpPr>
            <p:spPr>
              <a:xfrm>
                <a:off x="5245200" y="2330280"/>
                <a:ext cx="1328760" cy="91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84960" y="270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18120" y="26236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18120" y="2852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468040" y="2802960"/>
                <a:ext cx="643320" cy="254880"/>
                <a:chOff x="5468040" y="2802960"/>
                <a:chExt cx="643320" cy="25488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5514480" y="2934360"/>
                  <a:ext cx="59688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899200">
                  <a:off x="5489280" y="2815920"/>
                  <a:ext cx="15228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" name=""/>
            <p:cNvSpPr/>
            <p:nvPr/>
          </p:nvSpPr>
          <p:spPr>
            <a:xfrm>
              <a:off x="5089680" y="329688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350-D049-4F80-A074-7E30F04AB7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nsistor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ys aren't used much any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raffic light controllers are still electro-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digital systems are designed in CMOS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stands for Metal-Oxide on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s for complementary because there are both normally-open and normally-closed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act as voltage-controlled 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, though easier to work with than rel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5FC-91DD-44B1-954C-E202472FD5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6364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gt; voltage (S)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852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d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lt; voltage (S)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transis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have three terminals: drain, gate, and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as switches in the following wa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voltage on the gate terminal is (some amount) higher/lower than the source terminal then a conducting path will be established between the drain and source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350532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221000"/>
            <a:ext cx="325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70920" y="4221000"/>
            <a:ext cx="280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65480" y="347508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191120"/>
            <a:ext cx="32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08400" y="4191120"/>
            <a:ext cx="28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13040" y="3809520"/>
            <a:ext cx="1371600" cy="533880"/>
            <a:chOff x="1913040" y="3809520"/>
            <a:chExt cx="1371600" cy="533880"/>
          </a:xfrm>
        </p:grpSpPr>
        <p:sp>
          <p:nvSpPr>
            <p:cNvPr id="286" name=""/>
            <p:cNvSpPr/>
            <p:nvPr/>
          </p:nvSpPr>
          <p:spPr>
            <a:xfrm flipV="1">
              <a:off x="2370240" y="4114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024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27440" y="4114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274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70240" y="4038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598840" y="380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9130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875200" y="3839760"/>
            <a:ext cx="1371600" cy="533880"/>
            <a:chOff x="5875200" y="3839760"/>
            <a:chExt cx="1371600" cy="533880"/>
          </a:xfrm>
        </p:grpSpPr>
        <p:sp>
          <p:nvSpPr>
            <p:cNvPr id="294" name=""/>
            <p:cNvSpPr/>
            <p:nvPr/>
          </p:nvSpPr>
          <p:spPr>
            <a:xfrm flipV="1">
              <a:off x="6332400" y="4144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2400" y="4145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4145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96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2400" y="4068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561000" y="3839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752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0880" y="39434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212-232C-4D73-869D-3D35DA7FF3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124080" y="32004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1120" y="3048120"/>
            <a:ext cx="365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808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5080" y="213372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365760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251424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3745080"/>
            <a:ext cx="88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61080" y="357012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4400" y="3156120"/>
            <a:ext cx="0" cy="159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51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78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24440" y="422100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4255920"/>
            <a:ext cx="338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6280" y="2065320"/>
            <a:ext cx="21052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 and 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52480" y="3885840"/>
            <a:ext cx="1371600" cy="533880"/>
            <a:chOff x="1752480" y="3885840"/>
            <a:chExt cx="1371600" cy="533880"/>
          </a:xfrm>
        </p:grpSpPr>
        <p:sp>
          <p:nvSpPr>
            <p:cNvPr id="318" name=""/>
            <p:cNvSpPr/>
            <p:nvPr/>
          </p:nvSpPr>
          <p:spPr>
            <a:xfrm flipV="1">
              <a:off x="220968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41911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438280" y="38858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752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52480" y="2666520"/>
            <a:ext cx="1371600" cy="533880"/>
            <a:chOff x="1752480" y="2666520"/>
            <a:chExt cx="1371600" cy="533880"/>
          </a:xfrm>
        </p:grpSpPr>
        <p:sp>
          <p:nvSpPr>
            <p:cNvPr id="326" name=""/>
            <p:cNvSpPr/>
            <p:nvPr/>
          </p:nvSpPr>
          <p:spPr>
            <a:xfrm flipV="1">
              <a:off x="22096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09680" y="297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66880" y="2971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438280" y="2666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7524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78160" y="27702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8360" y="422604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73536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0080" y="3657600"/>
            <a:ext cx="89676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632-5AE9-4DAB-9589-4942A7EE744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834080" y="368604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37400" y="3335400"/>
            <a:ext cx="0" cy="220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324648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48440" y="324648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01000" y="325908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029200" y="3852720"/>
            <a:ext cx="1773360" cy="1730160"/>
            <a:chOff x="5029200" y="3852720"/>
            <a:chExt cx="1773360" cy="1730160"/>
          </a:xfrm>
        </p:grpSpPr>
        <p:sp>
          <p:nvSpPr>
            <p:cNvPr id="344" name=""/>
            <p:cNvSpPr/>
            <p:nvPr/>
          </p:nvSpPr>
          <p:spPr>
            <a:xfrm>
              <a:off x="5900760" y="3852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13360" y="429084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13360" y="4730400"/>
              <a:ext cx="889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13360" y="5168880"/>
              <a:ext cx="889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29200" y="38653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42955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29200" y="4725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1800" y="515772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121360" y="2081160"/>
            <a:ext cx="2305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, y and z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 input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"/>
          <p:cNvSpPr/>
          <p:nvPr/>
        </p:nvSpPr>
        <p:spPr>
          <a:xfrm>
            <a:off x="3659040" y="2124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800" y="1940040"/>
            <a:ext cx="365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9040" y="2962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44760" y="120960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38600" y="120960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67796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330984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92160" y="2962440"/>
            <a:ext cx="1371600" cy="533160"/>
            <a:chOff x="992160" y="2962440"/>
            <a:chExt cx="1371600" cy="533160"/>
          </a:xfrm>
        </p:grpSpPr>
        <p:sp>
          <p:nvSpPr>
            <p:cNvPr id="362" name=""/>
            <p:cNvSpPr/>
            <p:nvPr/>
          </p:nvSpPr>
          <p:spPr>
            <a:xfrm flipV="1">
              <a:off x="14493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936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65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65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936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67796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9921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92160" y="1590840"/>
            <a:ext cx="1371600" cy="533160"/>
            <a:chOff x="992160" y="1590840"/>
            <a:chExt cx="1371600" cy="533160"/>
          </a:xfrm>
        </p:grpSpPr>
        <p:sp>
          <p:nvSpPr>
            <p:cNvPr id="370" name=""/>
            <p:cNvSpPr/>
            <p:nvPr/>
          </p:nvSpPr>
          <p:spPr>
            <a:xfrm flipV="1">
              <a:off x="14493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9360" y="1895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065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65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9360" y="1819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77960" y="1590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9921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7840" y="1693800"/>
              <a:ext cx="114120" cy="113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7440" y="2962440"/>
            <a:ext cx="1371600" cy="533160"/>
            <a:chOff x="2287440" y="2962440"/>
            <a:chExt cx="1371600" cy="533160"/>
          </a:xfrm>
        </p:grpSpPr>
        <p:sp>
          <p:nvSpPr>
            <p:cNvPr id="379" name=""/>
            <p:cNvSpPr/>
            <p:nvPr/>
          </p:nvSpPr>
          <p:spPr>
            <a:xfrm flipV="1">
              <a:off x="27446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464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18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18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464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97324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2874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H="1">
            <a:off x="1144080" y="27338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287440" y="2124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97324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4440" y="2124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2560" y="2809800"/>
            <a:ext cx="363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87440" y="2199960"/>
            <a:ext cx="1371600" cy="533880"/>
            <a:chOff x="2287440" y="2199960"/>
            <a:chExt cx="1371600" cy="533880"/>
          </a:xfrm>
        </p:grpSpPr>
        <p:sp>
          <p:nvSpPr>
            <p:cNvPr id="392" name=""/>
            <p:cNvSpPr/>
            <p:nvPr/>
          </p:nvSpPr>
          <p:spPr>
            <a:xfrm flipV="1">
              <a:off x="2744640" y="2504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4640" y="2505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01840" y="2505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18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4640" y="2428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973240" y="2199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2874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13120" y="23036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68480" y="2048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3080" y="2657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3080" y="28861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9040" y="47912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800" y="4606920"/>
            <a:ext cx="365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9040" y="532440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44760" y="3876840"/>
            <a:ext cx="36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38600" y="3876840"/>
            <a:ext cx="36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77960" y="425736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597708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2160" y="5628960"/>
            <a:ext cx="1371600" cy="533880"/>
            <a:chOff x="992160" y="5628960"/>
            <a:chExt cx="1371600" cy="533880"/>
          </a:xfrm>
        </p:grpSpPr>
        <p:sp>
          <p:nvSpPr>
            <p:cNvPr id="411" name=""/>
            <p:cNvSpPr/>
            <p:nvPr/>
          </p:nvSpPr>
          <p:spPr>
            <a:xfrm flipV="1">
              <a:off x="1449360" y="5933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49360" y="5934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6560" y="593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065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9360" y="5857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677960" y="5628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9921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992160" y="4257360"/>
            <a:ext cx="1371600" cy="533880"/>
            <a:chOff x="992160" y="4257360"/>
            <a:chExt cx="1371600" cy="533880"/>
          </a:xfrm>
        </p:grpSpPr>
        <p:sp>
          <p:nvSpPr>
            <p:cNvPr id="419" name=""/>
            <p:cNvSpPr/>
            <p:nvPr/>
          </p:nvSpPr>
          <p:spPr>
            <a:xfrm flipV="1">
              <a:off x="144936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4936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656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65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936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7796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9921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1784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287440" y="5019840"/>
            <a:ext cx="1371600" cy="533160"/>
            <a:chOff x="2287440" y="5019840"/>
            <a:chExt cx="1371600" cy="533160"/>
          </a:xfrm>
        </p:grpSpPr>
        <p:sp>
          <p:nvSpPr>
            <p:cNvPr id="428" name=""/>
            <p:cNvSpPr/>
            <p:nvPr/>
          </p:nvSpPr>
          <p:spPr>
            <a:xfrm flipV="1">
              <a:off x="27446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4640" y="5324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18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018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4640" y="5248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973240" y="5019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74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1144080" y="555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87440" y="61628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3240" y="42577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44440" y="5553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2560" y="5172120"/>
            <a:ext cx="363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87440" y="4257360"/>
            <a:ext cx="1371600" cy="533880"/>
            <a:chOff x="2287440" y="4257360"/>
            <a:chExt cx="1371600" cy="533880"/>
          </a:xfrm>
        </p:grpSpPr>
        <p:sp>
          <p:nvSpPr>
            <p:cNvPr id="441" name=""/>
            <p:cNvSpPr/>
            <p:nvPr/>
          </p:nvSpPr>
          <p:spPr>
            <a:xfrm flipV="1">
              <a:off x="274464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464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184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18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464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7324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2874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1312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068480" y="6086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3080" y="5477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3080" y="52484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75640" y="38257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89680" y="42670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85000" y="47102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80320" y="51530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05880" y="38401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819920" y="42814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15240" y="47242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10560" y="51674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75640" y="55674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05880" y="55818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78800" y="3781440"/>
            <a:ext cx="1846080" cy="22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242-3A05-4FEB-85B7-0231A5C203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ed of 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nfluences the speed of CMOS networ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ing and discharging of voltages on wires and gates of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acitors hold ch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 is at gates of transistors and wir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stors slow movement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mostly due to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F9A-7746-4EA3-861B-2B8EA67D37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071800" y="2071800"/>
            <a:ext cx="4214880" cy="15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150800" y="3657600"/>
            <a:ext cx="2148120" cy="10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30960" y="3425760"/>
            <a:ext cx="22543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 of CSE 3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presentation of digital desig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Physical devices (transistors,  rel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-transfer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Concurrent abstract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BD4-CF28-4DDF-964A-BC6541C537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will we learn in this class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nguage of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algebra, logic minimization, state, timing,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pt of state in digit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variables and program counters in softwar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pecify/simulate/compile/realize our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to simulate the working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compilers to synthesize the hardware block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onto programmabl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st with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and paralle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algorithm as well as computing/storage resources it wi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239-D560-44B8-AD56-1ACDA27500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vs. ana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ient to think of digital systems as having on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, digital, input/output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real electronic components exhib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, analog,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we make the digital abstraction anyw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operate thi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think about a small number of discret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es it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propagate small errors i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sets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6E0-11FF-4A69-AC79-FE182030AF9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27040" y="1752480"/>
            <a:ext cx="811548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State 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St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y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Clo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OS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1.0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3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stor transistor logic (TTL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0.8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5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ber Opt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f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RA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harged capaci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ged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volatile memory (erasable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pped electr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trapped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R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blow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i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memo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agnetic bub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etic d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lux rever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ux re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ct dis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p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360" y="2128680"/>
            <a:ext cx="80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from physical world to binary worl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42E-BCFF-4881-AB33-54A180F645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651120" y="2655720"/>
            <a:ext cx="1301760" cy="95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874960" y="277488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874600" y="31021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87560" y="351648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74840" y="317016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74840" y="340848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74840" y="3295800"/>
            <a:ext cx="511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941720" y="27748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41720" y="3102120"/>
            <a:ext cx="76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351648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43400" y="317016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43400" y="340848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43400" y="3295800"/>
            <a:ext cx="4788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16280" y="2951280"/>
            <a:ext cx="8143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37120" y="2951280"/>
            <a:ext cx="101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94120" y="2963880"/>
            <a:ext cx="101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vs. sequential digit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model of a digital system is a unit with inputs and outp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means "memory-les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gital circuit is combinational if its output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epend on it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B17-9D95-4D74-9720-85EF2630B3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803240" y="4511520"/>
            <a:ext cx="690840" cy="3016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803240" y="5829480"/>
            <a:ext cx="690840" cy="276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3156120" y="4511520"/>
            <a:ext cx="750600" cy="301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3156120" y="5829480"/>
            <a:ext cx="750600" cy="276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1803240" y="3260880"/>
            <a:ext cx="438480" cy="249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3156120" y="3260880"/>
            <a:ext cx="501480" cy="2491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935520" y="3502080"/>
            <a:ext cx="2241360" cy="14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6400" y="4743360"/>
            <a:ext cx="2130480" cy="21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203720" y="4956120"/>
            <a:ext cx="1973160" cy="7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59680" y="4397400"/>
            <a:ext cx="2603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CMOS transis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switches we ha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and use m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ymbo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combinational logic systems have standard symbols called logic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, NO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NAN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360" y="3219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86800" y="4394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5360" y="460692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47000" y="4487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08840" y="579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75640" y="32180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3560" y="57056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82120" y="59180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56F-4468-40CE-9911-52C25B8F7C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ibit behaviors (output values) that depend not on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urrent input values, but also on previou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all real circuits are sequ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outputs do not change instantaneously after an inp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t, and why is it then sequent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undamental abstraction of digital design is to reason (mostly) about steady-st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outputs only after sufficient time has elapsed for the system to make its required changes and sett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466-688F-451F-B6E1-4FD6E07141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sequential digital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04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of a combinational circuit depend only on current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ufficient time has elap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circuits hav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waiting for the transient activity to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eady-state abstraction is so useful that most designers use a form of  it when constructing sequential circu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mory of a system is represented as its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system state are only allowed to occur at specific times controlled by an external periodic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ck period is the time that elapses between state changes it must be sufficiently long so that the system reaches a steady-state before the next state change at the end of th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C93-A88A-40F4-9657-C444ADC95C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207120" y="279720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54600" y="301608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4600" y="346716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08920" y="32418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86400" y="337356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290844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42080" y="3124080"/>
            <a:ext cx="55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651720" y="368604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65840" y="398304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04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of combinational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will stay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may b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6C9-2FBC-4696-AEDC-230BCBB7476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e've seen al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interpretation of analo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s log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 clock to realize a synchronous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thers we will s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s and Boolean algebra to represent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ignals with more than two logical values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 to represent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to represent digit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 to represent tempor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E57-D25F-4ED5-B44C-10605EEE87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endar subsystem: number of days in a month (to control watch displ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C7A-81AF-4AB6-8486-125A41FDCBD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2: if (leap_year_flag == 1) then return (29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else return (2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3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2E8-B675-4625-B4A3-FFEE4096F58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ications of logic desig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tional computer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s, busses, periph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ing and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s, modems,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bedd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rs, toys, appliances, entertainmen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, sensing,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ld of computing is much much bigger than just P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6B2-ABD6-43DE-84B5-0F7F1EE354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862360" y="4711680"/>
            <a:ext cx="14634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8124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95720" y="4280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3232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0660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768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9552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800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5116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3040" y="3965400"/>
            <a:ext cx="851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4040" y="3952800"/>
            <a:ext cx="105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76600" y="5997600"/>
            <a:ext cx="674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60720" y="5997600"/>
            <a:ext cx="67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40160" y="5997600"/>
            <a:ext cx="677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3120" y="5997600"/>
            <a:ext cx="676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258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48160" y="2104920"/>
            <a:ext cx="326232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432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9144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26040" y="2581200"/>
            <a:ext cx="359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27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75560" y="2362320"/>
            <a:ext cx="6120" cy="38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for each input/outp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wires for 28, 29, 30, and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E22-9BCE-4E3E-8C45-EB8D7AA984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056120" y="3738600"/>
            <a:ext cx="181080" cy="993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838600" y="3716280"/>
            <a:ext cx="560160" cy="113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160960" y="2525760"/>
            <a:ext cx="1274760" cy="95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90760" y="4884840"/>
            <a:ext cx="8254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97280" y="4782960"/>
            <a:ext cx="87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72080" y="2057400"/>
            <a:ext cx="774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-table to logic to switches to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1 when month=0010 and leap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m8'•m4'•m2•m1'•leap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1 when month=0001 or month=0011 or ... month=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(m8'•m4'•m2'•m1) + (m8'•m4'•m2•m1) + ... (m8•m4•m2'•m1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can we simplif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800600" y="3753000"/>
            <a:ext cx="4017960" cy="2728800"/>
            <a:chOff x="4800600" y="3753000"/>
            <a:chExt cx="4017960" cy="2728800"/>
          </a:xfrm>
        </p:grpSpPr>
        <p:sp>
          <p:nvSpPr>
            <p:cNvPr id="564" name=""/>
            <p:cNvSpPr/>
            <p:nvPr/>
          </p:nvSpPr>
          <p:spPr>
            <a:xfrm>
              <a:off x="5022720" y="3753000"/>
              <a:ext cx="3795840" cy="27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60020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4229280"/>
              <a:ext cx="359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0120" y="4010040"/>
              <a:ext cx="0" cy="24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1C4-BD99-4263-9558-AC547F98F3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= (m8'•m4•m1') + (m8•m4'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19584" t="70710" r="0" b="1012"/>
          <a:stretch/>
        </p:blipFill>
        <p:spPr>
          <a:xfrm>
            <a:off x="1430280" y="4927680"/>
            <a:ext cx="5996160" cy="15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453-DD15-455E-ABA8-5A9AB3B896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can we simplify d3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we started the months with 0 instead of 1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, January is 0000 and December is 1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223200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7 or less and odd (1, 3, 5, 7), 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8 or more and even (8, 10, 12, and includes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60560" y="299736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 is 0 and m1 is 1, or m8 is 1 and m1 is 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 + m8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68480" y="4772160"/>
            <a:ext cx="7234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complex expression (0, 2, 4, 6, 7, 9, 1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4’m2’m1’ + m8’m4’m2m1’ + m8’m4m2’m1’ + m8’m4m2m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m8’m4m2m1 + m8m4’m2’m1 + m8m4’m2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72360" y="574200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’ + m8’m4m2 + m8m1  (includes 13 and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68120" y="607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(d28 + d29 + d30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4360" y="2165400"/>
            <a:ext cx="8113680" cy="4257360"/>
            <a:chOff x="684360" y="2165400"/>
            <a:chExt cx="8113680" cy="4257360"/>
          </a:xfrm>
        </p:grpSpPr>
        <p:sp>
          <p:nvSpPr>
            <p:cNvPr id="578" name=""/>
            <p:cNvSpPr/>
            <p:nvPr/>
          </p:nvSpPr>
          <p:spPr>
            <a:xfrm>
              <a:off x="685800" y="2165400"/>
              <a:ext cx="811224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4360" y="4792680"/>
              <a:ext cx="811188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DAF-AE22-4A57-9781-C8CC248A9C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4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4651200"/>
            <a:ext cx="5289120" cy="1622160"/>
            <a:chOff x="1828800" y="4651200"/>
            <a:chExt cx="5289120" cy="1622160"/>
          </a:xfrm>
        </p:grpSpPr>
        <p:grpSp>
          <p:nvGrpSpPr>
            <p:cNvPr id="583" name=""/>
            <p:cNvGrpSpPr/>
            <p:nvPr/>
          </p:nvGrpSpPr>
          <p:grpSpPr>
            <a:xfrm>
              <a:off x="1828800" y="4651200"/>
              <a:ext cx="1491120" cy="1622160"/>
              <a:chOff x="1828800" y="4651200"/>
              <a:chExt cx="1491120" cy="162216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"/>
              <a:srcRect l="35650" t="78708" r="46228" b="1568"/>
              <a:stretch/>
            </p:blipFill>
            <p:spPr>
              <a:xfrm>
                <a:off x="1828800" y="4651200"/>
                <a:ext cx="149112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869120" y="6048720"/>
                <a:ext cx="589680" cy="17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86" name="" descr=""/>
            <p:cNvPicPr/>
            <p:nvPr/>
          </p:nvPicPr>
          <p:blipFill>
            <a:blip r:embed="rId2"/>
            <a:srcRect l="68283" t="51621" r="0" b="3414"/>
            <a:stretch/>
          </p:blipFill>
          <p:spPr>
            <a:xfrm>
              <a:off x="4557960" y="4701960"/>
              <a:ext cx="2559960" cy="14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263-03E9-4984-B1C6-97F23BFFD0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: must remember combin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lways have it available as a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083-8D71-4E59-88B1-1FA2B3B042B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9BF-D0D4-40A8-8E99-E3B4EFF2F45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051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 sequenti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represent the state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re tells us when it’s 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inpu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they have settled afte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sequence of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remember if an error oc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at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457960" y="3557520"/>
            <a:ext cx="3669840" cy="2442960"/>
            <a:chOff x="5457960" y="3557520"/>
            <a:chExt cx="3669840" cy="2442960"/>
          </a:xfrm>
        </p:grpSpPr>
        <p:sp>
          <p:nvSpPr>
            <p:cNvPr id="594" name=""/>
            <p:cNvSpPr/>
            <p:nvPr/>
          </p:nvSpPr>
          <p:spPr>
            <a:xfrm>
              <a:off x="6818040" y="4314600"/>
              <a:ext cx="18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532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98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264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9924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4996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77120" y="3568680"/>
              <a:ext cx="8506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13600" y="3557520"/>
              <a:ext cx="1213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7200" y="5600520"/>
              <a:ext cx="165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3600" y="5202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3728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86560" y="3568680"/>
              <a:ext cx="839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354720" y="4986360"/>
              <a:ext cx="46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57960" y="4809960"/>
              <a:ext cx="83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29200" y="489744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828840" y="497340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524720" y="4629240"/>
            <a:ext cx="7621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2BB-D899-4EFE-8540-4D928FCE2D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5052960" y="4204800"/>
            <a:ext cx="2468520" cy="1365480"/>
            <a:chOff x="5052960" y="4204800"/>
            <a:chExt cx="2468520" cy="1365480"/>
          </a:xfrm>
        </p:grpSpPr>
        <p:sp>
          <p:nvSpPr>
            <p:cNvPr id="612" name=""/>
            <p:cNvSpPr/>
            <p:nvPr/>
          </p:nvSpPr>
          <p:spPr>
            <a:xfrm>
              <a:off x="5560920" y="4711680"/>
              <a:ext cx="15033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052960" y="4204800"/>
              <a:ext cx="246852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632640" y="4204800"/>
            <a:ext cx="1671120" cy="1365480"/>
            <a:chOff x="6632640" y="4204800"/>
            <a:chExt cx="1671120" cy="1365480"/>
          </a:xfrm>
        </p:grpSpPr>
        <p:sp>
          <p:nvSpPr>
            <p:cNvPr id="615" name=""/>
            <p:cNvSpPr/>
            <p:nvPr/>
          </p:nvSpPr>
          <p:spPr>
            <a:xfrm>
              <a:off x="6802200" y="471168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632640" y="4204800"/>
              <a:ext cx="88884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677960" y="5415120"/>
            <a:ext cx="1108080" cy="338040"/>
            <a:chOff x="1677960" y="5415120"/>
            <a:chExt cx="1108080" cy="338040"/>
          </a:xfrm>
        </p:grpSpPr>
        <p:sp>
          <p:nvSpPr>
            <p:cNvPr id="618" name=""/>
            <p:cNvSpPr/>
            <p:nvPr/>
          </p:nvSpPr>
          <p:spPr>
            <a:xfrm>
              <a:off x="2347920" y="556416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7960" y="5415120"/>
              <a:ext cx="714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745400" y="5910120"/>
            <a:ext cx="239760" cy="331920"/>
            <a:chOff x="7745400" y="5910120"/>
            <a:chExt cx="239760" cy="331920"/>
          </a:xfrm>
        </p:grpSpPr>
        <p:sp>
          <p:nvSpPr>
            <p:cNvPr id="621" name=""/>
            <p:cNvSpPr/>
            <p:nvPr/>
          </p:nvSpPr>
          <p:spPr>
            <a:xfrm>
              <a:off x="77518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90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74540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948280" y="5910120"/>
            <a:ext cx="803160" cy="633600"/>
            <a:chOff x="5948280" y="5910120"/>
            <a:chExt cx="803160" cy="633600"/>
          </a:xfrm>
        </p:grpSpPr>
        <p:sp>
          <p:nvSpPr>
            <p:cNvPr id="625" name=""/>
            <p:cNvSpPr/>
            <p:nvPr/>
          </p:nvSpPr>
          <p:spPr>
            <a:xfrm>
              <a:off x="61750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9900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16860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371840" y="5910120"/>
            <a:ext cx="799920" cy="633600"/>
            <a:chOff x="4371840" y="5910120"/>
            <a:chExt cx="799920" cy="633600"/>
          </a:xfrm>
        </p:grpSpPr>
        <p:sp>
          <p:nvSpPr>
            <p:cNvPr id="630" name=""/>
            <p:cNvSpPr/>
            <p:nvPr/>
          </p:nvSpPr>
          <p:spPr>
            <a:xfrm>
              <a:off x="45957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225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58928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1840" y="6203880"/>
              <a:ext cx="799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792520" y="5910120"/>
            <a:ext cx="803160" cy="633600"/>
            <a:chOff x="2792520" y="5910120"/>
            <a:chExt cx="803160" cy="633600"/>
          </a:xfrm>
        </p:grpSpPr>
        <p:sp>
          <p:nvSpPr>
            <p:cNvPr id="635" name=""/>
            <p:cNvSpPr/>
            <p:nvPr/>
          </p:nvSpPr>
          <p:spPr>
            <a:xfrm>
              <a:off x="30196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432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01284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9252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798640" y="5102280"/>
            <a:ext cx="995400" cy="807840"/>
            <a:chOff x="2798640" y="5102280"/>
            <a:chExt cx="995400" cy="807840"/>
          </a:xfrm>
        </p:grpSpPr>
        <p:sp>
          <p:nvSpPr>
            <p:cNvPr id="640" name=""/>
            <p:cNvSpPr/>
            <p:nvPr/>
          </p:nvSpPr>
          <p:spPr>
            <a:xfrm>
              <a:off x="286668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98640" y="5232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44600" y="51022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192480" y="5102280"/>
            <a:ext cx="2181240" cy="1065240"/>
            <a:chOff x="3192480" y="5102280"/>
            <a:chExt cx="2181240" cy="1065240"/>
          </a:xfrm>
        </p:grpSpPr>
        <p:sp>
          <p:nvSpPr>
            <p:cNvPr id="644" name=""/>
            <p:cNvSpPr/>
            <p:nvPr/>
          </p:nvSpPr>
          <p:spPr>
            <a:xfrm>
              <a:off x="443412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2480" y="56149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76880" y="5564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140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78320" y="5232240"/>
              <a:ext cx="67500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72160" y="5102280"/>
            <a:ext cx="2179080" cy="1065240"/>
            <a:chOff x="4772160" y="5102280"/>
            <a:chExt cx="2179080" cy="1065240"/>
          </a:xfrm>
        </p:grpSpPr>
        <p:sp>
          <p:nvSpPr>
            <p:cNvPr id="650" name=""/>
            <p:cNvSpPr/>
            <p:nvPr/>
          </p:nvSpPr>
          <p:spPr>
            <a:xfrm>
              <a:off x="6024240" y="5425920"/>
              <a:ext cx="56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72160" y="5614920"/>
              <a:ext cx="15030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00720" y="5102280"/>
              <a:ext cx="650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52960" y="556416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4400" y="5232240"/>
              <a:ext cx="67752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351480" y="5102280"/>
            <a:ext cx="2292120" cy="1065240"/>
            <a:chOff x="6351480" y="5102280"/>
            <a:chExt cx="2292120" cy="1065240"/>
          </a:xfrm>
        </p:grpSpPr>
        <p:sp>
          <p:nvSpPr>
            <p:cNvPr id="656" name=""/>
            <p:cNvSpPr/>
            <p:nvPr/>
          </p:nvSpPr>
          <p:spPr>
            <a:xfrm>
              <a:off x="6351480" y="56149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128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2280" y="5564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34080" y="5232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53240" y="5425920"/>
              <a:ext cx="463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476520" y="3746520"/>
            <a:ext cx="5240160" cy="1823760"/>
            <a:chOff x="3476520" y="3746520"/>
            <a:chExt cx="5240160" cy="1823760"/>
          </a:xfrm>
        </p:grpSpPr>
        <p:sp>
          <p:nvSpPr>
            <p:cNvPr id="662" name=""/>
            <p:cNvSpPr/>
            <p:nvPr/>
          </p:nvSpPr>
          <p:spPr>
            <a:xfrm>
              <a:off x="4093920" y="4599000"/>
              <a:ext cx="15048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476520" y="4204800"/>
              <a:ext cx="404496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91320" y="4073400"/>
              <a:ext cx="563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14960" y="3746520"/>
              <a:ext cx="801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34080" y="3878280"/>
              <a:ext cx="6746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751880" y="3552840"/>
            <a:ext cx="226800" cy="350640"/>
            <a:chOff x="7751880" y="3552840"/>
            <a:chExt cx="226800" cy="350640"/>
          </a:xfrm>
        </p:grpSpPr>
        <p:sp>
          <p:nvSpPr>
            <p:cNvPr id="668" name=""/>
            <p:cNvSpPr/>
            <p:nvPr/>
          </p:nvSpPr>
          <p:spPr>
            <a:xfrm flipV="1">
              <a:off x="79786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7518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58000" y="3558960"/>
              <a:ext cx="21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’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452-EF4B-4080-9A80-996AFA6A70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5729400" y="4791240"/>
            <a:ext cx="18032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0260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89920" y="404496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37400" y="607536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247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5008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99000" y="4044960"/>
            <a:ext cx="83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596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6384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84520" y="546732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85960" y="5016600"/>
            <a:ext cx="180360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28760" y="4678200"/>
            <a:ext cx="0" cy="7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17640" y="4621320"/>
            <a:ext cx="41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19480" y="4621320"/>
            <a:ext cx="725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4120" y="4621320"/>
            <a:ext cx="728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664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5916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524196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673360" y="5348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79840" y="535464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79640" y="5450040"/>
            <a:ext cx="101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559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52480" y="437040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79640" y="6064200"/>
            <a:ext cx="965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17960" y="4997520"/>
            <a:ext cx="977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2472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8120" y="404496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99200" y="5073480"/>
            <a:ext cx="8539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10240" y="4835520"/>
            <a:ext cx="850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476600" y="5122800"/>
            <a:ext cx="125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7408800" y="545472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421400" y="5342040"/>
            <a:ext cx="986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32640" y="546084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77240" y="5286240"/>
            <a:ext cx="84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vs.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for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25880" y="1990800"/>
            <a:ext cx="497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hanges controlled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6CF-3155-4579-B802-FB79C7B4917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quick history less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50: George Boole invents Boolean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logical propositions to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manipulation of logic statements using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8: Claude Shannon links Boolean algebra to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Masters’ 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5: John von Neumann develops the first stored program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switching elements are vacuum tubes (a big advance from rel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6: ENIAC . . . The world’s first completely electronic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hundred multiplications per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7: Shockley, Brittain, and Bardeen invent the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s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tegration of multiple devices into on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 to modern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ABA-0020-4FA8-A3C3-04EB3ABD3E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1190520" y="2668680"/>
            <a:ext cx="7037280" cy="2988720"/>
            <a:chOff x="1190520" y="2668680"/>
            <a:chExt cx="7037280" cy="2988720"/>
          </a:xfrm>
        </p:grpSpPr>
        <p:sp>
          <p:nvSpPr>
            <p:cNvPr id="713" name=""/>
            <p:cNvSpPr/>
            <p:nvPr/>
          </p:nvSpPr>
          <p:spPr>
            <a:xfrm>
              <a:off x="230976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58680" y="467964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87640" y="46796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987640" y="3320640"/>
              <a:ext cx="404496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564080" y="3320640"/>
              <a:ext cx="246852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143400" y="3320640"/>
              <a:ext cx="88920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2440" y="3187440"/>
              <a:ext cx="5619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15880" y="4441680"/>
              <a:ext cx="690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90520" y="4530600"/>
              <a:ext cx="712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0504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36720" y="367632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81480" y="3752640"/>
              <a:ext cx="1503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25920" y="382896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862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115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67972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068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00400" y="5357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30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543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523600" y="535752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64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98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25760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60840" y="53193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296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0328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54280" y="4216320"/>
              <a:ext cx="6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33600" y="4216320"/>
              <a:ext cx="649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10040" y="4216320"/>
              <a:ext cx="65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02400" y="4216320"/>
              <a:ext cx="650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27880" y="2862000"/>
              <a:ext cx="79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89080" y="4348080"/>
              <a:ext cx="67500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95560" y="4441680"/>
              <a:ext cx="6876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64080" y="467964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61628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6552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72000" y="4441680"/>
              <a:ext cx="6904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3400" y="467964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6080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45200" y="4348080"/>
              <a:ext cx="67644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560" y="4541760"/>
              <a:ext cx="463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5200" y="29937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7684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25148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57960" y="26730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include internal struc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319-8F8D-46A8-8425-66155837A0B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542880" y="3102120"/>
            <a:ext cx="5854680" cy="3276000"/>
            <a:chOff x="542880" y="3102120"/>
            <a:chExt cx="5854680" cy="3276000"/>
          </a:xfrm>
        </p:grpSpPr>
        <p:sp>
          <p:nvSpPr>
            <p:cNvPr id="763" name=""/>
            <p:cNvSpPr/>
            <p:nvPr/>
          </p:nvSpPr>
          <p:spPr>
            <a:xfrm>
              <a:off x="687240" y="32781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2880" y="37544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62400" y="3406680"/>
              <a:ext cx="0" cy="29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38360" y="31021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tate table (much like a truth-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4649760" y="1778040"/>
            <a:ext cx="3998520" cy="1698480"/>
            <a:chOff x="4649760" y="1778040"/>
            <a:chExt cx="3998520" cy="1698480"/>
          </a:xfrm>
        </p:grpSpPr>
        <p:sp>
          <p:nvSpPr>
            <p:cNvPr id="770" name=""/>
            <p:cNvSpPr/>
            <p:nvPr/>
          </p:nvSpPr>
          <p:spPr>
            <a:xfrm>
              <a:off x="528552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29200" y="292068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7072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5670720" y="2148840"/>
              <a:ext cx="229860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566760" y="2148840"/>
              <a:ext cx="140256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64240" y="2148840"/>
              <a:ext cx="50508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09280" y="2072880"/>
              <a:ext cx="3193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89120" y="2785680"/>
              <a:ext cx="3924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49760" y="2836080"/>
              <a:ext cx="405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1016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39720" y="2350440"/>
              <a:ext cx="8532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17400" y="2394000"/>
              <a:ext cx="854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67920" y="243720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043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324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20036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068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357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303240" y="3305880"/>
              <a:ext cx="13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1116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38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406840" y="3305880"/>
              <a:ext cx="13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010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29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09712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6160" y="3284280"/>
              <a:ext cx="454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7976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8192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81360" y="2657520"/>
              <a:ext cx="370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8840" y="2657520"/>
              <a:ext cx="369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74520" y="2657520"/>
              <a:ext cx="37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36440" y="2657520"/>
              <a:ext cx="36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193960" y="1887840"/>
              <a:ext cx="45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83000" y="2732400"/>
              <a:ext cx="3834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86600" y="2785680"/>
              <a:ext cx="390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66760" y="2920680"/>
              <a:ext cx="50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06920" y="288468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7904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82640" y="2785680"/>
              <a:ext cx="39204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424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0368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76520" y="2732400"/>
              <a:ext cx="38412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43120" y="2842200"/>
              <a:ext cx="2631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76520" y="1962720"/>
              <a:ext cx="384120" cy="384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22204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809388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097480" y="17805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14E-5C26-48EE-9C51-3BA8A11A79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DC9-1D5F-410F-AFC0-9024F183A84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570720" y="4325760"/>
            <a:ext cx="235116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od choice of encod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is identical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t 3 bits of sta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cal to first b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525680" y="3220920"/>
            <a:ext cx="5854680" cy="3276720"/>
            <a:chOff x="1525680" y="3220920"/>
            <a:chExt cx="5854680" cy="3276720"/>
          </a:xfrm>
        </p:grpSpPr>
        <p:sp>
          <p:nvSpPr>
            <p:cNvPr id="823" name=""/>
            <p:cNvSpPr/>
            <p:nvPr/>
          </p:nvSpPr>
          <p:spPr>
            <a:xfrm>
              <a:off x="1670040" y="3397320"/>
              <a:ext cx="5710320" cy="20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5680" y="387360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45200" y="352584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21160" y="3220920"/>
              <a:ext cx="78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D7F-DD96-47FB-B171-F795190E31A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lock always wait for 3 key presses exactly before making a d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294000" y="3606840"/>
            <a:ext cx="1503360" cy="1387440"/>
            <a:chOff x="3294000" y="3606840"/>
            <a:chExt cx="1503360" cy="1387440"/>
          </a:xfrm>
        </p:grpSpPr>
        <p:sp>
          <p:nvSpPr>
            <p:cNvPr id="830" name=""/>
            <p:cNvSpPr/>
            <p:nvPr/>
          </p:nvSpPr>
          <p:spPr>
            <a:xfrm flipV="1">
              <a:off x="3871800" y="3606840"/>
              <a:ext cx="8701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94000" y="391176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818240" y="3629160"/>
            <a:ext cx="1521720" cy="1365120"/>
            <a:chOff x="4818240" y="3629160"/>
            <a:chExt cx="1521720" cy="1365120"/>
          </a:xfrm>
        </p:grpSpPr>
        <p:sp>
          <p:nvSpPr>
            <p:cNvPr id="833" name=""/>
            <p:cNvSpPr/>
            <p:nvPr/>
          </p:nvSpPr>
          <p:spPr>
            <a:xfrm flipV="1">
              <a:off x="5451480" y="3629160"/>
              <a:ext cx="88848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18240" y="39877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611360" y="4524480"/>
            <a:ext cx="5850000" cy="1441440"/>
            <a:chOff x="1611360" y="4524480"/>
            <a:chExt cx="5850000" cy="1441440"/>
          </a:xfrm>
        </p:grpSpPr>
        <p:sp>
          <p:nvSpPr>
            <p:cNvPr id="836" name=""/>
            <p:cNvSpPr/>
            <p:nvPr/>
          </p:nvSpPr>
          <p:spPr>
            <a:xfrm>
              <a:off x="161748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95360" y="4988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2396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1276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42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1964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987800" y="566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1460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417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408120" y="566604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81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620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1831680" y="5666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68920" y="5627880"/>
              <a:ext cx="799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9068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1136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62000" y="452448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41680" y="45244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8120" y="45244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10480" y="452448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97160" y="4656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3640" y="4749840"/>
              <a:ext cx="6872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71800" y="4988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1000" y="492444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7360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8008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51480" y="4988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6888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53280" y="4656240"/>
              <a:ext cx="6760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0640" y="484992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1639800" y="3083040"/>
            <a:ext cx="2683080" cy="1911240"/>
            <a:chOff x="1639800" y="3083040"/>
            <a:chExt cx="2683080" cy="1911240"/>
          </a:xfrm>
        </p:grpSpPr>
        <p:sp>
          <p:nvSpPr>
            <p:cNvPr id="867" name=""/>
            <p:cNvSpPr/>
            <p:nvPr/>
          </p:nvSpPr>
          <p:spPr>
            <a:xfrm flipV="1">
              <a:off x="2295360" y="3606840"/>
              <a:ext cx="9223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39800" y="391176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492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22600" y="308304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17680" y="32259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141720" y="2616120"/>
            <a:ext cx="801720" cy="635040"/>
            <a:chOff x="3141720" y="2616120"/>
            <a:chExt cx="801720" cy="635040"/>
          </a:xfrm>
        </p:grpSpPr>
        <p:sp>
          <p:nvSpPr>
            <p:cNvPr id="873" name=""/>
            <p:cNvSpPr/>
            <p:nvPr/>
          </p:nvSpPr>
          <p:spPr>
            <a:xfrm flipV="1">
              <a:off x="364968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42432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3044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4172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665600" y="2616120"/>
            <a:ext cx="801720" cy="635040"/>
            <a:chOff x="4665600" y="2616120"/>
            <a:chExt cx="801720" cy="635040"/>
          </a:xfrm>
        </p:grpSpPr>
        <p:sp>
          <p:nvSpPr>
            <p:cNvPr id="878" name=""/>
            <p:cNvSpPr/>
            <p:nvPr/>
          </p:nvSpPr>
          <p:spPr>
            <a:xfrm flipV="1">
              <a:off x="517356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94820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5468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6560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643200" y="3094200"/>
            <a:ext cx="2214720" cy="807840"/>
            <a:chOff x="3643200" y="3094200"/>
            <a:chExt cx="2214720" cy="807840"/>
          </a:xfrm>
        </p:grpSpPr>
        <p:sp>
          <p:nvSpPr>
            <p:cNvPr id="883" name=""/>
            <p:cNvSpPr/>
            <p:nvPr/>
          </p:nvSpPr>
          <p:spPr>
            <a:xfrm>
              <a:off x="479916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57640" y="309420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41920" y="3225960"/>
              <a:ext cx="67608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79720" y="3575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43200" y="330048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11720" y="3103560"/>
            <a:ext cx="2313000" cy="808200"/>
            <a:chOff x="5211720" y="3103560"/>
            <a:chExt cx="2313000" cy="808200"/>
          </a:xfrm>
        </p:grpSpPr>
        <p:sp>
          <p:nvSpPr>
            <p:cNvPr id="889" name=""/>
            <p:cNvSpPr/>
            <p:nvPr/>
          </p:nvSpPr>
          <p:spPr>
            <a:xfrm>
              <a:off x="6399360" y="342900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24800" y="310356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42120" y="3235320"/>
              <a:ext cx="676080" cy="67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27720" y="3575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11720" y="329400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257480" y="3547800"/>
            <a:ext cx="6526080" cy="2540160"/>
            <a:chOff x="1257480" y="3547800"/>
            <a:chExt cx="6526080" cy="2540160"/>
          </a:xfrm>
        </p:grpSpPr>
        <p:sp>
          <p:nvSpPr>
            <p:cNvPr id="895" name=""/>
            <p:cNvSpPr/>
            <p:nvPr/>
          </p:nvSpPr>
          <p:spPr>
            <a:xfrm>
              <a:off x="1257480" y="5014800"/>
              <a:ext cx="36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57480" y="5014800"/>
              <a:ext cx="0" cy="10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57480" y="6087960"/>
              <a:ext cx="652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7783560" y="3547800"/>
              <a:ext cx="0" cy="25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016400" y="3548160"/>
              <a:ext cx="76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27920" y="4992480"/>
              <a:ext cx="75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65120" y="2363760"/>
            <a:ext cx="7840800" cy="39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BE4-52BD-4CDA-8CDC-116E4CD5BC3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658880" y="3009960"/>
            <a:ext cx="18036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3208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19400" y="2263680"/>
            <a:ext cx="851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65440" y="429408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4200" y="39117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7956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28840" y="2263680"/>
            <a:ext cx="838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5420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16160" y="2263680"/>
            <a:ext cx="8524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28680" y="3292560"/>
            <a:ext cx="851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39720" y="3054240"/>
            <a:ext cx="851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06080" y="334152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3338640" y="367344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351240" y="3560400"/>
            <a:ext cx="982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62480" y="36799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06720" y="3505320"/>
            <a:ext cx="84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79920" y="4727520"/>
            <a:ext cx="18036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77240" y="4275000"/>
            <a:ext cx="0" cy="57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484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97600" y="599904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62600" y="513072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24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307120" y="3981600"/>
            <a:ext cx="838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399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9752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59320" y="4675320"/>
            <a:ext cx="8510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7120" y="499752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6975360" y="5435280"/>
            <a:ext cx="11448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978600" y="5319360"/>
            <a:ext cx="1126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89840" y="54356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34160" y="5230800"/>
            <a:ext cx="563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13400" y="5316480"/>
            <a:ext cx="676440" cy="23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618160" y="4863960"/>
            <a:ext cx="1565280" cy="2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211800" y="513036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205680" y="54356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56480" y="513864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16520" y="4861080"/>
            <a:ext cx="1565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35720" y="5302080"/>
            <a:ext cx="9144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6958080" y="4267080"/>
            <a:ext cx="1347840" cy="111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696080" y="3276360"/>
            <a:ext cx="60984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37280" y="2125800"/>
            <a:ext cx="3055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circuit elem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register,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embering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old to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181480" y="2133720"/>
            <a:ext cx="2514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troller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of the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B2E-F8C0-42CD-BFD3-D77D9BEE256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468680" y="1519200"/>
            <a:ext cx="102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63680" y="2473200"/>
            <a:ext cx="1214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72040" y="2460600"/>
            <a:ext cx="1013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5280" y="3476520"/>
            <a:ext cx="15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08560" y="3489480"/>
            <a:ext cx="216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38160" y="3551400"/>
            <a:ext cx="1365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3640" y="3564000"/>
            <a:ext cx="1390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0320" y="3413160"/>
            <a:ext cx="927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3520" y="4867200"/>
            <a:ext cx="1065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18120" y="4867200"/>
            <a:ext cx="841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49920" y="1801800"/>
            <a:ext cx="1428480" cy="70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784240" y="1790640"/>
            <a:ext cx="2052360" cy="6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406240" y="2792520"/>
            <a:ext cx="252360" cy="77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58960" y="2766960"/>
            <a:ext cx="1100160" cy="84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317600" y="2755800"/>
            <a:ext cx="1354320" cy="7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92320" y="3933720"/>
            <a:ext cx="265572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886200" y="3971880"/>
            <a:ext cx="1603440" cy="89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552640" y="2743200"/>
            <a:ext cx="77652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353280" y="2743200"/>
            <a:ext cx="86508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59120" y="3857760"/>
            <a:ext cx="160488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06600" y="3857760"/>
            <a:ext cx="2932200" cy="104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415120" y="3971880"/>
            <a:ext cx="17906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40040" y="5619600"/>
            <a:ext cx="1854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800240" y="5175360"/>
            <a:ext cx="56340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86200" y="5162400"/>
            <a:ext cx="6382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hierarch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25C-D848-476B-BB72-A17FD3ECBE7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was what the entire course is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ng solutions to problems into combinational and sequential networks effectively organizing the design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so with a modern set of design tools that lets us handle large desig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advantage of optimization opportun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lets do it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we'll take nine weeks instead of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08D-8123-44C4-9F76-06B3EF9E0D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47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specification of a problem, come up with a way of solving it choosing appropriately from a collection of avail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meeting some criteria for size, cost, power, beauty, eleganc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logic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collection of digital logic components to perform a specified control and/or data manipulation and/or communication function and the interconnection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logic components to choose? – there are many implementation technologies (e.g., off-the-shelf fixed-function components, programmable devices, transistors on a chip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may need to be optimized and/or transformed to meet design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CD9-1AD6-412A-8D6E-3A1FD5D35B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472000" y="5138640"/>
            <a:ext cx="3864240" cy="1741320"/>
            <a:chOff x="5472000" y="5138640"/>
            <a:chExt cx="3864240" cy="1741320"/>
          </a:xfrm>
        </p:grpSpPr>
        <p:sp>
          <p:nvSpPr>
            <p:cNvPr id="95" name=""/>
            <p:cNvSpPr/>
            <p:nvPr/>
          </p:nvSpPr>
          <p:spPr>
            <a:xfrm>
              <a:off x="6943680" y="5651280"/>
              <a:ext cx="617760" cy="617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640" y="52797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454800" y="61941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965560"/>
              <a:ext cx="87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9640" y="6516720"/>
              <a:ext cx="91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72000" y="5138640"/>
              <a:ext cx="914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10760" y="5833800"/>
              <a:ext cx="825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r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86520" y="5837040"/>
              <a:ext cx="525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digital hardware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6480"/>
            <a:ext cx="815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devices that sense and/or control wires that carry a digital value (i.e., a physical quantity that can be interpre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“0” or “1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igital logic where voltage &lt; 0.8v is a “0” and &gt; 2.0v is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pair of transmission wires where a “0” or “1” is distinguished by which wire has a higher voltage (differ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orientation of magnetization signifies a “0” or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digital hardwar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omputation devices (sense and d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wo wires both “1” - make another be “1” (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t least one of two wires “1” - make another be “1” (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wire “1” - then make another be “0” (N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devices (s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a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all a previously stored 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929-02B0-452A-AEC8-04C8293482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happening now in digital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80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rends in how industry does hardwa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and larger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and shorter time 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 and cheap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asive use of computer-aided design tools over h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levels of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abstract design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rather than fixed func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synthesi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ound 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s of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imulation to debug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verify before you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862-3877-48C4-AE07-EACFEB4587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23800" y="4981680"/>
            <a:ext cx="80773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w abil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o accomplish the logic design task with the aid of computer-ai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ools and map a problem description into an implementation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logic devices after validation via simulation and understand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 the advantages/disadvantages as compared to a softwar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SE 370: concepts/skills/abilit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basics of logic design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sound design methodologie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specification method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a full set of CAD tools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digital designs in an implementation technology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ion for the differences and similarities (abilitie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hardware and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293-4D9F-455B-A8C2-3644B1559E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utation: abstract vs.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76200"/>
            <a:ext cx="838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now, computation has been a mental exercise (paper, progra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lass is about physically implementing computation using physical devices that use voltages to represent logic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units of computation ar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0", "1" on a w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wires (e.g., for binary 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=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pera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–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tate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B;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x == 1   then  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1 ; i == 10,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proc(...)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ill study how each of these are implemented in hardware and composed into computation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070-54C4-45B9-A26A-13230676FB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>Gaetano Borriello</dc:creator>
  <dc:description/>
  <dc:language>en-US</dc:language>
  <cp:lastModifiedBy>Gaetano Borriello</cp:lastModifiedBy>
  <cp:lastPrinted>2000-09-25T15:09:03Z</cp:lastPrinted>
  <dcterms:modified xsi:type="dcterms:W3CDTF">2005-01-24T06:56:53Z</dcterms:modified>
  <cp:revision>4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