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8C8-2811-44C4-B082-3EFE31A8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AE7-BFA3-4AD2-A6D3-F3E4FFFD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15E-C036-4BFE-9370-45EC6391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923-ADFD-4716-8926-67CCFC95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D02B-1474-4074-AD91-4B0A9460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7500-B3FB-42C0-97E5-5806EF5E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4F5C-2A13-4F02-9A2F-B71C6EB0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5B7F-08B1-4DA1-8737-D859559A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A5C7-C5C1-4153-B9E7-51817EE2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2ED9-04FC-46CA-9239-68D53526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BE5A-C41E-41EC-8999-64E6042D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FFD-E7B2-4DC5-B0A2-44FF0101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04D9-0310-4F01-8D9B-21A2C6AC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F58-5BEC-4E80-AD4B-21B71945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13CE-4929-4F89-B828-743C4882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0114-003B-435C-ADC1-7C0A98BC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A92D-C977-4C2A-BB65-AF5906B9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5F3-EBD9-47CD-9FF5-94CC99D5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84F-CC1A-4C75-A42A-B4B29672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8EA-7F76-4189-9466-23CA2DEA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F43-2AD8-4502-8F8A-F3526825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AF7-754F-45A8-9AD1-D2F80B9A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8DA-03B3-401B-94B0-D1E46D0E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570-59E3-4CE6-A68C-DF9D0AB3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72D1CA3-4FDA-4705-AAC2-B75877EC341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8FE4778-9B6A-4E8A-85F6-3867A6DC2F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4936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don’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for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logic and canonical forms realized with NANDs and 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logic, converting between ANDs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B01-6354-406E-B3A3-E964E87722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747360" y="1839960"/>
            <a:ext cx="2335680" cy="1711440"/>
            <a:chOff x="747360" y="1839960"/>
            <a:chExt cx="2335680" cy="1711440"/>
          </a:xfrm>
        </p:grpSpPr>
        <p:grpSp>
          <p:nvGrpSpPr>
            <p:cNvPr id="810" name=""/>
            <p:cNvGrpSpPr/>
            <p:nvPr/>
          </p:nvGrpSpPr>
          <p:grpSpPr>
            <a:xfrm>
              <a:off x="747360" y="2705040"/>
              <a:ext cx="662040" cy="451080"/>
              <a:chOff x="747360" y="2705040"/>
              <a:chExt cx="662040" cy="45108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844200" y="273708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47360" y="270504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421000" y="2711520"/>
              <a:ext cx="662040" cy="450720"/>
              <a:chOff x="2421000" y="2711520"/>
              <a:chExt cx="662040" cy="450720"/>
            </a:xfrm>
          </p:grpSpPr>
          <p:sp>
            <p:nvSpPr>
              <p:cNvPr id="814" name=""/>
              <p:cNvSpPr/>
              <p:nvPr/>
            </p:nvSpPr>
            <p:spPr>
              <a:xfrm>
                <a:off x="2421000" y="274320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73520" y="271152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065240" y="1839960"/>
              <a:ext cx="1711440" cy="1711440"/>
              <a:chOff x="1065240" y="1839960"/>
              <a:chExt cx="1711440" cy="1711440"/>
            </a:xfrm>
          </p:grpSpPr>
          <p:sp>
            <p:nvSpPr>
              <p:cNvPr id="817" name=""/>
              <p:cNvSpPr/>
              <p:nvPr/>
            </p:nvSpPr>
            <p:spPr>
              <a:xfrm>
                <a:off x="1986120" y="2744640"/>
                <a:ext cx="790560" cy="806760"/>
              </a:xfrm>
              <a:custGeom>
                <a:avLst/>
                <a:gdLst>
                  <a:gd name="textAreaLeft" fmla="*/ 38520 w 790560"/>
                  <a:gd name="textAreaRight" fmla="*/ 752040 w 790560"/>
                  <a:gd name="textAreaTop" fmla="*/ 38520 h 806760"/>
                  <a:gd name="textAreaBottom" fmla="*/ 768240 h 806760"/>
                </a:gdLst>
                <a:ahLst/>
                <a:rect l="textAreaLeft" t="textAreaTop" r="textAreaRight" b="textAreaBottom"/>
                <a:pathLst>
                  <a:path w="21600" h="22042">
                    <a:moveTo>
                      <a:pt x="3600" y="0"/>
                    </a:moveTo>
                    <a:arcTo wR="3600" hR="3600" stAng="16200000" swAng="-5400000"/>
                    <a:lnTo>
                      <a:pt x="0" y="18442"/>
                    </a:lnTo>
                    <a:arcTo wR="3600" hR="3600" stAng="10800000" swAng="-5400000"/>
                    <a:lnTo>
                      <a:pt x="18000" y="220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86120" y="1839960"/>
                <a:ext cx="322200" cy="1695240"/>
              </a:xfrm>
              <a:custGeom>
                <a:avLst/>
                <a:gdLst>
                  <a:gd name="textAreaLeft" fmla="*/ 15480 w 322200"/>
                  <a:gd name="textAreaRight" fmla="*/ 306720 w 322200"/>
                  <a:gd name="textAreaTop" fmla="*/ 15480 h 1695240"/>
                  <a:gd name="textAreaBottom" fmla="*/ 1679760 h 1695240"/>
                </a:gdLst>
                <a:ahLst/>
                <a:rect l="textAreaLeft" t="textAreaTop" r="textAreaRight" b="textAreaBottom"/>
                <a:pathLst>
                  <a:path w="21600" h="113545">
                    <a:moveTo>
                      <a:pt x="3600" y="0"/>
                    </a:moveTo>
                    <a:arcTo wR="3600" hR="3600" stAng="16200000" swAng="-5400000"/>
                    <a:lnTo>
                      <a:pt x="0" y="109945"/>
                    </a:lnTo>
                    <a:arcTo wR="3600" hR="3600" stAng="10800000" swAng="-5400000"/>
                    <a:lnTo>
                      <a:pt x="18000" y="113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65240" y="2292480"/>
                <a:ext cx="774720" cy="3222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17760" y="1859040"/>
                <a:ext cx="758880" cy="7412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114560" y="2340000"/>
                <a:ext cx="257040" cy="758880"/>
              </a:xfrm>
              <a:custGeom>
                <a:avLst/>
                <a:gdLst>
                  <a:gd name="textAreaLeft" fmla="*/ 12240 w 257040"/>
                  <a:gd name="textAreaRight" fmla="*/ 244800 w 257040"/>
                  <a:gd name="textAreaTop" fmla="*/ 12240 h 758880"/>
                  <a:gd name="textAreaBottom" fmla="*/ 746640 h 758880"/>
                </a:gdLst>
                <a:ahLst/>
                <a:rect l="textAreaLeft" t="textAreaTop" r="textAreaRight" b="textAreaBottom"/>
                <a:pathLst>
                  <a:path w="21600" h="63712">
                    <a:moveTo>
                      <a:pt x="3600" y="0"/>
                    </a:moveTo>
                    <a:arcTo wR="3600" hR="3600" stAng="16200000" swAng="-5400000"/>
                    <a:lnTo>
                      <a:pt x="0" y="60112"/>
                    </a:lnTo>
                    <a:arcTo wR="3600" hR="3600" stAng="10800000" swAng="-5400000"/>
                    <a:lnTo>
                      <a:pt x="18000" y="63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713160" y="1557360"/>
            <a:ext cx="2775960" cy="2365200"/>
            <a:chOff x="713160" y="1557360"/>
            <a:chExt cx="2775960" cy="2365200"/>
          </a:xfrm>
        </p:grpSpPr>
        <p:sp>
          <p:nvSpPr>
            <p:cNvPr id="823" name=""/>
            <p:cNvSpPr/>
            <p:nvPr/>
          </p:nvSpPr>
          <p:spPr>
            <a:xfrm>
              <a:off x="1182240" y="187812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1960" y="1876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20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98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9126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22040" y="1785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39680" y="222264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04840" y="2511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8480" y="1557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076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554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9982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4320" y="2816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4040" y="2814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20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98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19126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55480" y="3618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07640" y="269244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1920" y="3592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076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554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9982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3160" y="2995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012680" y="4368960"/>
            <a:ext cx="4908600" cy="696600"/>
            <a:chOff x="1012680" y="4368960"/>
            <a:chExt cx="4908600" cy="696600"/>
          </a:xfrm>
        </p:grpSpPr>
        <p:sp>
          <p:nvSpPr>
            <p:cNvPr id="848" name=""/>
            <p:cNvSpPr/>
            <p:nvPr/>
          </p:nvSpPr>
          <p:spPr>
            <a:xfrm>
              <a:off x="1012680" y="4368960"/>
              <a:ext cx="447048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D, A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D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03840" y="490860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to illustrate te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003000" y="4130640"/>
            <a:ext cx="2775960" cy="2365200"/>
            <a:chOff x="6003000" y="4130640"/>
            <a:chExt cx="2775960" cy="2365200"/>
          </a:xfrm>
        </p:grpSpPr>
        <p:sp>
          <p:nvSpPr>
            <p:cNvPr id="852" name=""/>
            <p:cNvSpPr/>
            <p:nvPr/>
          </p:nvSpPr>
          <p:spPr>
            <a:xfrm>
              <a:off x="6472080" y="445140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81800" y="4449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597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025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11880" y="43592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29520" y="47959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4680" y="5084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18320" y="4130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74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53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881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64160" y="53895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73880" y="538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597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2025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45320" y="6191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7480" y="52657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51760" y="6165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974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453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2881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03000" y="55688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223800" y="1717560"/>
            <a:ext cx="5447160" cy="841320"/>
            <a:chOff x="3223800" y="1717560"/>
            <a:chExt cx="5447160" cy="841320"/>
          </a:xfrm>
        </p:grpSpPr>
        <p:sp>
          <p:nvSpPr>
            <p:cNvPr id="877" name=""/>
            <p:cNvSpPr/>
            <p:nvPr/>
          </p:nvSpPr>
          <p:spPr>
            <a:xfrm>
              <a:off x="4200480" y="1717560"/>
              <a:ext cx="44704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AB, 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23800" y="2257560"/>
              <a:ext cx="131292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4202280" y="3222720"/>
            <a:ext cx="36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AC + B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073560" y="2371320"/>
            <a:ext cx="1532160" cy="605160"/>
            <a:chOff x="6073560" y="2371320"/>
            <a:chExt cx="1532160" cy="605160"/>
          </a:xfrm>
        </p:grpSpPr>
        <p:sp>
          <p:nvSpPr>
            <p:cNvPr id="881" name=""/>
            <p:cNvSpPr/>
            <p:nvPr/>
          </p:nvSpPr>
          <p:spPr>
            <a:xfrm flipH="1" flipV="1">
              <a:off x="6073560" y="2371320"/>
              <a:ext cx="4302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75680" y="26082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343560" y="4406760"/>
            <a:ext cx="1727280" cy="1727280"/>
            <a:chOff x="6343560" y="4406760"/>
            <a:chExt cx="1727280" cy="1727280"/>
          </a:xfrm>
        </p:grpSpPr>
        <p:sp>
          <p:nvSpPr>
            <p:cNvPr id="884" name=""/>
            <p:cNvSpPr/>
            <p:nvPr/>
          </p:nvSpPr>
          <p:spPr>
            <a:xfrm>
              <a:off x="7280280" y="4406760"/>
              <a:ext cx="338040" cy="80820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808200"/>
                <a:gd name="textAreaBottom" fmla="*/ 792000 h 808200"/>
              </a:gdLst>
              <a:ahLst/>
              <a:rect l="textAreaLeft" t="textAreaTop" r="textAreaRight" b="textAreaBottom"/>
              <a:pathLst>
                <a:path w="21600" h="51610">
                  <a:moveTo>
                    <a:pt x="3600" y="0"/>
                  </a:moveTo>
                  <a:arcTo wR="3600" hR="3600" stAng="16200000" swAng="-5400000"/>
                  <a:lnTo>
                    <a:pt x="0" y="48010"/>
                  </a:lnTo>
                  <a:arcTo wR="3600" hR="3600" stAng="10800000" swAng="-5400000"/>
                  <a:lnTo>
                    <a:pt x="18000" y="5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43560" y="4859280"/>
              <a:ext cx="82404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96080" y="5327640"/>
              <a:ext cx="355680" cy="80640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806400"/>
                <a:gd name="textAreaBottom" fmla="*/ 789120 h 806400"/>
              </a:gdLst>
              <a:ahLst/>
              <a:rect l="textAreaLeft" t="textAreaTop" r="textAreaRight" b="textAreaBottom"/>
              <a:pathLst>
                <a:path w="21600" h="48944">
                  <a:moveTo>
                    <a:pt x="3600" y="0"/>
                  </a:moveTo>
                  <a:arcTo wR="3600" hR="3600" stAng="16200000" swAng="-5400000"/>
                  <a:lnTo>
                    <a:pt x="0" y="45344"/>
                  </a:lnTo>
                  <a:arcTo wR="3600" hR="3600" stAng="10800000" swAng="-5400000"/>
                  <a:lnTo>
                    <a:pt x="18000" y="48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80280" y="5343480"/>
              <a:ext cx="79056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11920" y="4924440"/>
              <a:ext cx="758880" cy="725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781200" y="59007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4 essential impl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17640" y="5035680"/>
            <a:ext cx="3168360" cy="682560"/>
            <a:chOff x="917640" y="5035680"/>
            <a:chExt cx="3168360" cy="682560"/>
          </a:xfrm>
        </p:grpSpPr>
        <p:grpSp>
          <p:nvGrpSpPr>
            <p:cNvPr id="891" name=""/>
            <p:cNvGrpSpPr/>
            <p:nvPr/>
          </p:nvGrpSpPr>
          <p:grpSpPr>
            <a:xfrm>
              <a:off x="2085840" y="5035680"/>
              <a:ext cx="2000160" cy="419040"/>
              <a:chOff x="2085840" y="5035680"/>
              <a:chExt cx="2000160" cy="41904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085840" y="5047920"/>
                <a:ext cx="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091960" y="5047920"/>
                <a:ext cx="62244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2091960" y="5047920"/>
                <a:ext cx="12826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104920" y="5035680"/>
                <a:ext cx="198108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917640" y="5349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01A-C972-4FEC-A67A-1D557109C9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183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minimum sum-of-products expression from a Karnaugh m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choose an element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find "maximal" groupings of 1s and Xs adjacent to tha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op/bottom row, left/right column, and corner adjac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forms prime implicants  (number of elements always a power of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Steps 1 and 2 to find all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revisit the 1s in the K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vered by single prime implicant, it is essential, and participates in final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 covered by essential prime implicant do not need to be re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: if there remain 1s not covered by essential prime implic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smallest number of prime implicants that cover the remaining 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136-0C12-49B1-8145-42E99F3D8B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474840" y="3968640"/>
            <a:ext cx="2795400" cy="2598840"/>
            <a:chOff x="474840" y="3968640"/>
            <a:chExt cx="2795400" cy="2598840"/>
          </a:xfrm>
        </p:grpSpPr>
        <p:sp>
          <p:nvSpPr>
            <p:cNvPr id="900" name=""/>
            <p:cNvSpPr/>
            <p:nvPr/>
          </p:nvSpPr>
          <p:spPr>
            <a:xfrm>
              <a:off x="2146320" y="4202280"/>
              <a:ext cx="474480" cy="45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73320" y="4272120"/>
              <a:ext cx="355320" cy="172692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1726920"/>
                <a:gd name="textAreaBottom" fmla="*/ 1709640 h 1726920"/>
              </a:gdLst>
              <a:ahLst/>
              <a:rect l="textAreaLeft" t="textAreaTop" r="textAreaRight" b="textAreaBottom"/>
              <a:pathLst>
                <a:path w="21600" h="104896">
                  <a:moveTo>
                    <a:pt x="3600" y="0"/>
                  </a:moveTo>
                  <a:arcTo wR="3600" hR="3600" stAng="16200000" swAng="-5400000"/>
                  <a:lnTo>
                    <a:pt x="0" y="101296"/>
                  </a:lnTo>
                  <a:arcTo wR="3600" hR="3600" stAng="10800000" swAng="-5400000"/>
                  <a:lnTo>
                    <a:pt x="18000" y="104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2480" y="430380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12920" y="471312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81280" y="474516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494280" y="3968640"/>
              <a:ext cx="2775960" cy="2365200"/>
              <a:chOff x="494280" y="3968640"/>
              <a:chExt cx="2775960" cy="2365200"/>
            </a:xfrm>
          </p:grpSpPr>
          <p:sp>
            <p:nvSpPr>
              <p:cNvPr id="906" name=""/>
              <p:cNvSpPr/>
              <p:nvPr/>
            </p:nvSpPr>
            <p:spPr>
              <a:xfrm>
                <a:off x="963360" y="428940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73080" y="42876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7031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10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6938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703160" y="41972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20800" y="463392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685960" y="4922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109600" y="3968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87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366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7794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55440" y="52275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65160" y="52257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7031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510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16938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6600" y="60292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88760" y="510372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43040" y="60037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887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2366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94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4280" y="540684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474840" y="6237360"/>
              <a:ext cx="234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   </a:t>
              </a: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3 primes around A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67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 (exampl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13360" y="1440000"/>
            <a:ext cx="2775960" cy="2365200"/>
            <a:chOff x="513360" y="1440000"/>
            <a:chExt cx="2775960" cy="2365200"/>
          </a:xfrm>
        </p:grpSpPr>
        <p:sp>
          <p:nvSpPr>
            <p:cNvPr id="933" name=""/>
            <p:cNvSpPr/>
            <p:nvPr/>
          </p:nvSpPr>
          <p:spPr>
            <a:xfrm>
              <a:off x="982440" y="176076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92160" y="1758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222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700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17128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22240" y="1668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39880" y="210528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5040" y="2394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28680" y="1440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78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556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984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74520" y="2698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84240" y="26971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222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700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17128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55680" y="3500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7840" y="25750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62120" y="347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78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556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984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3360" y="28782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209760" y="1438200"/>
            <a:ext cx="2955960" cy="2579760"/>
            <a:chOff x="3209760" y="1438200"/>
            <a:chExt cx="2955960" cy="2579760"/>
          </a:xfrm>
        </p:grpSpPr>
        <p:sp>
          <p:nvSpPr>
            <p:cNvPr id="958" name=""/>
            <p:cNvSpPr/>
            <p:nvPr/>
          </p:nvSpPr>
          <p:spPr>
            <a:xfrm>
              <a:off x="3209760" y="3687840"/>
              <a:ext cx="2895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2 primes around A'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27400" y="1673280"/>
              <a:ext cx="468360" cy="43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3389760" y="1438200"/>
              <a:ext cx="2775960" cy="2365200"/>
              <a:chOff x="3389760" y="1438200"/>
              <a:chExt cx="2775960" cy="2365200"/>
            </a:xfrm>
          </p:grpSpPr>
          <p:sp>
            <p:nvSpPr>
              <p:cNvPr id="961" name=""/>
              <p:cNvSpPr/>
              <p:nvPr/>
            </p:nvSpPr>
            <p:spPr>
              <a:xfrm>
                <a:off x="385884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76856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5986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0464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5892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9864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628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8144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0508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6842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1320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6748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5092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76064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5986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464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45892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13208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8424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3852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842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320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6748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8976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"/>
          <p:cNvGrpSpPr/>
          <p:nvPr/>
        </p:nvGrpSpPr>
        <p:grpSpPr>
          <a:xfrm>
            <a:off x="3755880" y="1724040"/>
            <a:ext cx="776520" cy="1727280"/>
            <a:chOff x="3755880" y="1724040"/>
            <a:chExt cx="776520" cy="1727280"/>
          </a:xfrm>
        </p:grpSpPr>
        <p:sp>
          <p:nvSpPr>
            <p:cNvPr id="986" name=""/>
            <p:cNvSpPr/>
            <p:nvPr/>
          </p:nvSpPr>
          <p:spPr>
            <a:xfrm>
              <a:off x="4176720" y="172404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55880" y="175572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266520" y="1438200"/>
            <a:ext cx="2775960" cy="2579760"/>
            <a:chOff x="6266520" y="1438200"/>
            <a:chExt cx="2775960" cy="2579760"/>
          </a:xfrm>
        </p:grpSpPr>
        <p:sp>
          <p:nvSpPr>
            <p:cNvPr id="989" name=""/>
            <p:cNvSpPr/>
            <p:nvPr/>
          </p:nvSpPr>
          <p:spPr>
            <a:xfrm>
              <a:off x="6380280" y="3687840"/>
              <a:ext cx="2260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2 primes around A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80440" y="2116080"/>
              <a:ext cx="446040" cy="469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6266520" y="1438200"/>
              <a:ext cx="2775960" cy="2365200"/>
              <a:chOff x="6266520" y="1438200"/>
              <a:chExt cx="2775960" cy="2365200"/>
            </a:xfrm>
          </p:grpSpPr>
          <p:sp>
            <p:nvSpPr>
              <p:cNvPr id="992" name=""/>
              <p:cNvSpPr/>
              <p:nvPr/>
            </p:nvSpPr>
            <p:spPr>
              <a:xfrm>
                <a:off x="673560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4532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754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232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74660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47540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9304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5820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8184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5610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088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5516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72768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3740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4754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9232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4660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0884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6100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1528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610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088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65516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6652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045200" y="174132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24720" y="1773360"/>
              <a:ext cx="71100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5160" y="2182680"/>
            <a:ext cx="1226880" cy="808200"/>
            <a:chOff x="7085160" y="2182680"/>
            <a:chExt cx="1226880" cy="808200"/>
          </a:xfrm>
        </p:grpSpPr>
        <p:sp>
          <p:nvSpPr>
            <p:cNvPr id="1019" name=""/>
            <p:cNvSpPr/>
            <p:nvPr/>
          </p:nvSpPr>
          <p:spPr>
            <a:xfrm>
              <a:off x="7085160" y="218268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553160" y="221472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231600" y="3957120"/>
            <a:ext cx="2775960" cy="2610360"/>
            <a:chOff x="6231600" y="3957120"/>
            <a:chExt cx="2775960" cy="2610360"/>
          </a:xfrm>
        </p:grpSpPr>
        <p:sp>
          <p:nvSpPr>
            <p:cNvPr id="1022" name=""/>
            <p:cNvSpPr/>
            <p:nvPr/>
          </p:nvSpPr>
          <p:spPr>
            <a:xfrm>
              <a:off x="6365880" y="6237360"/>
              <a:ext cx="2209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mum cover (3 pr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20000" y="427500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6200000">
              <a:off x="7842240" y="415116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rot="16200000">
              <a:off x="7835760" y="572760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rot="16200000">
              <a:off x="8020440" y="5962320"/>
              <a:ext cx="20952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8027640" y="3836520"/>
              <a:ext cx="20988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231600" y="3965400"/>
              <a:ext cx="2775960" cy="2365200"/>
              <a:chOff x="6231600" y="3965400"/>
              <a:chExt cx="2775960" cy="2365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6700680" y="42861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10400" y="42843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404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883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311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40480" y="41940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58120" y="46306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23280" y="4919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46920" y="3965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260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9739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5167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692760" y="5224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2480" y="52225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04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8883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74311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73920" y="6026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6080" y="51004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80360" y="6000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260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9739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5167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31600" y="54036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7499520" y="4735440"/>
            <a:ext cx="758520" cy="339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362760" y="3957120"/>
            <a:ext cx="2775960" cy="2610360"/>
            <a:chOff x="3362760" y="3957120"/>
            <a:chExt cx="2775960" cy="2610360"/>
          </a:xfrm>
        </p:grpSpPr>
        <p:grpSp>
          <p:nvGrpSpPr>
            <p:cNvPr id="1055" name=""/>
            <p:cNvGrpSpPr/>
            <p:nvPr/>
          </p:nvGrpSpPr>
          <p:grpSpPr>
            <a:xfrm>
              <a:off x="3362760" y="3957120"/>
              <a:ext cx="2775960" cy="2373840"/>
              <a:chOff x="3362760" y="3957120"/>
              <a:chExt cx="2775960" cy="23738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151160" y="4275000"/>
                <a:ext cx="355680" cy="1727280"/>
              </a:xfrm>
              <a:custGeom>
                <a:avLst/>
                <a:gdLst>
                  <a:gd name="textAreaLeft" fmla="*/ 17280 w 355680"/>
                  <a:gd name="textAreaRight" fmla="*/ 338400 w 355680"/>
                  <a:gd name="textAreaTop" fmla="*/ 17280 h 1727280"/>
                  <a:gd name="textAreaBottom" fmla="*/ 1710000 h 1727280"/>
                </a:gdLst>
                <a:ahLst/>
                <a:rect l="textAreaLeft" t="textAreaTop" r="textAreaRight" b="textAreaBottom"/>
                <a:pathLst>
                  <a:path w="21600" h="104811">
                    <a:moveTo>
                      <a:pt x="3600" y="0"/>
                    </a:moveTo>
                    <a:arcTo wR="3600" hR="3600" stAng="16200000" swAng="-5400000"/>
                    <a:lnTo>
                      <a:pt x="0" y="101211"/>
                    </a:lnTo>
                    <a:arcTo wR="3600" hR="3600" stAng="10800000" swAng="-5400000"/>
                    <a:lnTo>
                      <a:pt x="18000" y="1048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4973760" y="41511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 rot="16200000">
                <a:off x="4967280" y="57276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rot="16200000">
                <a:off x="5153040" y="596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5159160" y="3836520"/>
                <a:ext cx="20988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3362760" y="3965760"/>
                <a:ext cx="2775960" cy="2365200"/>
                <a:chOff x="3362760" y="3965760"/>
                <a:chExt cx="2775960" cy="2365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31840" y="4286520"/>
                  <a:ext cx="825840" cy="8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741560" y="428472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716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194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45622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71640" y="41943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489280" y="4631040"/>
                  <a:ext cx="0" cy="90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554440" y="4919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978080" y="3965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572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050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36478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823920" y="52246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733640" y="52228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5716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194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45622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05080" y="60264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657240" y="5100840"/>
                  <a:ext cx="0" cy="92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511520" y="600084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6572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1050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36478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362760" y="54039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6" name=""/>
            <p:cNvSpPr/>
            <p:nvPr/>
          </p:nvSpPr>
          <p:spPr>
            <a:xfrm>
              <a:off x="3687840" y="6237360"/>
              <a:ext cx="1816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essential pr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94280" y="3954600"/>
            <a:ext cx="2775960" cy="2382480"/>
            <a:chOff x="494280" y="3954600"/>
            <a:chExt cx="2775960" cy="2382480"/>
          </a:xfrm>
        </p:grpSpPr>
        <p:grpSp>
          <p:nvGrpSpPr>
            <p:cNvPr id="1088" name=""/>
            <p:cNvGrpSpPr/>
            <p:nvPr/>
          </p:nvGrpSpPr>
          <p:grpSpPr>
            <a:xfrm>
              <a:off x="531720" y="3954600"/>
              <a:ext cx="2335320" cy="2334960"/>
              <a:chOff x="531720" y="3954600"/>
              <a:chExt cx="2335320" cy="2334960"/>
            </a:xfrm>
          </p:grpSpPr>
          <p:sp>
            <p:nvSpPr>
              <p:cNvPr id="1089" name=""/>
              <p:cNvSpPr/>
              <p:nvPr/>
            </p:nvSpPr>
            <p:spPr>
              <a:xfrm>
                <a:off x="2241720" y="4267080"/>
                <a:ext cx="247320" cy="781200"/>
              </a:xfrm>
              <a:custGeom>
                <a:avLst/>
                <a:gdLst>
                  <a:gd name="textAreaLeft" fmla="*/ 11880 w 247320"/>
                  <a:gd name="textAreaRight" fmla="*/ 235440 w 247320"/>
                  <a:gd name="textAreaTop" fmla="*/ 11880 h 781200"/>
                  <a:gd name="textAreaBottom" fmla="*/ 769320 h 781200"/>
                </a:gdLst>
                <a:ahLst/>
                <a:rect l="textAreaLeft" t="textAreaTop" r="textAreaRight" b="textAreaBottom"/>
                <a:pathLst>
                  <a:path w="21600" h="68159">
                    <a:moveTo>
                      <a:pt x="3600" y="0"/>
                    </a:moveTo>
                    <a:arcTo wR="3600" hR="3600" stAng="16200000" swAng="-5400000"/>
                    <a:lnTo>
                      <a:pt x="0" y="64559"/>
                    </a:lnTo>
                    <a:arcTo wR="3600" hR="3600" stAng="10800000" swAng="-5400000"/>
                    <a:lnTo>
                      <a:pt x="18000" y="681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8560" y="424188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531720" y="42102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05000" y="42480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57520" y="421632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6200000">
                <a:off x="2095560" y="4147560"/>
                <a:ext cx="56484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rot="16200000">
                <a:off x="2089080" y="57243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6200000">
                <a:off x="2281320" y="38340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rot="16200000">
                <a:off x="2274840" y="595944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94280" y="3971880"/>
              <a:ext cx="2775960" cy="2365200"/>
              <a:chOff x="494280" y="3971880"/>
              <a:chExt cx="2775960" cy="2365200"/>
            </a:xfrm>
          </p:grpSpPr>
          <p:sp>
            <p:nvSpPr>
              <p:cNvPr id="1099" name=""/>
              <p:cNvSpPr/>
              <p:nvPr/>
            </p:nvSpPr>
            <p:spPr>
              <a:xfrm>
                <a:off x="963360" y="429264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73080" y="42908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031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510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16938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703160" y="42004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20800" y="463716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85960" y="4925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09600" y="3971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887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2366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794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55440" y="52308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65160" y="5229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7031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10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16938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236600" y="60325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88760" y="510696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643040" y="60069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887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2366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7794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4280" y="541008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FA6-291B-4430-92E6-5AA86983C2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397520" y="2133720"/>
            <a:ext cx="2775960" cy="2365200"/>
            <a:chOff x="1397520" y="2133720"/>
            <a:chExt cx="2775960" cy="2365200"/>
          </a:xfrm>
        </p:grpSpPr>
        <p:sp>
          <p:nvSpPr>
            <p:cNvPr id="1125" name=""/>
            <p:cNvSpPr/>
            <p:nvPr/>
          </p:nvSpPr>
          <p:spPr>
            <a:xfrm>
              <a:off x="1866600" y="24544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76320" y="24526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064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542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5970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06400" y="2362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24040" y="2799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9200" y="3087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12840" y="2133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920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398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826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58680" y="3392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6840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064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542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25970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39840" y="4194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2000" y="32688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6280" y="4168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920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398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6826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97520" y="3571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165400" y="3100320"/>
            <a:ext cx="3400200" cy="1011240"/>
            <a:chOff x="2165400" y="3100320"/>
            <a:chExt cx="3400200" cy="1011240"/>
          </a:xfrm>
        </p:grpSpPr>
        <p:sp>
          <p:nvSpPr>
            <p:cNvPr id="1150" name=""/>
            <p:cNvSpPr/>
            <p:nvPr/>
          </p:nvSpPr>
          <p:spPr>
            <a:xfrm>
              <a:off x="2165400" y="334476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84640" y="31003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189160" y="2911320"/>
            <a:ext cx="4258080" cy="766800"/>
            <a:chOff x="2189160" y="2911320"/>
            <a:chExt cx="4258080" cy="766800"/>
          </a:xfrm>
        </p:grpSpPr>
        <p:sp>
          <p:nvSpPr>
            <p:cNvPr id="1153" name=""/>
            <p:cNvSpPr/>
            <p:nvPr/>
          </p:nvSpPr>
          <p:spPr>
            <a:xfrm>
              <a:off x="2189160" y="29113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83840" y="310032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92440" y="2454120"/>
            <a:ext cx="4557600" cy="1652760"/>
            <a:chOff x="2692440" y="2454120"/>
            <a:chExt cx="4557600" cy="1652760"/>
          </a:xfrm>
        </p:grpSpPr>
        <p:sp>
          <p:nvSpPr>
            <p:cNvPr id="1156" name=""/>
            <p:cNvSpPr/>
            <p:nvPr/>
          </p:nvSpPr>
          <p:spPr>
            <a:xfrm>
              <a:off x="2692440" y="245412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7440" y="310032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51040" y="2871720"/>
            <a:ext cx="5559480" cy="596880"/>
            <a:chOff x="2651040" y="2871720"/>
            <a:chExt cx="5559480" cy="596880"/>
          </a:xfrm>
        </p:grpSpPr>
        <p:sp>
          <p:nvSpPr>
            <p:cNvPr id="1159" name=""/>
            <p:cNvSpPr/>
            <p:nvPr/>
          </p:nvSpPr>
          <p:spPr>
            <a:xfrm>
              <a:off x="7505640" y="3100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51040" y="2871720"/>
              <a:ext cx="79704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46360" y="3100320"/>
            <a:ext cx="3017160" cy="1019160"/>
            <a:chOff x="1746360" y="3100320"/>
            <a:chExt cx="3017160" cy="1019160"/>
          </a:xfrm>
        </p:grpSpPr>
        <p:sp>
          <p:nvSpPr>
            <p:cNvPr id="1162" name=""/>
            <p:cNvSpPr/>
            <p:nvPr/>
          </p:nvSpPr>
          <p:spPr>
            <a:xfrm>
              <a:off x="4217040" y="31003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C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46360" y="3781440"/>
              <a:ext cx="171108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747480" y="5035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15440" y="50356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92760" y="503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742800" y="5673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10760" y="567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588080" y="5673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24160" y="2092320"/>
            <a:ext cx="7297560" cy="395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all prime implicants for the following K-map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are essential prime implicants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inimum cov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396080" y="2131920"/>
            <a:ext cx="2775960" cy="2365200"/>
            <a:chOff x="1396080" y="2131920"/>
            <a:chExt cx="2775960" cy="2365200"/>
          </a:xfrm>
        </p:grpSpPr>
        <p:sp>
          <p:nvSpPr>
            <p:cNvPr id="1173" name=""/>
            <p:cNvSpPr/>
            <p:nvPr/>
          </p:nvSpPr>
          <p:spPr>
            <a:xfrm>
              <a:off x="1865160" y="24526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74880" y="2450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49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528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5956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496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22600" y="27972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87760" y="3085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11400" y="2131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905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384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16812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5724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6960" y="3389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049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528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25956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38400" y="4192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0560" y="32670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44840" y="4167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05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384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6812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96080" y="35701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FF2-E5D8-497C-AB0F-91AFA0DBF2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6519960" y="1600200"/>
            <a:ext cx="2469600" cy="2273040"/>
            <a:chOff x="6519960" y="1600200"/>
            <a:chExt cx="2469600" cy="2273040"/>
          </a:xfrm>
        </p:grpSpPr>
        <p:sp>
          <p:nvSpPr>
            <p:cNvPr id="1198" name=""/>
            <p:cNvSpPr/>
            <p:nvPr/>
          </p:nvSpPr>
          <p:spPr>
            <a:xfrm>
              <a:off x="7186320" y="1834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86320" y="22669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80200" y="1841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09880" y="184932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03040" y="184284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09520" y="183492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02680" y="181584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84800" y="2197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84800" y="2019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6320" y="3295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6320" y="37274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0200" y="33019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09880" y="330984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03040" y="330336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09520" y="329544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02680" y="327636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47320" y="2598480"/>
              <a:ext cx="13449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40840" y="2592360"/>
              <a:ext cx="1357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23280" y="2584080"/>
              <a:ext cx="12690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03840" y="256536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31240" y="2584080"/>
              <a:ext cx="1767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24760" y="256536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77040" y="2774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031600" y="2598480"/>
              <a:ext cx="176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25120" y="259236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320" y="3003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86320" y="25588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7180200" y="2552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09520" y="255888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02680" y="255240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409880" y="258588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03040" y="256680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84800" y="26542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2136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9920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95880" y="2050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995880" y="2876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95880" y="34225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23000" y="3429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723000" y="2882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723000" y="205740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23000" y="1600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29120" y="20509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697440" y="20253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29120" y="2876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97440" y="285120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29120" y="34225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97440" y="33969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99588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95880" y="36003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900840" y="3606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900840" y="223524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00840" y="16002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90696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87880" y="22161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06960" y="360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87880" y="3587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821360" y="2050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99200" y="2597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93080" y="20574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21360" y="35114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99200" y="29653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93080" y="2971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82468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5880" y="187308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95880" y="2685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2560" y="269244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32560" y="187956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532560" y="16002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38680" y="1873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19960" y="184788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538680" y="268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19960" y="26733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6450120" y="4343400"/>
            <a:ext cx="2539800" cy="2273040"/>
            <a:chOff x="6450120" y="4343400"/>
            <a:chExt cx="2539800" cy="2273040"/>
          </a:xfrm>
        </p:grpSpPr>
        <p:sp>
          <p:nvSpPr>
            <p:cNvPr id="1272" name=""/>
            <p:cNvSpPr/>
            <p:nvPr/>
          </p:nvSpPr>
          <p:spPr>
            <a:xfrm>
              <a:off x="7021440" y="452088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75320" y="4482720"/>
              <a:ext cx="13330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13840" y="451008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21800" y="451008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173720" y="47941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73720" y="4616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21800" y="52336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5680" y="5233680"/>
              <a:ext cx="13327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13480" y="521964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1440" y="521964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73720" y="5340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5560" y="54864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7071840" y="5518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68840" y="5962320"/>
              <a:ext cx="1307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50120" y="5943600"/>
              <a:ext cx="1345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07360" y="5976720"/>
              <a:ext cx="12693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13480" y="59706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15320" y="597672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09200" y="5970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14960" y="6000480"/>
              <a:ext cx="177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08840" y="598176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135560" y="61340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071840" y="616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084440" y="6343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77040" y="5645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177040" y="521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8170560" y="5207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411760" y="52131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392680" y="5207040"/>
              <a:ext cx="431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412120" y="52275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93040" y="52210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99200" y="5251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08760" y="4705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93080" y="47116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9920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08760" y="5429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83280" y="5518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83280" y="634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87880" y="63500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87880" y="552420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87880" y="434340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94360" y="5518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75280" y="55054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94360" y="6343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75280" y="633096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83280" y="4794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83280" y="534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83280" y="616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0040" y="6172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10040" y="534672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0040" y="48006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10040" y="43434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16520" y="479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84840" y="47685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16520" y="5340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84840" y="53276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16520" y="6165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84840" y="61401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83280" y="4616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983280" y="597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19600" y="598140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19600" y="462276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19600" y="43434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26080" y="4616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07000" y="45910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26080" y="5975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07000" y="5962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08760" y="616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999200" y="5619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993080" y="56260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82468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72200" y="59562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s of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 terms (min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 to form sum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s to form sum terms (max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DB7-5AA0-448E-9731-D8B55AFBE8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536840" y="2717640"/>
            <a:ext cx="2965320" cy="2717640"/>
            <a:chOff x="1536840" y="2717640"/>
            <a:chExt cx="2965320" cy="2717640"/>
          </a:xfrm>
        </p:grpSpPr>
        <p:sp>
          <p:nvSpPr>
            <p:cNvPr id="1347" name=""/>
            <p:cNvSpPr/>
            <p:nvPr/>
          </p:nvSpPr>
          <p:spPr>
            <a:xfrm>
              <a:off x="2330280" y="29905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3028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2416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04240" y="301752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97400" y="299844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03880" y="299016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7040" y="2984400"/>
              <a:ext cx="4950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1616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616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30280" y="47430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3028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24160" y="47494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04240" y="4770000"/>
              <a:ext cx="46872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97400" y="475092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03880" y="4743360"/>
              <a:ext cx="4690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7040" y="4724280"/>
              <a:ext cx="4950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54640" y="3919320"/>
              <a:ext cx="16120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35920" y="3900240"/>
              <a:ext cx="16372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43560" y="3891960"/>
              <a:ext cx="15231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24120" y="387288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353040" y="3891960"/>
              <a:ext cx="202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33960" y="38728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37000" y="4133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53400" y="39193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34320" y="39002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30280" y="44002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3028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32416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03880" y="386640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97040" y="3860640"/>
              <a:ext cx="4950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04240" y="389376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7400" y="387468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1616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09240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308400" y="4133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1464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1464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1464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7804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804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7804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804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8416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5248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8416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5248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8416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5248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464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464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9404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9404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9404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0016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6848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0016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6848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092400" y="325728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08400" y="3917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019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092400" y="500976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308400" y="4349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019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1464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1464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4944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4944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4944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5556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3684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5556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684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9876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483160" y="2717640"/>
            <a:ext cx="3079440" cy="2717640"/>
            <a:chOff x="5483160" y="2717640"/>
            <a:chExt cx="3079440" cy="2717640"/>
          </a:xfrm>
        </p:grpSpPr>
        <p:sp>
          <p:nvSpPr>
            <p:cNvPr id="1421" name=""/>
            <p:cNvSpPr/>
            <p:nvPr/>
          </p:nvSpPr>
          <p:spPr>
            <a:xfrm>
              <a:off x="6276600" y="2990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7660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27048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75400" y="301752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56320" y="299844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75040" y="299016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55960" y="2984400"/>
              <a:ext cx="50796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83360" y="32317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0642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6248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624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76600" y="4400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7660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27048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75040" y="38664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555960" y="38606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75400" y="38937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56320" y="38746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83360" y="41083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64280" y="41018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6248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7660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6600" y="4743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270480" y="4736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75040" y="474336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55960" y="4724280"/>
              <a:ext cx="507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75400" y="4770000"/>
              <a:ext cx="4694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6320" y="475092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83360" y="49845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64280" y="49654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02120" y="3891960"/>
              <a:ext cx="1625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96000" y="3872880"/>
              <a:ext cx="16376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91040" y="3919320"/>
              <a:ext cx="15364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84920" y="3900240"/>
              <a:ext cx="15487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13840" y="3919320"/>
              <a:ext cx="2023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94760" y="3900240"/>
              <a:ext cx="240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13480" y="393012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394400" y="39240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83320" y="387324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546680" y="41018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470360" y="4133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495560" y="4349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68840" y="4133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5320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6096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6096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6096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2436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2436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2436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2436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3048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9880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3048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9880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3048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880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6096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6096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4036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4036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036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4648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1480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4648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1480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368840" y="3917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53200" y="3257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3627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153200" y="50097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627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6096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6096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49576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9576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49576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50188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8316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0188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8316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35956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83320" y="430488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 flipV="1">
            <a:off x="6948360" y="1828800"/>
            <a:ext cx="1449360" cy="113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708600" y="1828800"/>
            <a:ext cx="16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8496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059680" y="2209320"/>
            <a:ext cx="368280" cy="166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interm AND gates with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EBA-A398-4E9B-8030-75EB10836E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682560" y="3892680"/>
            <a:ext cx="2470320" cy="2273040"/>
            <a:chOff x="682560" y="3892680"/>
            <a:chExt cx="2470320" cy="2273040"/>
          </a:xfrm>
        </p:grpSpPr>
        <p:sp>
          <p:nvSpPr>
            <p:cNvPr id="1512" name=""/>
            <p:cNvSpPr/>
            <p:nvPr/>
          </p:nvSpPr>
          <p:spPr>
            <a:xfrm>
              <a:off x="1349280" y="41148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492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431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72480" y="4141800"/>
              <a:ext cx="392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565640" y="41227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72120" y="411444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65280" y="41212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477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477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49280" y="55879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492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43160" y="5594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572480" y="561492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56564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72120" y="5588280"/>
              <a:ext cx="39276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565280" y="5568840"/>
              <a:ext cx="418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09920" y="4903920"/>
              <a:ext cx="13456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03440" y="488484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85880" y="487656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9400" y="485748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193840" y="4876560"/>
              <a:ext cx="177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87360" y="485748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352600" y="50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94200" y="4903920"/>
              <a:ext cx="17712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87720" y="488484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49280" y="5295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492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3431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72120" y="485100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652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72480" y="487836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656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477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98432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62160" y="5079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714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1714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714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859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859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859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859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20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604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20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604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20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604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714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714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63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63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63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699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382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699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382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98432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62160" y="490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5604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8432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16216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15604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1714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714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5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5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5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16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25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16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25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876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425760" y="3892680"/>
            <a:ext cx="2571840" cy="2273040"/>
            <a:chOff x="3425760" y="3892680"/>
            <a:chExt cx="2571840" cy="2273040"/>
          </a:xfrm>
        </p:grpSpPr>
        <p:sp>
          <p:nvSpPr>
            <p:cNvPr id="1586" name=""/>
            <p:cNvSpPr/>
            <p:nvPr/>
          </p:nvSpPr>
          <p:spPr>
            <a:xfrm>
              <a:off x="4092480" y="4114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924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0863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40520" y="4141800"/>
              <a:ext cx="3931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21440" y="412272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340160" y="411444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21080" y="41212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59200" y="4317840"/>
              <a:ext cx="511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53080" y="43243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909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909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924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924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0863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40160" y="485100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21080" y="48448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34052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321440" y="48592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59200" y="5054760"/>
              <a:ext cx="511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530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9909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924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924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4086360" y="558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40160" y="5588280"/>
              <a:ext cx="3934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321080" y="556884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0520" y="561492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21440" y="559584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59200" y="579132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530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42040" y="4876560"/>
              <a:ext cx="13582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35560" y="4857480"/>
              <a:ext cx="13712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18720" y="4903920"/>
              <a:ext cx="12816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12240" y="488484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39640" y="4903920"/>
              <a:ext cx="1764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20200" y="48848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39280" y="4902480"/>
              <a:ext cx="1767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19840" y="490860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095800" y="48578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46560" y="504828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5082840" y="5079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108400" y="52578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006880" y="5079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290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146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9146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146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91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91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291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291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52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36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352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6036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6352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6036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146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146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070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70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70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131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814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131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814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06880" y="49021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290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0076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2904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0076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146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9146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387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387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387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4448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257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4448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257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3236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095800" y="5226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6168960" y="3892680"/>
            <a:ext cx="2673360" cy="2273040"/>
            <a:chOff x="6168960" y="3892680"/>
            <a:chExt cx="2673360" cy="2273040"/>
          </a:xfrm>
        </p:grpSpPr>
        <p:sp>
          <p:nvSpPr>
            <p:cNvPr id="1671" name=""/>
            <p:cNvSpPr/>
            <p:nvPr/>
          </p:nvSpPr>
          <p:spPr>
            <a:xfrm>
              <a:off x="6835680" y="4127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35680" y="455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29560" y="4133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084080" y="414180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077600" y="41353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083720" y="412740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7240" y="41083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515360" y="431784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96280" y="4311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746760" y="44895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46760" y="4311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356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356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8295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83720" y="485136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7724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84080" y="487836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7760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15360" y="50547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962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4676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835680" y="601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356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6829560" y="5581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83720" y="558792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77240" y="55688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084080" y="560232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7760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515360" y="577836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4962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40880" y="48513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40880" y="529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34400" y="4857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18856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1698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88200" y="48513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1694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07600" y="50547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58852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500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72240" y="5067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578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578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657840" y="4343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723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3723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3723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723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784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9400" y="43178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784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9400" y="5143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784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59400" y="56894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578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57840" y="45212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62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62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62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69280" y="45212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37240" y="45086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69280" y="5892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537240" y="588024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50080" y="488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722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43960" y="4349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5008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72240" y="5803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43960" y="52642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57840" y="4978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578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194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194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94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00640" y="4165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1689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00640" y="49784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1689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644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6499080" y="1828800"/>
            <a:ext cx="22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8272440" y="1824120"/>
            <a:ext cx="450720" cy="29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gate with inverted inputs is a N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+ B’ = (A •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AND-NAND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103-8296-4299-B4A4-80E73F46F0E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4" name=""/>
          <p:cNvGrpSpPr/>
          <p:nvPr/>
        </p:nvGrpSpPr>
        <p:grpSpPr>
          <a:xfrm>
            <a:off x="4946760" y="2692440"/>
            <a:ext cx="3187440" cy="2717640"/>
            <a:chOff x="4946760" y="2692440"/>
            <a:chExt cx="3187440" cy="2717640"/>
          </a:xfrm>
        </p:grpSpPr>
        <p:sp>
          <p:nvSpPr>
            <p:cNvPr id="1755" name=""/>
            <p:cNvSpPr/>
            <p:nvPr/>
          </p:nvSpPr>
          <p:spPr>
            <a:xfrm>
              <a:off x="5079960" y="299052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60880" y="2971440"/>
              <a:ext cx="152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080320" y="301788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061240" y="2998800"/>
              <a:ext cx="152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766120" y="3017880"/>
              <a:ext cx="1137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47040" y="29988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03920" y="3016080"/>
              <a:ext cx="75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84840" y="299700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10400" y="3117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810400" y="3346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91240" y="3206520"/>
              <a:ext cx="637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85120" y="32004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32920" y="38750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46760" y="3875040"/>
              <a:ext cx="16380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22720" y="3847680"/>
              <a:ext cx="15620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632560" y="38476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810400" y="3994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72240" y="41781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683320" y="42228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597720" y="40766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05160" y="474372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86440" y="4724640"/>
              <a:ext cx="15109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05520" y="477036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086800" y="4751280"/>
              <a:ext cx="15109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79080" y="4770360"/>
              <a:ext cx="126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72240" y="47512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29120" y="4768920"/>
              <a:ext cx="75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10040" y="474984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35600" y="4984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16800" y="49593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597720" y="49402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10400" y="47689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10400" y="5200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30880" y="3841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130880" y="4375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24760" y="38480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429680" y="38685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410600" y="38494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429320" y="38412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10240" y="38354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37640" y="40831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16760" y="42926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016760" y="40766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16760" y="38480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02280" y="4108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8664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02280" y="3892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86640" y="32320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96160" y="32385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02280" y="4324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8664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96160" y="43304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594400" y="5200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94400" y="4222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73800" y="52070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73800" y="422892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473800" y="269244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479920" y="422280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48240" y="4197240"/>
              <a:ext cx="637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79920" y="5200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48240" y="5175000"/>
              <a:ext cx="6372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9440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9440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94400" y="3346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57800" y="49910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57800" y="400032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57800" y="3352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57800" y="269244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64280" y="3346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32240" y="332100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64280" y="3994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32240" y="398124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64280" y="49845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2240" y="4959360"/>
              <a:ext cx="5112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94400" y="47689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94400" y="31176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029200" y="477504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29200" y="312408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029200" y="2692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035680" y="31176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016600" y="3105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35680" y="476892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16600" y="4743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3116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797440" y="47368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48200" y="49402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314720" y="2692440"/>
            <a:ext cx="3022200" cy="2717640"/>
            <a:chOff x="1314720" y="2692440"/>
            <a:chExt cx="3022200" cy="2717640"/>
          </a:xfrm>
        </p:grpSpPr>
        <p:sp>
          <p:nvSpPr>
            <p:cNvPr id="1842" name=""/>
            <p:cNvSpPr/>
            <p:nvPr/>
          </p:nvSpPr>
          <p:spPr>
            <a:xfrm>
              <a:off x="1987560" y="2908080"/>
              <a:ext cx="2408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39920" y="2856960"/>
              <a:ext cx="15872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78440" y="2896920"/>
              <a:ext cx="15487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87920" y="2896920"/>
              <a:ext cx="2404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65400" y="323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65400" y="301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987920" y="3760560"/>
              <a:ext cx="2404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40280" y="3760560"/>
              <a:ext cx="15868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78080" y="373356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987560" y="373356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65400" y="38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127240" y="4051080"/>
              <a:ext cx="889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2050560" y="40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33440" y="4628880"/>
              <a:ext cx="15490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14720" y="4597560"/>
              <a:ext cx="1599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71960" y="4643280"/>
              <a:ext cx="15109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78440" y="4637160"/>
              <a:ext cx="153576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981800" y="4643280"/>
              <a:ext cx="202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75320" y="4637160"/>
              <a:ext cx="2404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81440" y="466704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74960" y="464796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27240" y="482580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2050560" y="48704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063880" y="5086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359160" y="42480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59160" y="3727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3352680" y="37209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644640" y="372744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25560" y="3720960"/>
              <a:ext cx="50796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45000" y="3754440"/>
              <a:ext cx="46944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625920" y="3735360"/>
              <a:ext cx="5076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156120" y="3778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927520" y="31305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149640" y="3136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156120" y="3994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27520" y="39942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3680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936800" y="5086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28800" y="5092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28800" y="41018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28800" y="269244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5280" y="409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1620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35280" y="5086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16200" y="50608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36800" y="3232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936800" y="38797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36800" y="4870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12800" y="48765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612800" y="388620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12800" y="3238560"/>
              <a:ext cx="0" cy="6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12800" y="26924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619280" y="323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587600" y="320652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9280" y="387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87600" y="3867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9280" y="487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87600" y="48322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936800" y="3016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936800" y="4641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84200" y="4647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84200" y="3022560"/>
              <a:ext cx="0" cy="16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384200" y="2692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90680" y="3016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71600" y="29908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90680" y="46418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71600" y="46292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27520" y="4870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56120" y="4222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49640" y="4228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3388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050920" y="462276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 flipV="1">
            <a:off x="6502320" y="1828800"/>
            <a:ext cx="1770120" cy="11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6456240" y="182880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43760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7742160" y="2209680"/>
            <a:ext cx="533520" cy="157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axterm OR gates with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D23-F4A2-498D-8CA5-28BAA49647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"/>
          <p:cNvGrpSpPr/>
          <p:nvPr/>
        </p:nvGrpSpPr>
        <p:grpSpPr>
          <a:xfrm>
            <a:off x="647640" y="3746520"/>
            <a:ext cx="2489400" cy="2260440"/>
            <a:chOff x="647640" y="3746520"/>
            <a:chExt cx="2489400" cy="2260440"/>
          </a:xfrm>
        </p:grpSpPr>
        <p:sp>
          <p:nvSpPr>
            <p:cNvPr id="1921" name=""/>
            <p:cNvSpPr/>
            <p:nvPr/>
          </p:nvSpPr>
          <p:spPr>
            <a:xfrm>
              <a:off x="1193760" y="392400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3200" y="3885840"/>
              <a:ext cx="1294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5800" y="39132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94120" y="3913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333440" y="419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33440" y="401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94120" y="463680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73560" y="4636800"/>
              <a:ext cx="12945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85440" y="460980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93760" y="460980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3440" y="4730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08240" y="48765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244520" y="4908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66720" y="535284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47640" y="5333400"/>
              <a:ext cx="130788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0040" y="5367240"/>
              <a:ext cx="1256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6160" y="536076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88000" y="5367240"/>
              <a:ext cx="164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81520" y="536076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87640" y="5391000"/>
              <a:ext cx="164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81160" y="5371560"/>
              <a:ext cx="2026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308240" y="5524560"/>
              <a:ext cx="75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1244520" y="555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257120" y="573408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36760" y="50353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36760" y="46036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2330280" y="45968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571480" y="460332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2760" y="4597560"/>
              <a:ext cx="418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71840" y="4630680"/>
              <a:ext cx="393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3120" y="46116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58920" y="4654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68480" y="4108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52800" y="4114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5892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68480" y="4832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55600" y="49086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55600" y="5734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60560" y="574020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60560" y="491472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60560" y="374652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66680" y="4908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47600" y="49086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66680" y="573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47600" y="5721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55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55600" y="4730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5600" y="5556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82720" y="5562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82720" y="47368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82720" y="4203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82720" y="37465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88840" y="4197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57160" y="41716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88840" y="4730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57160" y="47178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88840" y="5556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57160" y="5530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5600" y="4019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155600" y="5365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92280" y="5371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92280" y="4025880"/>
              <a:ext cx="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92280" y="37465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8400" y="401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79320" y="39942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8400" y="5365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9320" y="5352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968480" y="5556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58920" y="5022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152800" y="50292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71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44520" y="53593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 flipV="1">
            <a:off x="8377200" y="1817280"/>
            <a:ext cx="366840" cy="286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6508800" y="1835280"/>
            <a:ext cx="223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6121440" y="3746520"/>
            <a:ext cx="2717640" cy="2273040"/>
            <a:chOff x="6121440" y="3746520"/>
            <a:chExt cx="2717640" cy="2273040"/>
          </a:xfrm>
        </p:grpSpPr>
        <p:sp>
          <p:nvSpPr>
            <p:cNvPr id="1996" name=""/>
            <p:cNvSpPr/>
            <p:nvPr/>
          </p:nvSpPr>
          <p:spPr>
            <a:xfrm>
              <a:off x="6229800" y="399384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21036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22980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210720" y="40021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788880" y="4021200"/>
              <a:ext cx="11304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82400" y="400212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826680" y="4019400"/>
              <a:ext cx="7524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820200" y="399996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832440" y="41083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832440" y="42861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86560" y="417168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80440" y="41655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693480" y="4738680"/>
              <a:ext cx="202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21440" y="473868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72200" y="4711680"/>
              <a:ext cx="13078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93120" y="471168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324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94640" y="49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67305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93040" y="490212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242400" y="5454360"/>
              <a:ext cx="12438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236280" y="54482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42760" y="5468760"/>
              <a:ext cx="12434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236280" y="54626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4080" y="5468760"/>
              <a:ext cx="1008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7950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851160" y="5466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32800" y="5460840"/>
              <a:ext cx="88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858000" y="5657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512120" y="563220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93040" y="5626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2440" y="546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32440" y="5835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347240" y="47304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327440" y="4711680"/>
              <a:ext cx="12574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347240" y="47448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27800" y="4738680"/>
              <a:ext cx="1257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905600" y="4744800"/>
              <a:ext cx="101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899840" y="473868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943400" y="4743360"/>
              <a:ext cx="63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937640" y="473652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950240" y="49212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604360" y="49086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585280" y="49021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937640" y="4743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937640" y="511164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468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569000" y="49212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46840" y="474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5690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740720" y="420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746840" y="511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5690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4072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6546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6546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59560" y="5841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5595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59560" y="374652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66040" y="5022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534000" y="4997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566040" y="5835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34000" y="5823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54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546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54600" y="4286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9120" y="566424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91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69120" y="4292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369120" y="3746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75240" y="4286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356160" y="427356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375240" y="4832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56160" y="4819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75240" y="5657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56160" y="56322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54600" y="5467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546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91280" y="5473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91280" y="411480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91280" y="374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74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6572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97400" y="5467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65720" y="54547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612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8072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8580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378960" y="3759120"/>
            <a:ext cx="2615400" cy="2247840"/>
            <a:chOff x="3378960" y="3759120"/>
            <a:chExt cx="2615400" cy="2247840"/>
          </a:xfrm>
        </p:grpSpPr>
        <p:sp>
          <p:nvSpPr>
            <p:cNvPr id="2085" name=""/>
            <p:cNvSpPr/>
            <p:nvPr/>
          </p:nvSpPr>
          <p:spPr>
            <a:xfrm>
              <a:off x="3473640" y="400716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45420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7364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54560" y="40147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44960" y="4021200"/>
              <a:ext cx="88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025880" y="4014720"/>
              <a:ext cx="1267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070880" y="4019760"/>
              <a:ext cx="626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063680" y="4013280"/>
              <a:ext cx="889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076640" y="4108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076640" y="4298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718160" y="4184640"/>
              <a:ext cx="633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724280" y="417816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937680" y="473868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378960" y="4738680"/>
              <a:ext cx="1344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429000" y="471168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937320" y="471168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0766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051440" y="4991040"/>
              <a:ext cx="633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9747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724280" y="49021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99200" y="5454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80120" y="5448240"/>
              <a:ext cx="12438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99200" y="5481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480480" y="5462640"/>
              <a:ext cx="1243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96080" y="5479560"/>
              <a:ext cx="6264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6640" y="5460840"/>
              <a:ext cx="1011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43360" y="56322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724280" y="56260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076640" y="583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168880" y="4705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168880" y="5149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162400" y="47116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416920" y="473220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397840" y="47131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416560" y="470520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97480" y="46987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835600" y="490860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079960" y="50799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079960" y="490212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079960" y="471168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978440" y="4933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0060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78440" y="4755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800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971960" y="42037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978440" y="51116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0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7196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988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8988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3760" y="5841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8037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03760" y="3759120"/>
              <a:ext cx="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80988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8200" y="5010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809880" y="5835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78200" y="58100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988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898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98800" y="4298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625920" y="56642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6259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625920" y="43052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25920" y="3759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32040" y="4298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600360" y="4273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632040" y="48322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600360" y="4819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632040" y="5657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00360" y="56322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98800" y="5479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988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35480" y="54864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435480" y="411480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35480" y="3759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416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22520" y="4095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41600" y="547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22520" y="5454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82912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640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1148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gate with inverted inputs is a N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B’ = (A +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OR-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383-7C83-4C4E-97DE-D011075613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and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-NAND and NOR-NO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 la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+ B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’ • B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’  =   A’ +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different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+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A’ • B’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   =  (A’ + B’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ther words –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s the same as N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s the same as N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is the same as 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 is the same as 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3170160" y="5139000"/>
            <a:ext cx="955800" cy="441000"/>
            <a:chOff x="3170160" y="5139000"/>
            <a:chExt cx="955800" cy="441000"/>
          </a:xfrm>
        </p:grpSpPr>
        <p:sp>
          <p:nvSpPr>
            <p:cNvPr id="2180" name=""/>
            <p:cNvSpPr/>
            <p:nvPr/>
          </p:nvSpPr>
          <p:spPr>
            <a:xfrm>
              <a:off x="3343320" y="51562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43320" y="556308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343320" y="515628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760560" y="51728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560760" y="515628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760560" y="53596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60760" y="513900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170160" y="52747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170160" y="544464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51720" y="53596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59520" y="5141520"/>
            <a:ext cx="1585080" cy="435240"/>
            <a:chOff x="659520" y="5141520"/>
            <a:chExt cx="1585080" cy="435240"/>
          </a:xfrm>
        </p:grpSpPr>
        <p:sp>
          <p:nvSpPr>
            <p:cNvPr id="2191" name=""/>
            <p:cNvSpPr/>
            <p:nvPr/>
          </p:nvSpPr>
          <p:spPr>
            <a:xfrm>
              <a:off x="1260000" y="515952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9520" y="515952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93720" y="514152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60000" y="514152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00400" y="525888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00400" y="54410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12840" y="525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12840" y="54410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057040" y="535032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3960720" y="53150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252960" y="5229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249720" y="54021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1236600" y="5813640"/>
            <a:ext cx="955800" cy="441000"/>
            <a:chOff x="1236600" y="5813640"/>
            <a:chExt cx="955800" cy="441000"/>
          </a:xfrm>
        </p:grpSpPr>
        <p:sp>
          <p:nvSpPr>
            <p:cNvPr id="2204" name=""/>
            <p:cNvSpPr/>
            <p:nvPr/>
          </p:nvSpPr>
          <p:spPr>
            <a:xfrm>
              <a:off x="1409760" y="583092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09760" y="623772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409760" y="583092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27000" y="58474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27200" y="583092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827000" y="603432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627200" y="58136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36600" y="594936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36600" y="611928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18160" y="603432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2027160" y="598968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"/>
          <p:cNvGrpSpPr/>
          <p:nvPr/>
        </p:nvGrpSpPr>
        <p:grpSpPr>
          <a:xfrm>
            <a:off x="2577240" y="5839920"/>
            <a:ext cx="1585080" cy="437400"/>
            <a:chOff x="2577240" y="5839920"/>
            <a:chExt cx="1585080" cy="437400"/>
          </a:xfrm>
        </p:grpSpPr>
        <p:sp>
          <p:nvSpPr>
            <p:cNvPr id="2216" name=""/>
            <p:cNvSpPr/>
            <p:nvPr/>
          </p:nvSpPr>
          <p:spPr>
            <a:xfrm>
              <a:off x="3177720" y="585792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577240" y="585792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611440" y="583992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77720" y="583992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318120" y="59576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318120" y="614088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30560" y="59576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30560" y="614088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760" y="60498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265560" y="5913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1680" y="6094440"/>
            <a:ext cx="87480" cy="87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419200" y="533700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428920" y="60325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9" name=""/>
          <p:cNvGrpSpPr/>
          <p:nvPr/>
        </p:nvGrpSpPr>
        <p:grpSpPr>
          <a:xfrm>
            <a:off x="7454880" y="5767560"/>
            <a:ext cx="955800" cy="441000"/>
            <a:chOff x="7454880" y="5767560"/>
            <a:chExt cx="955800" cy="441000"/>
          </a:xfrm>
        </p:grpSpPr>
        <p:sp>
          <p:nvSpPr>
            <p:cNvPr id="2230" name=""/>
            <p:cNvSpPr/>
            <p:nvPr/>
          </p:nvSpPr>
          <p:spPr>
            <a:xfrm>
              <a:off x="7628040" y="578484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28040" y="6191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628040" y="578484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45280" y="580140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845480" y="57848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45280" y="59882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5480" y="576756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454880" y="590328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54880" y="6073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236440" y="598824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4944240" y="5770080"/>
            <a:ext cx="1585080" cy="435240"/>
            <a:chOff x="4944240" y="5770080"/>
            <a:chExt cx="1585080" cy="435240"/>
          </a:xfrm>
        </p:grpSpPr>
        <p:sp>
          <p:nvSpPr>
            <p:cNvPr id="2241" name=""/>
            <p:cNvSpPr/>
            <p:nvPr/>
          </p:nvSpPr>
          <p:spPr>
            <a:xfrm>
              <a:off x="5544720" y="578808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44240" y="578808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978440" y="577008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44720" y="577008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685120" y="58874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685120" y="606960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97560" y="58874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97560" y="606960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41760" y="597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6345360" y="594360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537320" y="585792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534440" y="60310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5521320" y="5055840"/>
            <a:ext cx="955800" cy="442080"/>
            <a:chOff x="5521320" y="5055840"/>
            <a:chExt cx="955800" cy="442080"/>
          </a:xfrm>
        </p:grpSpPr>
        <p:sp>
          <p:nvSpPr>
            <p:cNvPr id="2254" name=""/>
            <p:cNvSpPr/>
            <p:nvPr/>
          </p:nvSpPr>
          <p:spPr>
            <a:xfrm>
              <a:off x="5694480" y="50734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94480" y="5480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94480" y="5073480"/>
              <a:ext cx="108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111720" y="50900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11920" y="507348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111720" y="5276880"/>
              <a:ext cx="190800" cy="203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11920" y="505584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21320" y="51919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21320" y="5362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02880" y="52768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6861960" y="5082480"/>
            <a:ext cx="1585080" cy="437400"/>
            <a:chOff x="6861960" y="5082480"/>
            <a:chExt cx="1585080" cy="437400"/>
          </a:xfrm>
        </p:grpSpPr>
        <p:sp>
          <p:nvSpPr>
            <p:cNvPr id="2265" name=""/>
            <p:cNvSpPr/>
            <p:nvPr/>
          </p:nvSpPr>
          <p:spPr>
            <a:xfrm>
              <a:off x="7462440" y="510048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861960" y="510048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896160" y="508248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62440" y="508248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02840" y="520020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602840" y="53834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15280" y="52002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15280" y="53834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259480" y="529236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7550280" y="51562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556400" y="5337000"/>
            <a:ext cx="87480" cy="8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03920" y="59659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713640" y="527544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8269200" y="52466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06C-EF3B-41E2-8D2E-D0D228B7CE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95680" y="5638680"/>
            <a:ext cx="4191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'll need a 4-variable Karnaugh ma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3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16200" y="3485880"/>
            <a:ext cx="1765080" cy="1187640"/>
            <a:chOff x="1816200" y="3485880"/>
            <a:chExt cx="1765080" cy="1187640"/>
          </a:xfrm>
        </p:grpSpPr>
        <p:sp>
          <p:nvSpPr>
            <p:cNvPr id="89" name=""/>
            <p:cNvSpPr/>
            <p:nvPr/>
          </p:nvSpPr>
          <p:spPr>
            <a:xfrm>
              <a:off x="1816200" y="430524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368080" y="3485880"/>
              <a:ext cx="298440" cy="78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9400" y="2286000"/>
            <a:ext cx="3832920" cy="1099440"/>
            <a:chOff x="599400" y="2286000"/>
            <a:chExt cx="3832920" cy="1099440"/>
          </a:xfrm>
        </p:grpSpPr>
        <p:sp>
          <p:nvSpPr>
            <p:cNvPr id="92" name=""/>
            <p:cNvSpPr/>
            <p:nvPr/>
          </p:nvSpPr>
          <p:spPr>
            <a:xfrm>
              <a:off x="2057400" y="2362320"/>
              <a:ext cx="3556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2362320"/>
              <a:ext cx="14605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lt;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=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gt; C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990720" y="2298600"/>
              <a:ext cx="1904760" cy="1066680"/>
              <a:chOff x="990720" y="2298600"/>
              <a:chExt cx="1904760" cy="1066680"/>
            </a:xfrm>
          </p:grpSpPr>
          <p:sp>
            <p:nvSpPr>
              <p:cNvPr id="95" name=""/>
              <p:cNvSpPr/>
              <p:nvPr/>
            </p:nvSpPr>
            <p:spPr>
              <a:xfrm>
                <a:off x="1523880" y="2298600"/>
                <a:ext cx="83844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0720" y="24508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0720" y="26794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0720" y="29844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0720" y="32130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62320" y="2527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283176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62320" y="31366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522080" y="22860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9920" y="25146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0" y="28195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1000" y="304812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400" y="2362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400" y="29401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24600" y="1625760"/>
            <a:ext cx="3105000" cy="3784320"/>
            <a:chOff x="5124600" y="1625760"/>
            <a:chExt cx="3105000" cy="3784320"/>
          </a:xfrm>
        </p:grpSpPr>
        <p:sp>
          <p:nvSpPr>
            <p:cNvPr id="110" name=""/>
            <p:cNvSpPr/>
            <p:nvPr/>
          </p:nvSpPr>
          <p:spPr>
            <a:xfrm>
              <a:off x="5124600" y="184140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15280" y="16315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24600" y="266688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9800" y="3479400"/>
              <a:ext cx="27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7200" y="4292280"/>
              <a:ext cx="27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30720" y="1625760"/>
              <a:ext cx="3098880" cy="37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03240" y="3777840"/>
            <a:ext cx="2990880" cy="1327680"/>
            <a:chOff x="1803240" y="3777840"/>
            <a:chExt cx="2990880" cy="1327680"/>
          </a:xfrm>
        </p:grpSpPr>
        <p:sp>
          <p:nvSpPr>
            <p:cNvPr id="117" name=""/>
            <p:cNvSpPr/>
            <p:nvPr/>
          </p:nvSpPr>
          <p:spPr>
            <a:xfrm flipV="1">
              <a:off x="3200400" y="3777840"/>
              <a:ext cx="1593720" cy="11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3240" y="4521240"/>
              <a:ext cx="1765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A21-1D68-4154-A43B-AFCB29A61F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"/>
          <p:cNvGrpSpPr/>
          <p:nvPr/>
        </p:nvGrpSpPr>
        <p:grpSpPr>
          <a:xfrm>
            <a:off x="838080" y="4881600"/>
            <a:ext cx="3340080" cy="1625400"/>
            <a:chOff x="838080" y="4881600"/>
            <a:chExt cx="3340080" cy="1625400"/>
          </a:xfrm>
        </p:grpSpPr>
        <p:sp>
          <p:nvSpPr>
            <p:cNvPr id="2280" name=""/>
            <p:cNvSpPr/>
            <p:nvPr/>
          </p:nvSpPr>
          <p:spPr>
            <a:xfrm>
              <a:off x="1562040" y="50212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6204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1549440" y="50083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0396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03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80360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03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62040" y="58719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6204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1549440" y="58593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0396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03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0360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03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807280" y="546732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59280" y="54673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247840" y="5439960"/>
              <a:ext cx="14349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806920" y="543996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84400" y="5592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984400" y="580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78136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2734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76440" y="52750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76876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78136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734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76440" y="61261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6876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5900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5408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5900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5408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5900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5408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5900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5408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69576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89880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3808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6364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6364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6364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4317840" y="4881600"/>
            <a:ext cx="4292640" cy="1625400"/>
            <a:chOff x="4317840" y="4881600"/>
            <a:chExt cx="4292640" cy="1625400"/>
          </a:xfrm>
        </p:grpSpPr>
        <p:sp>
          <p:nvSpPr>
            <p:cNvPr id="2323" name=""/>
            <p:cNvSpPr/>
            <p:nvPr/>
          </p:nvSpPr>
          <p:spPr>
            <a:xfrm>
              <a:off x="5626080" y="5021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62608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13480" y="50338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8060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80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88024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880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350040" y="52372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37440" y="522432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626080" y="58719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62608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613480" y="58849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8060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80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8024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80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50040" y="60879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337440" y="60753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375240" y="54529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62280" y="5439960"/>
              <a:ext cx="1397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375600" y="54673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362640" y="5467320"/>
              <a:ext cx="1396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997680" y="5467320"/>
              <a:ext cx="126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997680" y="5467320"/>
              <a:ext cx="1267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35480" y="5465520"/>
              <a:ext cx="88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35480" y="5465880"/>
              <a:ext cx="889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35840" y="555480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35840" y="5541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035840" y="57704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035840" y="5757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42304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11812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2304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11812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42304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11812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42304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1812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43896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84540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6420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3244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43896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4540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6420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3244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5980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96284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17840" y="55292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87692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90212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0212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0212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356680" y="55292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651640" y="5122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651640" y="598644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12160" y="5554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from networks of ANDs and ORs to networks of NANDs and N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ppropriate inversions ("bubbl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introduced "bubble" must be matched by a corresponding "bubbl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of i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lter log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ND/OR to NAND/N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6324480" y="3903840"/>
            <a:ext cx="2210040" cy="1612080"/>
            <a:chOff x="6324480" y="3903840"/>
            <a:chExt cx="2210040" cy="1612080"/>
          </a:xfrm>
        </p:grpSpPr>
        <p:sp>
          <p:nvSpPr>
            <p:cNvPr id="2383" name=""/>
            <p:cNvSpPr/>
            <p:nvPr/>
          </p:nvSpPr>
          <p:spPr>
            <a:xfrm>
              <a:off x="70801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70801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0675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372440" y="4176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945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79945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819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880400" y="4176720"/>
              <a:ext cx="633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880400" y="4176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7708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4865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899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9944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743880" y="3903840"/>
              <a:ext cx="1790640" cy="62208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6324480" y="4525920"/>
              <a:ext cx="4572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7086600" y="4525560"/>
              <a:ext cx="14479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91A-11AD-4215-94BF-FC5A98A0D4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086280" y="4470480"/>
            <a:ext cx="33271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[ (A  •  B)’  • (C   • D)’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  •  (C’ + D’)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’ + (C’ + D’)’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(A  •  B)   + (C  • D)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762120" y="2394000"/>
            <a:ext cx="3733560" cy="1625400"/>
            <a:chOff x="762120" y="2394000"/>
            <a:chExt cx="3733560" cy="1625400"/>
          </a:xfrm>
        </p:grpSpPr>
        <p:sp>
          <p:nvSpPr>
            <p:cNvPr id="2403" name=""/>
            <p:cNvSpPr/>
            <p:nvPr/>
          </p:nvSpPr>
          <p:spPr>
            <a:xfrm>
              <a:off x="1486080" y="25336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486080" y="30416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1473120" y="2520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72728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64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72692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72728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486080" y="33847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86080" y="38926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1473120" y="337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2728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72764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72692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72728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0600" y="29797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82960" y="29797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171880" y="29523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0240" y="29523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908440" y="3105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908440" y="3321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0504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9708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400480" y="2787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9244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0504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19708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400480" y="3638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9244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28268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977760" y="2673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28268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977760" y="2889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28268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77760" y="35244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28268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77760" y="37400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1944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82284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6212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87320" y="2825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7320" y="3270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7320" y="36640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241880" y="30416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4800600" y="2394000"/>
            <a:ext cx="3733920" cy="1625400"/>
            <a:chOff x="4800600" y="2394000"/>
            <a:chExt cx="3733920" cy="1625400"/>
          </a:xfrm>
        </p:grpSpPr>
        <p:sp>
          <p:nvSpPr>
            <p:cNvPr id="2447" name=""/>
            <p:cNvSpPr/>
            <p:nvPr/>
          </p:nvSpPr>
          <p:spPr>
            <a:xfrm>
              <a:off x="5549760" y="2533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549760" y="30416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537160" y="25462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0392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428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0356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0392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273720" y="274968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261120" y="2736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49760" y="33847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549760" y="3892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37160" y="33973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0392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80428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0356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0392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273720" y="360036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261120" y="358776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299280" y="29653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286680" y="2952360"/>
              <a:ext cx="139644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99640" y="29797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287040" y="2979720"/>
              <a:ext cx="13960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922080" y="2979720"/>
              <a:ext cx="126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922080" y="2979720"/>
              <a:ext cx="1260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959880" y="2977920"/>
              <a:ext cx="88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59880" y="2978280"/>
              <a:ext cx="882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59520" y="30672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59520" y="3054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59520" y="32828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959520" y="3270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34672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041800" y="267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34672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041800" y="2889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467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041800" y="35244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4672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41800" y="37400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3626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76908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660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5648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626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76908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5660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75648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68348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88688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80060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26160" y="28256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826160" y="32702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826160" y="3664080"/>
              <a:ext cx="266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280360" y="30416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575320" y="2635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575320" y="349884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035840" y="3067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4AD-CDBC-4280-B815-900C2312D5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/>
          <p:nvPr/>
        </p:nvSpPr>
        <p:spPr>
          <a:xfrm>
            <a:off x="566424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58196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435800" y="4832280"/>
            <a:ext cx="52092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91772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1352520" y="5556240"/>
            <a:ext cx="53352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5568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952880" y="3683160"/>
            <a:ext cx="3606840" cy="2082600"/>
            <a:chOff x="4952880" y="3683160"/>
            <a:chExt cx="3606840" cy="2082600"/>
          </a:xfrm>
        </p:grpSpPr>
        <p:sp>
          <p:nvSpPr>
            <p:cNvPr id="2510" name=""/>
            <p:cNvSpPr/>
            <p:nvPr/>
          </p:nvSpPr>
          <p:spPr>
            <a:xfrm>
              <a:off x="5657760" y="3797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657760" y="4229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651640" y="38037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867640" y="381168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848560" y="38052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867280" y="379728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848200" y="37782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575320" y="38988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568840" y="389268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575320" y="407664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568840" y="40705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734080" y="5143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734080" y="5575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727600" y="51498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944320" y="517032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937840" y="515160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943960" y="514332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937480" y="513720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64240" y="52578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57760" y="523872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64240" y="543564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57760" y="541656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95880" y="453384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89400" y="452772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096240" y="454824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089760" y="454176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604560" y="454824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98440" y="454176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641640" y="454644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635520" y="454032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648480" y="4635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648480" y="482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3888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32760" y="470520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28120" y="455292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7728120" y="47304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721640" y="45529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4532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39200" y="470520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238720" y="39243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238720" y="4102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92880" y="527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238720" y="52704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92880" y="5448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238720" y="54482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29440" y="4013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483240" y="4635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94320" y="4013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477120" y="4019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318360" y="535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83240" y="4826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77120" y="483228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30872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47396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96932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3420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676840" y="389880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53160" y="52196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680160" y="459756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65840" y="368316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52880" y="408924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78440" y="504180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952880" y="543564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05920" y="461016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762120" y="3727440"/>
            <a:ext cx="3733560" cy="1911240"/>
            <a:chOff x="762120" y="3727440"/>
            <a:chExt cx="3733560" cy="1911240"/>
          </a:xfrm>
        </p:grpSpPr>
        <p:sp>
          <p:nvSpPr>
            <p:cNvPr id="2575" name=""/>
            <p:cNvSpPr/>
            <p:nvPr/>
          </p:nvSpPr>
          <p:spPr>
            <a:xfrm>
              <a:off x="2266920" y="3772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266920" y="42037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60440" y="3778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76800" y="3786120"/>
              <a:ext cx="354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457720" y="37800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476440" y="377172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457360" y="37530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84480" y="387360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7800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84480" y="405144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78000" y="4044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343240" y="5118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343240" y="5549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336760" y="5124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552760" y="5145120"/>
              <a:ext cx="367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546280" y="5126040"/>
              <a:ext cx="380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552400" y="5118480"/>
              <a:ext cx="368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545920" y="5111640"/>
              <a:ext cx="381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273400" y="523224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266920" y="521352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73400" y="54100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266920" y="5391000"/>
              <a:ext cx="633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352520" y="372744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352520" y="38923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346040" y="37274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59372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352520" y="426096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1352520" y="442548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346040" y="426096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593720" y="44006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352520" y="480708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1352520" y="49716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46040" y="48070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59372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52520" y="525132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352520" y="54162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46040" y="52513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593720" y="539100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117960" y="451656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597400" y="4516560"/>
              <a:ext cx="1244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60400" y="4502160"/>
              <a:ext cx="1181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117600" y="4502160"/>
              <a:ext cx="190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257640" y="4610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257640" y="480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264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01312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84788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841400" y="4083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092400" y="4610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838600" y="3987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003480" y="3987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86280" y="3994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8264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52452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841400" y="49849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847880" y="5245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092400" y="480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27520" y="5334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086280" y="48070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1312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68264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84788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68264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847880" y="5423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18728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2240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18728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022400" y="4432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8728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022400" y="4978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1872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22400" y="542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841920" y="4711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6800" y="4711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374920" y="5194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311560" y="38480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2120" y="37846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74720" y="433080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7320" y="487692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4720" y="530856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41880" y="45720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map AND/OR network to NOR/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3124080" y="2057400"/>
            <a:ext cx="3733560" cy="1625400"/>
            <a:chOff x="3124080" y="2057400"/>
            <a:chExt cx="3733560" cy="1625400"/>
          </a:xfrm>
        </p:grpSpPr>
        <p:sp>
          <p:nvSpPr>
            <p:cNvPr id="2660" name=""/>
            <p:cNvSpPr/>
            <p:nvPr/>
          </p:nvSpPr>
          <p:spPr>
            <a:xfrm>
              <a:off x="3848040" y="2197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848040" y="270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3835080" y="2184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89240" y="21985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89600" y="21985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88880" y="21841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9240" y="21718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848040" y="30481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848040" y="3556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835080" y="30351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89240" y="30495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89600" y="30495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88880" y="30355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89240" y="30225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092560" y="26431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44920" y="26431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533840" y="26157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092200" y="26157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270400" y="2768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70400" y="2984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067000" y="2768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5904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762440" y="245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54400" y="2463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067000" y="298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559040" y="3301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62440" y="33019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54400" y="2997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644640" y="2336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339720" y="2336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644640" y="2552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339720" y="2552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44640" y="318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339720" y="3187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644640" y="34034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339720" y="34034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81400" y="2870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84800" y="2870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124080" y="20574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149280" y="24890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149280" y="2933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149280" y="33274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603840" y="27050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90B-7E99-464F-B361-B3683F3525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"/>
          <p:cNvSpPr/>
          <p:nvPr/>
        </p:nvSpPr>
        <p:spPr>
          <a:xfrm>
            <a:off x="2870280" y="4356000"/>
            <a:ext cx="37335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{  [ (A’ + B’)’ + (C’ + D’)’  ]’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    (A’ + B’)  •  (C’ + D’)    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’ + B’)’ + (C’ + D’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  •  B)  +  (C  •  D) 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609480" y="2336760"/>
            <a:ext cx="3733560" cy="1625400"/>
            <a:chOff x="609480" y="2336760"/>
            <a:chExt cx="3733560" cy="1625400"/>
          </a:xfrm>
        </p:grpSpPr>
        <p:sp>
          <p:nvSpPr>
            <p:cNvPr id="2707" name=""/>
            <p:cNvSpPr/>
            <p:nvPr/>
          </p:nvSpPr>
          <p:spPr>
            <a:xfrm>
              <a:off x="1333440" y="24764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333440" y="29844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1320480" y="2463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74640" y="247788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575000" y="247788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574280" y="246348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574640" y="245124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333440" y="33274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333440" y="38354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320480" y="3314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574640" y="332892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575000" y="33289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574280" y="331488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574640" y="330192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577960" y="292248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930320" y="292248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19240" y="289512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577600" y="289512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55800" y="3047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55800" y="3263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552400" y="3047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044440" y="273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247840" y="2730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539800" y="27432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55240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44440" y="3581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247840" y="3581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539800" y="3276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30040" y="261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5120" y="2616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130040" y="283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25120" y="2832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130040" y="346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5120" y="34671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130040" y="3682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5120" y="3682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466800" y="3149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670200" y="3149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09480" y="233676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34680" y="27684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34680" y="32130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34680" y="360684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089240" y="29844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5105520" y="2209680"/>
            <a:ext cx="3606840" cy="2082600"/>
            <a:chOff x="5105520" y="2209680"/>
            <a:chExt cx="3606840" cy="2082600"/>
          </a:xfrm>
        </p:grpSpPr>
        <p:sp>
          <p:nvSpPr>
            <p:cNvPr id="2751" name=""/>
            <p:cNvSpPr/>
            <p:nvPr/>
          </p:nvSpPr>
          <p:spPr>
            <a:xfrm>
              <a:off x="5810400" y="2323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10400" y="27558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04280" y="23302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020280" y="233820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001200" y="233172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019920" y="232380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000840" y="230472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27960" y="24253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21480" y="241920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27960" y="260316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21480" y="259704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886720" y="3670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886720" y="4101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880240" y="36763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96960" y="369684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90480" y="367812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96600" y="366984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0120" y="366372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816880" y="378432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810400" y="376524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816880" y="396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810400" y="394308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248520" y="306036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42040" y="305424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48880" y="307476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242400" y="306828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757200" y="307476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751080" y="306828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794280" y="3072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788160" y="306684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801120" y="3161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801120" y="3352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39152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385400" y="323172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880760" y="307944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7880760" y="32569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874280" y="30794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9796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91840" y="323172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391360" y="24508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391360" y="2628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645520" y="3796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1360" y="3796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45520" y="3974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391360" y="39747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82080" y="2539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635880" y="3161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546960" y="2539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629760" y="2545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471000" y="3885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635880" y="3352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29760" y="335880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46136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266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2196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8684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829480" y="242532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905800" y="374616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832800" y="312408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118480" y="220968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105520" y="261576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131080" y="356832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5520" y="396216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458560" y="313668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B99-0604-459E-86D9-94D1A55491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1803600" y="5145120"/>
            <a:ext cx="13708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790640" y="5145120"/>
            <a:ext cx="13968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879560" y="5130720"/>
            <a:ext cx="1294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66960" y="5117760"/>
            <a:ext cx="13204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00120" y="5130720"/>
            <a:ext cx="1774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387160" y="5117760"/>
            <a:ext cx="20340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65360" y="535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400480" y="5145120"/>
            <a:ext cx="1771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87520" y="5145120"/>
            <a:ext cx="2030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413080" y="5729400"/>
            <a:ext cx="1900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816200" y="5729400"/>
            <a:ext cx="13838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892160" y="5702400"/>
            <a:ext cx="13078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412720" y="5702400"/>
            <a:ext cx="1904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565360" y="5842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565360" y="6045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343400" y="53211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43400" y="57913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330800" y="53341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559400" y="5322960"/>
            <a:ext cx="4060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546800" y="5322960"/>
            <a:ext cx="4312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59040" y="5308920"/>
            <a:ext cx="40644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46440" y="5295960"/>
            <a:ext cx="43164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664600" y="5437080"/>
            <a:ext cx="2023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067720" y="5437080"/>
            <a:ext cx="13960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143680" y="5410440"/>
            <a:ext cx="13201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664240" y="5410440"/>
            <a:ext cx="202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5829480" y="5549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829480" y="57531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152960" y="53593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225960" y="5359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03440" y="535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22596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152960" y="55497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403440" y="59436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581280" y="5562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594240" y="5549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651640" y="5549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99104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181480" y="5549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489720" y="5651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578640" y="56516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387520" y="5156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197080" y="51562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387520" y="5359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197080" y="53593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387520" y="55497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19708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387520" y="5842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197080" y="5842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387520" y="6045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7080" y="6045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152960" y="57531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197080" y="6337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387520" y="633744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40360" y="57657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651640" y="57531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197080" y="6527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387520" y="6527880"/>
            <a:ext cx="323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638680" y="576576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30320" y="5041800"/>
            <a:ext cx="3301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807240" y="5511960"/>
            <a:ext cx="584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A D F  +  A E F  +  B D F  +  B E F  +  C D F  +  C E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um-of-products form – already simpl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x 3-input AND gates + 1 x 7-input OR gate (that may not even exis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wires (19 literals plus 6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(A + B + C) (D + E)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d form – not written as two-level S-o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x 3-input OR gate, 2 x 2-input OR gates, 1 x 3-input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wires (7 literals plus 3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E7F-0ABB-4363-BC52-5125BAF8B6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8" name=""/>
          <p:cNvGrpSpPr/>
          <p:nvPr/>
        </p:nvGrpSpPr>
        <p:grpSpPr>
          <a:xfrm>
            <a:off x="4876920" y="1371600"/>
            <a:ext cx="3809880" cy="5270400"/>
            <a:chOff x="4876920" y="1371600"/>
            <a:chExt cx="3809880" cy="5270400"/>
          </a:xfrm>
        </p:grpSpPr>
        <p:sp>
          <p:nvSpPr>
            <p:cNvPr id="2879" name=""/>
            <p:cNvSpPr/>
            <p:nvPr/>
          </p:nvSpPr>
          <p:spPr>
            <a:xfrm>
              <a:off x="777240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78168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9132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876920" y="144792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054760" y="137160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666880" y="1600200"/>
            <a:ext cx="6400440" cy="1447560"/>
            <a:chOff x="2666880" y="1600200"/>
            <a:chExt cx="6400440" cy="1447560"/>
          </a:xfrm>
        </p:grpSpPr>
        <p:sp>
          <p:nvSpPr>
            <p:cNvPr id="2885" name=""/>
            <p:cNvSpPr/>
            <p:nvPr/>
          </p:nvSpPr>
          <p:spPr>
            <a:xfrm>
              <a:off x="2666880" y="1905120"/>
              <a:ext cx="17020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6" name=""/>
            <p:cNvGrpSpPr/>
            <p:nvPr/>
          </p:nvGrpSpPr>
          <p:grpSpPr>
            <a:xfrm>
              <a:off x="4419720" y="1600200"/>
              <a:ext cx="4647600" cy="1447560"/>
              <a:chOff x="4419720" y="1600200"/>
              <a:chExt cx="4647600" cy="1447560"/>
            </a:xfrm>
          </p:grpSpPr>
          <p:sp>
            <p:nvSpPr>
              <p:cNvPr id="2887" name=""/>
              <p:cNvSpPr/>
              <p:nvPr/>
            </p:nvSpPr>
            <p:spPr>
              <a:xfrm>
                <a:off x="5088240" y="16272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88240" y="199620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81760" y="1634040"/>
                <a:ext cx="0" cy="35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284800" y="164268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277600" y="163548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284440" y="1627560"/>
                <a:ext cx="33732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277600" y="1633680"/>
                <a:ext cx="36432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088240" y="2556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088240" y="293868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081760" y="256320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84800" y="258516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77600" y="256464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84440" y="255636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277600" y="254952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128720" y="1777320"/>
                <a:ext cx="35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128720" y="2160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21880" y="1784520"/>
                <a:ext cx="0" cy="36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325280" y="1806480"/>
                <a:ext cx="33696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305120" y="1785960"/>
                <a:ext cx="36360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324920" y="177768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304760" y="1770840"/>
                <a:ext cx="36396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981040" y="1731240"/>
                <a:ext cx="17424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481000" y="1731240"/>
                <a:ext cx="11743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547960" y="171612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980680" y="1716120"/>
                <a:ext cx="1746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101640" y="18183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101640" y="196884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020800" y="1881720"/>
                <a:ext cx="16128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507080" y="1881720"/>
                <a:ext cx="117504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575120" y="186624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20440" y="1866240"/>
                <a:ext cx="16164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142120" y="19688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142120" y="21330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939560" y="17366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777560" y="17366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93956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7775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53320" y="181836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642640" y="181836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90960" y="181836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939560" y="26658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777560" y="26658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939560" y="28296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777560" y="28296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80120" y="21330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642640" y="274752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98760" y="213300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90960" y="274752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891920" y="2139480"/>
                <a:ext cx="0" cy="60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966720" y="20509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885360" y="20509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777560" y="243324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878520" y="205776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53320" y="19688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71960" y="19688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777560" y="2201040"/>
                <a:ext cx="108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865480" y="1975680"/>
                <a:ext cx="0" cy="21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96672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65568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8043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66908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8012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831440" y="196884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682480" y="205092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14040" y="229680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00720" y="16002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00720" y="17503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514040" y="205092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514040" y="25290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419720" y="2692800"/>
                <a:ext cx="405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797320" y="19141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8" name=""/>
          <p:cNvGrpSpPr/>
          <p:nvPr/>
        </p:nvGrpSpPr>
        <p:grpSpPr>
          <a:xfrm>
            <a:off x="2031840" y="3165480"/>
            <a:ext cx="7035480" cy="1429920"/>
            <a:chOff x="2031840" y="3165480"/>
            <a:chExt cx="7035480" cy="1429920"/>
          </a:xfrm>
        </p:grpSpPr>
        <p:sp>
          <p:nvSpPr>
            <p:cNvPr id="2959" name=""/>
            <p:cNvSpPr/>
            <p:nvPr/>
          </p:nvSpPr>
          <p:spPr>
            <a:xfrm>
              <a:off x="2031840" y="3441600"/>
              <a:ext cx="2337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419720" y="3165480"/>
              <a:ext cx="4647600" cy="1429920"/>
              <a:chOff x="4419720" y="3165480"/>
              <a:chExt cx="4647600" cy="1429920"/>
            </a:xfrm>
          </p:grpSpPr>
          <p:sp>
            <p:nvSpPr>
              <p:cNvPr id="2961" name=""/>
              <p:cNvSpPr/>
              <p:nvPr/>
            </p:nvSpPr>
            <p:spPr>
              <a:xfrm>
                <a:off x="5111280" y="320580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111280" y="357012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104440" y="32126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19720" y="32212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13240" y="321408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319360" y="3205800"/>
                <a:ext cx="335160" cy="36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312880" y="3213000"/>
                <a:ext cx="361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682240" y="33814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675400" y="3360960"/>
                <a:ext cx="5364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997960" y="3308760"/>
                <a:ext cx="17424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501520" y="3308760"/>
                <a:ext cx="11541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568120" y="3293640"/>
                <a:ext cx="10875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997600" y="3293640"/>
                <a:ext cx="17460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18920" y="33948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05240" y="337464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6024600" y="3543120"/>
                <a:ext cx="8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272560" y="3630600"/>
                <a:ext cx="21456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5272560" y="3765240"/>
                <a:ext cx="214560" cy="1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265720" y="363060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01160" y="3752280"/>
                <a:ext cx="6696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26200" y="3354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26200" y="3732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119720" y="336096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5360" y="3382920"/>
                <a:ext cx="34776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28520" y="336276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5000" y="3354480"/>
                <a:ext cx="34812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28160" y="3347640"/>
                <a:ext cx="36180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697520" y="352980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690680" y="352296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111280" y="412344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111280" y="450108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104440" y="413028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319720" y="41518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313240" y="413172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319360" y="4123440"/>
                <a:ext cx="33516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312880" y="4116960"/>
                <a:ext cx="36180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82240" y="4298760"/>
                <a:ext cx="4032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75400" y="429192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8013600" y="3457080"/>
                <a:ext cx="17352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516440" y="3457080"/>
                <a:ext cx="116784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83040" y="3441960"/>
                <a:ext cx="110124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8013240" y="3441960"/>
                <a:ext cx="17388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33840" y="354312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07200" y="3684600"/>
                <a:ext cx="5364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H="1">
                <a:off x="803952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963680" y="331380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802400" y="331380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963680" y="346212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802400" y="3462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70960" y="3394800"/>
                <a:ext cx="1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729040" y="339480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890680" y="339480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963680" y="4231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802400" y="4231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963680" y="4393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802400" y="4393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8588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29040" y="431208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890680" y="4312080"/>
                <a:ext cx="20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05240" y="370476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898760" y="3711960"/>
                <a:ext cx="0" cy="59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978600" y="3624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97960" y="3624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802400" y="4002120"/>
                <a:ext cx="20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91120" y="3630600"/>
                <a:ext cx="0" cy="36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581440" y="377244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0960" y="35431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890680" y="3543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29040" y="377244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883840" y="35499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78600" y="3462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669720" y="34621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897960" y="3462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85880" y="3543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744320" y="3543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05240" y="35431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111280" y="377244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802400" y="37724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697960" y="3624120"/>
                <a:ext cx="10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10524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0720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13680" y="3853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00360" y="316548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00360" y="331380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13680" y="3610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13680" y="4082760"/>
                <a:ext cx="268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419720" y="4244760"/>
                <a:ext cx="402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798760" y="3475800"/>
                <a:ext cx="26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9" name=""/>
          <p:cNvGrpSpPr/>
          <p:nvPr/>
        </p:nvGrpSpPr>
        <p:grpSpPr>
          <a:xfrm>
            <a:off x="2286000" y="4952880"/>
            <a:ext cx="6743520" cy="1415880"/>
            <a:chOff x="2286000" y="4952880"/>
            <a:chExt cx="6743520" cy="1415880"/>
          </a:xfrm>
        </p:grpSpPr>
        <p:sp>
          <p:nvSpPr>
            <p:cNvPr id="3050" name=""/>
            <p:cNvSpPr/>
            <p:nvPr/>
          </p:nvSpPr>
          <p:spPr>
            <a:xfrm>
              <a:off x="2286000" y="5079960"/>
              <a:ext cx="2082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AND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4419720" y="4952880"/>
              <a:ext cx="4609800" cy="1415880"/>
              <a:chOff x="4419720" y="4952880"/>
              <a:chExt cx="4609800" cy="1415880"/>
            </a:xfrm>
          </p:grpSpPr>
          <p:sp>
            <p:nvSpPr>
              <p:cNvPr id="3052" name=""/>
              <p:cNvSpPr/>
              <p:nvPr/>
            </p:nvSpPr>
            <p:spPr>
              <a:xfrm>
                <a:off x="5094360" y="4979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094360" y="53402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87880" y="498600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301720" y="499428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295600" y="498744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301720" y="4979160"/>
                <a:ext cx="3333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295240" y="49863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662080" y="5153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655600" y="513288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098840" y="51260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098840" y="5500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092000" y="513288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306560" y="5154480"/>
                <a:ext cx="3463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300080" y="51346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306200" y="5126400"/>
                <a:ext cx="34668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99720" y="511956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666560" y="529992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659720" y="52930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094360" y="58878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94360" y="62622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87880" y="589464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301720" y="591624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295600" y="58960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301720" y="5888160"/>
                <a:ext cx="333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295240" y="588132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662080" y="606168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655600" y="605484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8101080" y="52063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8101080" y="55807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8094240" y="521316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8308800" y="5221800"/>
                <a:ext cx="34632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8302320" y="521496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308440" y="5206680"/>
                <a:ext cx="34668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301960" y="5200200"/>
                <a:ext cx="359640" cy="38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669160" y="538020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662320" y="537336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096600" y="5059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096600" y="5420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089760" y="506628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303960" y="507456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297120" y="5067720"/>
                <a:ext cx="36000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303960" y="505980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96760" y="5052960"/>
                <a:ext cx="360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64320" y="5219640"/>
                <a:ext cx="3996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57840" y="521316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947120" y="50860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4786920" y="50860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94712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78692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49720" y="5166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708880" y="516636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69080" y="51663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947120" y="599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786920" y="59947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947120" y="61552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786920" y="61552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54200" y="547380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708880" y="607500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869080" y="6075000"/>
                <a:ext cx="199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873920" y="54738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867080" y="548028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51960" y="53935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71680" y="5393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786920" y="5767920"/>
                <a:ext cx="20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864840" y="5400000"/>
                <a:ext cx="0" cy="36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949720" y="5313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69080" y="5313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862960" y="5320080"/>
                <a:ext cx="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86920" y="5540400"/>
                <a:ext cx="106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71148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95196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871680" y="5233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54200" y="531324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13720" y="531324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73920" y="5313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715600" y="539352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512960" y="5634000"/>
                <a:ext cx="2800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499640" y="495288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499640" y="509976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432680" y="5393520"/>
                <a:ext cx="3603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512960" y="586152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19720" y="6021720"/>
                <a:ext cx="400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762760" y="525996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851-E40A-4E10-997E-C78F901F45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"/>
          <p:cNvGrpSpPr/>
          <p:nvPr/>
        </p:nvGrpSpPr>
        <p:grpSpPr>
          <a:xfrm>
            <a:off x="4267080" y="1498680"/>
            <a:ext cx="3936960" cy="5219640"/>
            <a:chOff x="4267080" y="1498680"/>
            <a:chExt cx="3936960" cy="5219640"/>
          </a:xfrm>
        </p:grpSpPr>
        <p:sp>
          <p:nvSpPr>
            <p:cNvPr id="3138" name=""/>
            <p:cNvSpPr/>
            <p:nvPr/>
          </p:nvSpPr>
          <p:spPr>
            <a:xfrm>
              <a:off x="723888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24852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25780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6708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72000" y="152388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2006640" y="1828800"/>
            <a:ext cx="6565680" cy="1479240"/>
            <a:chOff x="2006640" y="1828800"/>
            <a:chExt cx="6565680" cy="1479240"/>
          </a:xfrm>
        </p:grpSpPr>
        <p:grpSp>
          <p:nvGrpSpPr>
            <p:cNvPr id="3144" name=""/>
            <p:cNvGrpSpPr/>
            <p:nvPr/>
          </p:nvGrpSpPr>
          <p:grpSpPr>
            <a:xfrm>
              <a:off x="3772080" y="1828800"/>
              <a:ext cx="4800240" cy="1479240"/>
              <a:chOff x="3772080" y="1828800"/>
              <a:chExt cx="4800240" cy="1479240"/>
            </a:xfrm>
          </p:grpSpPr>
          <p:sp>
            <p:nvSpPr>
              <p:cNvPr id="3145" name=""/>
              <p:cNvSpPr/>
              <p:nvPr/>
            </p:nvSpPr>
            <p:spPr>
              <a:xfrm>
                <a:off x="4462920" y="185688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462920" y="223344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455720" y="1863360"/>
                <a:ext cx="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665600" y="1872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658760" y="186552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665240" y="1856880"/>
                <a:ext cx="34812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658400" y="1863720"/>
                <a:ext cx="37620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462920" y="28058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462920" y="319680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455720" y="281232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665600" y="2835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658760" y="281448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240" y="28062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658400" y="279936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569640" y="2010240"/>
                <a:ext cx="3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569640" y="2401200"/>
                <a:ext cx="37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63160" y="2017440"/>
                <a:ext cx="0" cy="3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72680" y="20397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51440" y="2018880"/>
                <a:ext cx="37656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72320" y="20106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51080" y="2003760"/>
                <a:ext cx="37692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4520" y="1963080"/>
                <a:ext cx="180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867920" y="1963080"/>
                <a:ext cx="1213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937040" y="1947960"/>
                <a:ext cx="1143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384160" y="1947960"/>
                <a:ext cx="180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09080" y="205200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509080" y="220572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491240" y="2116800"/>
                <a:ext cx="16632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961320" y="2116800"/>
                <a:ext cx="121248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030800" y="2101320"/>
                <a:ext cx="11430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491240" y="2101320"/>
                <a:ext cx="1663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616520" y="22057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616520" y="23731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309200" y="19681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141800" y="1968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30920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1418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35572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03496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188320" y="205200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309200" y="29174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141800" y="29174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309200" y="3084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141800" y="3084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449120" y="2373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034960" y="3001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65240" y="23731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88320" y="300132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58400" y="2379960"/>
                <a:ext cx="0" cy="61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402240" y="22892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318720" y="228924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41800" y="267984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311880" y="229608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35572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272200" y="2205720"/>
                <a:ext cx="6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41800" y="2442960"/>
                <a:ext cx="11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265000" y="2212200"/>
                <a:ext cx="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40224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08148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2352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12836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29576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174520" y="2289240"/>
                <a:ext cx="12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869640" y="254016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3855600" y="182880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855600" y="198216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869640" y="228924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869640" y="277776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772080" y="2945520"/>
                <a:ext cx="4186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293320" y="214992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2006640" y="2082960"/>
              <a:ext cx="17017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7" name=""/>
          <p:cNvGrpSpPr/>
          <p:nvPr/>
        </p:nvGrpSpPr>
        <p:grpSpPr>
          <a:xfrm>
            <a:off x="711360" y="3201840"/>
            <a:ext cx="8355960" cy="1733400"/>
            <a:chOff x="711360" y="3201840"/>
            <a:chExt cx="8355960" cy="1733400"/>
          </a:xfrm>
        </p:grpSpPr>
        <p:sp>
          <p:nvSpPr>
            <p:cNvPr id="3218" name=""/>
            <p:cNvSpPr/>
            <p:nvPr/>
          </p:nvSpPr>
          <p:spPr>
            <a:xfrm>
              <a:off x="711360" y="3530520"/>
              <a:ext cx="2336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9" name=""/>
            <p:cNvGrpSpPr/>
            <p:nvPr/>
          </p:nvGrpSpPr>
          <p:grpSpPr>
            <a:xfrm>
              <a:off x="3213000" y="3201840"/>
              <a:ext cx="5854320" cy="1733400"/>
              <a:chOff x="3213000" y="3201840"/>
              <a:chExt cx="5854320" cy="1733400"/>
            </a:xfrm>
          </p:grpSpPr>
          <p:sp>
            <p:nvSpPr>
              <p:cNvPr id="3220" name=""/>
              <p:cNvSpPr/>
              <p:nvPr/>
            </p:nvSpPr>
            <p:spPr>
              <a:xfrm>
                <a:off x="3306600" y="3998160"/>
                <a:ext cx="2811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293280" y="322164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3293280" y="351612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293280" y="3744000"/>
                <a:ext cx="2811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3319920" y="4279320"/>
                <a:ext cx="2678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3213000" y="4587480"/>
                <a:ext cx="4017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799480" y="3610080"/>
                <a:ext cx="26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568560" y="3476520"/>
                <a:ext cx="36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568560" y="3837600"/>
                <a:ext cx="3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562080" y="348300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763320" y="349128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756480" y="3484800"/>
                <a:ext cx="3614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762960" y="3476520"/>
                <a:ext cx="34812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756120" y="3469680"/>
                <a:ext cx="36180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8864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8864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519080" y="331560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519080" y="369036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512240" y="3322440"/>
                <a:ext cx="0" cy="36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726800" y="333072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707000" y="3323880"/>
                <a:ext cx="36072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726440" y="3315600"/>
                <a:ext cx="33444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706640" y="3308760"/>
                <a:ext cx="36108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438800" y="34027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43880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519080" y="439992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519080" y="477504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512240" y="4406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726800" y="441468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707000" y="4408200"/>
                <a:ext cx="36072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726440" y="4400280"/>
                <a:ext cx="33444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706640" y="4393800"/>
                <a:ext cx="3610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438800" y="448704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438800" y="463428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021640" y="3409920"/>
                <a:ext cx="105768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015160" y="3403080"/>
                <a:ext cx="10839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021640" y="3424320"/>
                <a:ext cx="105768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015520" y="3417480"/>
                <a:ext cx="108360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504040" y="3424320"/>
                <a:ext cx="92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497560" y="3417480"/>
                <a:ext cx="10584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44000" y="3422880"/>
                <a:ext cx="529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523840" y="3416760"/>
                <a:ext cx="7956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550480" y="350280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550480" y="366336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06680" y="3570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099840" y="35632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057800" y="3570480"/>
                <a:ext cx="1071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050960" y="3563640"/>
                <a:ext cx="1084680" cy="34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058160" y="3584880"/>
                <a:ext cx="107064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051320" y="3578400"/>
                <a:ext cx="108432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554240" y="3584880"/>
                <a:ext cx="925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547400" y="3578400"/>
                <a:ext cx="10584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580520" y="3583440"/>
                <a:ext cx="65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573680" y="3576600"/>
                <a:ext cx="7956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587000" y="36633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587000" y="38109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8142840" y="3717360"/>
                <a:ext cx="5328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813636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889440" y="32018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3889440" y="3348720"/>
                <a:ext cx="2271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882600" y="32018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130640" y="332244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889440" y="35096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3889440" y="3656520"/>
                <a:ext cx="2271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882600" y="35096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130640" y="363024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889440" y="397800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V="1">
                <a:off x="3889440" y="411156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882600" y="397800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30640" y="409860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889440" y="42861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3889440" y="4420080"/>
                <a:ext cx="22716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882600" y="42861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130640" y="440640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889440" y="45939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3889440" y="472752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82600" y="45939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130640" y="471456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8377560" y="3589920"/>
                <a:ext cx="21384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8377560" y="3723480"/>
                <a:ext cx="213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8370720" y="358992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8605080" y="3710520"/>
                <a:ext cx="6696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21092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371840" y="342252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365000" y="336240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210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371840" y="35834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365000" y="358992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38992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6844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22900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21092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371840" y="45068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365000" y="443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21092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371840" y="466740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365000" y="467424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426080" y="38109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68440" y="45874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345800" y="38109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229000" y="4587480"/>
                <a:ext cx="210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339320" y="3817440"/>
                <a:ext cx="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21092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408000" y="37306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327720" y="373068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4371840" y="4118760"/>
                <a:ext cx="194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321240" y="37371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89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309280" y="36633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302440" y="3670200"/>
                <a:ext cx="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581280" y="38912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66800" y="358344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408000" y="35834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327720" y="35834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4260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118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278840" y="366336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3742200" y="3355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358128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742200" y="3663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3581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742200" y="41187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58128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742200" y="4426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58128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742200" y="473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58128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868536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0" name=""/>
          <p:cNvGrpSpPr/>
          <p:nvPr/>
        </p:nvGrpSpPr>
        <p:grpSpPr>
          <a:xfrm>
            <a:off x="1523880" y="4997520"/>
            <a:ext cx="7746840" cy="1550520"/>
            <a:chOff x="1523880" y="4997520"/>
            <a:chExt cx="7746840" cy="1550520"/>
          </a:xfrm>
        </p:grpSpPr>
        <p:sp>
          <p:nvSpPr>
            <p:cNvPr id="3351" name=""/>
            <p:cNvSpPr/>
            <p:nvPr/>
          </p:nvSpPr>
          <p:spPr>
            <a:xfrm>
              <a:off x="1523880" y="5283360"/>
              <a:ext cx="20829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3733920" y="4997520"/>
              <a:ext cx="5536800" cy="1550520"/>
              <a:chOff x="3733920" y="4997520"/>
              <a:chExt cx="5536800" cy="1550520"/>
            </a:xfrm>
          </p:grpSpPr>
          <p:sp>
            <p:nvSpPr>
              <p:cNvPr id="3353" name=""/>
              <p:cNvSpPr/>
              <p:nvPr/>
            </p:nvSpPr>
            <p:spPr>
              <a:xfrm>
                <a:off x="3785760" y="5675040"/>
                <a:ext cx="3517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799080" y="4997520"/>
                <a:ext cx="3643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799080" y="5153760"/>
                <a:ext cx="3776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99080" y="5440320"/>
                <a:ext cx="35136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733920" y="6052680"/>
                <a:ext cx="4168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772800" y="6208920"/>
                <a:ext cx="3906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9010440" y="5297040"/>
                <a:ext cx="2602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880160" y="5114880"/>
                <a:ext cx="10292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874040" y="5107680"/>
                <a:ext cx="104148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880520" y="512928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874400" y="5122440"/>
                <a:ext cx="10411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349600" y="512928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343480" y="512244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375520" y="5127480"/>
                <a:ext cx="648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369040" y="512100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382000" y="520560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382000" y="53488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922720" y="525780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915880" y="5250960"/>
                <a:ext cx="6516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84756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841800" y="525204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84792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842160" y="526608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1700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10880" y="526608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5588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49400" y="5265000"/>
                <a:ext cx="644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36236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36236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03080" y="54140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96240" y="5407920"/>
                <a:ext cx="522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890880" y="50367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884400" y="5043600"/>
                <a:ext cx="10537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890880" y="5050800"/>
                <a:ext cx="102816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884760" y="5044320"/>
                <a:ext cx="1053360" cy="35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373280" y="5050800"/>
                <a:ext cx="763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353480" y="5044320"/>
                <a:ext cx="10296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398840" y="5049360"/>
                <a:ext cx="5076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392000" y="5042520"/>
                <a:ext cx="6444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404960" y="5127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404960" y="52840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945320" y="51926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938840" y="5173200"/>
                <a:ext cx="5184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890880" y="609264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884400" y="608616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890880" y="610668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884760" y="610020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373280" y="6106680"/>
                <a:ext cx="7632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353480" y="610020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398840" y="6105240"/>
                <a:ext cx="507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392000" y="6099120"/>
                <a:ext cx="6444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404960" y="618336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404960" y="633960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5320" y="624816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38840" y="6242040"/>
                <a:ext cx="51840" cy="51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793120" y="51933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786280" y="5173560"/>
                <a:ext cx="104148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793120" y="520704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786640" y="5200920"/>
                <a:ext cx="10411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262200" y="5207040"/>
                <a:ext cx="900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255720" y="520092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287760" y="5206320"/>
                <a:ext cx="64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281280" y="519948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293880" y="52840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293880" y="542736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834600" y="533628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828120" y="5329440"/>
                <a:ext cx="6480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75944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752960" y="5252040"/>
                <a:ext cx="104220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75980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753320" y="5266080"/>
                <a:ext cx="104184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22888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222400" y="5266080"/>
                <a:ext cx="1036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26776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248680" y="5265000"/>
                <a:ext cx="7740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27424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27424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815320" y="5414040"/>
                <a:ext cx="3852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795520" y="5407920"/>
                <a:ext cx="648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004360" y="5205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38720" y="5205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160240" y="520560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004360" y="6261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20612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127640" y="55054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60240" y="6261480"/>
                <a:ext cx="19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121160" y="5511960"/>
                <a:ext cx="0" cy="74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38720" y="53488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60240" y="53488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153760" y="5355720"/>
                <a:ext cx="0" cy="22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4118040" y="5583600"/>
                <a:ext cx="102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15060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99436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90624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20612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062840" y="5348880"/>
                <a:ext cx="12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24872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11804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50600" y="5427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4120" y="543348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131000" y="5805360"/>
                <a:ext cx="20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248720" y="6183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118040" y="6183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248720" y="6339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118040" y="6339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248720" y="5127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118040" y="51274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6176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11800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11800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111520" y="5433480"/>
                <a:ext cx="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098200" y="5414040"/>
                <a:ext cx="38880" cy="38880"/>
              </a:xfrm>
              <a:prstGeom prst="rect">
                <a:avLst/>
              </a:prstGeom>
              <a:solidFill>
                <a:srgbClr val="d5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111520" y="5355720"/>
                <a:ext cx="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87364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4E8-A77F-4734-A3CD-A6CA39E26B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1" name=""/>
          <p:cNvGrpSpPr/>
          <p:nvPr/>
        </p:nvGrpSpPr>
        <p:grpSpPr>
          <a:xfrm>
            <a:off x="1731960" y="2360520"/>
            <a:ext cx="6532560" cy="3427560"/>
            <a:chOff x="1731960" y="2360520"/>
            <a:chExt cx="6532560" cy="3427560"/>
          </a:xfrm>
        </p:grpSpPr>
        <p:sp>
          <p:nvSpPr>
            <p:cNvPr id="3472" name=""/>
            <p:cNvSpPr/>
            <p:nvPr/>
          </p:nvSpPr>
          <p:spPr>
            <a:xfrm>
              <a:off x="2925720" y="2378160"/>
              <a:ext cx="34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925720" y="2735280"/>
              <a:ext cx="36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291924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3274920" y="2384640"/>
              <a:ext cx="173160" cy="190440"/>
              <a:chOff x="3274920" y="2384640"/>
              <a:chExt cx="173160" cy="190440"/>
            </a:xfrm>
          </p:grpSpPr>
          <p:sp>
            <p:nvSpPr>
              <p:cNvPr id="3476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3274920" y="2557440"/>
              <a:ext cx="173160" cy="195480"/>
              <a:chOff x="3274920" y="2557440"/>
              <a:chExt cx="173160" cy="195480"/>
            </a:xfrm>
          </p:grpSpPr>
          <p:sp>
            <p:nvSpPr>
              <p:cNvPr id="3479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>
              <a:off x="211428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114280" y="30463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109600" y="2671920"/>
              <a:ext cx="180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2463840" y="2684520"/>
              <a:ext cx="172800" cy="190440"/>
              <a:chOff x="2463840" y="2684520"/>
              <a:chExt cx="172800" cy="190440"/>
            </a:xfrm>
          </p:grpSpPr>
          <p:sp>
            <p:nvSpPr>
              <p:cNvPr id="3485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2463840" y="2862360"/>
              <a:ext cx="172800" cy="190440"/>
              <a:chOff x="2463840" y="2862360"/>
              <a:chExt cx="172800" cy="190440"/>
            </a:xfrm>
          </p:grpSpPr>
          <p:sp>
            <p:nvSpPr>
              <p:cNvPr id="3488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3692520" y="2697120"/>
              <a:ext cx="555480" cy="177840"/>
              <a:chOff x="3692520" y="2697120"/>
              <a:chExt cx="555480" cy="177840"/>
            </a:xfrm>
          </p:grpSpPr>
          <p:sp>
            <p:nvSpPr>
              <p:cNvPr id="3491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3719520" y="2862360"/>
              <a:ext cx="528480" cy="179280"/>
              <a:chOff x="3719520" y="2862360"/>
              <a:chExt cx="528480" cy="179280"/>
            </a:xfrm>
          </p:grpSpPr>
          <p:sp>
            <p:nvSpPr>
              <p:cNvPr id="3494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3697200" y="2862360"/>
              <a:ext cx="84240" cy="179280"/>
              <a:chOff x="3697200" y="2862360"/>
              <a:chExt cx="84240" cy="179280"/>
            </a:xfrm>
          </p:grpSpPr>
          <p:sp>
            <p:nvSpPr>
              <p:cNvPr id="3497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9" name=""/>
            <p:cNvSpPr/>
            <p:nvPr/>
          </p:nvSpPr>
          <p:spPr>
            <a:xfrm>
              <a:off x="374796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0" name=""/>
            <p:cNvGrpSpPr/>
            <p:nvPr/>
          </p:nvGrpSpPr>
          <p:grpSpPr>
            <a:xfrm>
              <a:off x="3697200" y="2697120"/>
              <a:ext cx="84240" cy="160560"/>
              <a:chOff x="3697200" y="2697120"/>
              <a:chExt cx="84240" cy="160560"/>
            </a:xfrm>
          </p:grpSpPr>
          <p:sp>
            <p:nvSpPr>
              <p:cNvPr id="3501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3" name=""/>
            <p:cNvSpPr/>
            <p:nvPr/>
          </p:nvSpPr>
          <p:spPr>
            <a:xfrm>
              <a:off x="3592440" y="271296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3448080" y="255132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58596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25916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781360" y="248148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96992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98560" y="240192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81152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59244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63664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7020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781360" y="2631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781360" y="2862360"/>
              <a:ext cx="799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74880" y="2637000"/>
              <a:ext cx="144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68596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025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969920" y="2781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798560" y="27129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8097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969920" y="29322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798560" y="28623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81224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92440" y="301320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58596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969920" y="3162240"/>
              <a:ext cx="161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798560" y="30924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8100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419360" y="2757600"/>
              <a:ext cx="24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3664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898640" y="3278160"/>
              <a:ext cx="1600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872000" y="3338640"/>
              <a:ext cx="102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riginal circ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113520" y="388296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113520" y="2378160"/>
              <a:ext cx="344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113520" y="2735280"/>
              <a:ext cx="355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610848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464160" y="2384640"/>
              <a:ext cx="171360" cy="190440"/>
              <a:chOff x="6464160" y="2384640"/>
              <a:chExt cx="171360" cy="190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64160" y="2557440"/>
              <a:ext cx="171360" cy="195480"/>
              <a:chOff x="6464160" y="2557440"/>
              <a:chExt cx="171360" cy="195480"/>
            </a:xfrm>
          </p:grpSpPr>
          <p:sp>
            <p:nvSpPr>
              <p:cNvPr id="3542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>
              <a:off x="529092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290920" y="3046320"/>
              <a:ext cx="366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5286240" y="2671920"/>
              <a:ext cx="144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5641920" y="2684520"/>
              <a:ext cx="171360" cy="190440"/>
              <a:chOff x="5641920" y="2684520"/>
              <a:chExt cx="171360" cy="190440"/>
            </a:xfrm>
          </p:grpSpPr>
          <p:sp>
            <p:nvSpPr>
              <p:cNvPr id="3548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641920" y="2862360"/>
              <a:ext cx="171360" cy="190440"/>
              <a:chOff x="5641920" y="2862360"/>
              <a:chExt cx="171360" cy="190440"/>
            </a:xfrm>
          </p:grpSpPr>
          <p:sp>
            <p:nvSpPr>
              <p:cNvPr id="3551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6875280" y="2697120"/>
              <a:ext cx="560520" cy="177840"/>
              <a:chOff x="6875280" y="2697120"/>
              <a:chExt cx="560520" cy="177840"/>
            </a:xfrm>
          </p:grpSpPr>
          <p:sp>
            <p:nvSpPr>
              <p:cNvPr id="3554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6" name=""/>
            <p:cNvGrpSpPr/>
            <p:nvPr/>
          </p:nvGrpSpPr>
          <p:grpSpPr>
            <a:xfrm>
              <a:off x="6908760" y="2862360"/>
              <a:ext cx="527040" cy="179280"/>
              <a:chOff x="6908760" y="2862360"/>
              <a:chExt cx="527040" cy="179280"/>
            </a:xfrm>
          </p:grpSpPr>
          <p:sp>
            <p:nvSpPr>
              <p:cNvPr id="3557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6875280" y="2862360"/>
              <a:ext cx="82800" cy="179280"/>
              <a:chOff x="6875280" y="2862360"/>
              <a:chExt cx="82800" cy="179280"/>
            </a:xfrm>
          </p:grpSpPr>
          <p:sp>
            <p:nvSpPr>
              <p:cNvPr id="3560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2" name=""/>
            <p:cNvSpPr/>
            <p:nvPr/>
          </p:nvSpPr>
          <p:spPr>
            <a:xfrm>
              <a:off x="692460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3" name=""/>
            <p:cNvGrpSpPr/>
            <p:nvPr/>
          </p:nvGrpSpPr>
          <p:grpSpPr>
            <a:xfrm>
              <a:off x="6875280" y="2697120"/>
              <a:ext cx="82800" cy="160560"/>
              <a:chOff x="6875280" y="2697120"/>
              <a:chExt cx="82800" cy="160560"/>
            </a:xfrm>
          </p:grpSpPr>
          <p:sp>
            <p:nvSpPr>
              <p:cNvPr id="3564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6" name=""/>
            <p:cNvSpPr/>
            <p:nvPr/>
          </p:nvSpPr>
          <p:spPr>
            <a:xfrm>
              <a:off x="5957640" y="248148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14656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986360" y="24019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99896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78024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1328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94684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57640" y="26319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957640" y="2862360"/>
              <a:ext cx="81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952960" y="2637000"/>
              <a:ext cx="180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7520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03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780240" y="2712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624360" y="255132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77520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146560" y="2781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986360" y="2712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975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146560" y="2932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986360" y="28623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99968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80240" y="3013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77520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146560" y="3162240"/>
              <a:ext cx="1622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986360" y="30924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9978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44696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835680" y="26830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879960" y="2833560"/>
              <a:ext cx="68400" cy="702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835680" y="29829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57920" y="268308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57920" y="298296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629480" y="275760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64676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052960" y="3243240"/>
              <a:ext cx="29890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020920" y="3303720"/>
              <a:ext cx="1907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all inputs of OR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3963960" y="4375080"/>
              <a:ext cx="528480" cy="162000"/>
              <a:chOff x="3963960" y="4375080"/>
              <a:chExt cx="528480" cy="162000"/>
            </a:xfrm>
          </p:grpSpPr>
          <p:sp>
            <p:nvSpPr>
              <p:cNvPr id="3603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3963960" y="4386240"/>
              <a:ext cx="83880" cy="162000"/>
              <a:chOff x="3963960" y="4386240"/>
              <a:chExt cx="83880" cy="162000"/>
            </a:xfrm>
          </p:grpSpPr>
          <p:sp>
            <p:nvSpPr>
              <p:cNvPr id="3606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3963960" y="4518000"/>
              <a:ext cx="528480" cy="177840"/>
              <a:chOff x="3963960" y="4518000"/>
              <a:chExt cx="528480" cy="177840"/>
            </a:xfrm>
          </p:grpSpPr>
          <p:sp>
            <p:nvSpPr>
              <p:cNvPr id="3609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3963960" y="4524480"/>
              <a:ext cx="83880" cy="160200"/>
              <a:chOff x="3963960" y="4524480"/>
              <a:chExt cx="83880" cy="160200"/>
            </a:xfrm>
          </p:grpSpPr>
          <p:sp>
            <p:nvSpPr>
              <p:cNvPr id="3612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>
              <a:off x="3970080" y="4489560"/>
              <a:ext cx="572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92320" y="433872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892320" y="4649760"/>
              <a:ext cx="6840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003480" y="403380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03480" y="43909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997000" y="4038480"/>
              <a:ext cx="1800" cy="34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0" name=""/>
            <p:cNvGrpSpPr/>
            <p:nvPr/>
          </p:nvGrpSpPr>
          <p:grpSpPr>
            <a:xfrm>
              <a:off x="3363840" y="4040280"/>
              <a:ext cx="173160" cy="190440"/>
              <a:chOff x="3363840" y="4040280"/>
              <a:chExt cx="173160" cy="190440"/>
            </a:xfrm>
          </p:grpSpPr>
          <p:sp>
            <p:nvSpPr>
              <p:cNvPr id="3621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3" name=""/>
            <p:cNvGrpSpPr/>
            <p:nvPr/>
          </p:nvGrpSpPr>
          <p:grpSpPr>
            <a:xfrm>
              <a:off x="3363840" y="4218120"/>
              <a:ext cx="173160" cy="190440"/>
              <a:chOff x="3363840" y="4218120"/>
              <a:chExt cx="173160" cy="190440"/>
            </a:xfrm>
          </p:grpSpPr>
          <p:sp>
            <p:nvSpPr>
              <p:cNvPr id="3624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6" name=""/>
            <p:cNvSpPr/>
            <p:nvPr/>
          </p:nvSpPr>
          <p:spPr>
            <a:xfrm>
              <a:off x="3537000" y="4189320"/>
              <a:ext cx="680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114280" y="433404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14280" y="470376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109600" y="4338720"/>
              <a:ext cx="180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2474640" y="4340160"/>
              <a:ext cx="173160" cy="190440"/>
              <a:chOff x="2474640" y="4340160"/>
              <a:chExt cx="173160" cy="190440"/>
            </a:xfrm>
          </p:grpSpPr>
          <p:sp>
            <p:nvSpPr>
              <p:cNvPr id="3631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474640" y="4518000"/>
              <a:ext cx="173160" cy="190440"/>
              <a:chOff x="2474640" y="4518000"/>
              <a:chExt cx="173160" cy="190440"/>
            </a:xfrm>
          </p:grpSpPr>
          <p:sp>
            <p:nvSpPr>
              <p:cNvPr id="3634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6" name=""/>
            <p:cNvSpPr/>
            <p:nvPr/>
          </p:nvSpPr>
          <p:spPr>
            <a:xfrm>
              <a:off x="2647800" y="44895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48128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747960" y="4368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592440" y="421812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741480" y="422424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747960" y="466884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41480" y="467352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969920" y="4818240"/>
              <a:ext cx="1766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731960" y="4749840"/>
              <a:ext cx="277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744560" y="47084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859120" y="4138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969920" y="413856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798560" y="405756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11520" y="4016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859120" y="4287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81456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70324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836800" y="45133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852640" y="4294080"/>
              <a:ext cx="1440" cy="21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859120" y="4518000"/>
              <a:ext cx="9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763720" y="459900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969920" y="44388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798560" y="4368960"/>
              <a:ext cx="210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809720" y="432756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969920" y="45990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798560" y="45180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812240" y="4478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619520" y="4403880"/>
              <a:ext cx="2458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636800" y="436248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865160" y="5210280"/>
              <a:ext cx="1933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6" name=""/>
            <p:cNvGrpSpPr/>
            <p:nvPr/>
          </p:nvGrpSpPr>
          <p:grpSpPr>
            <a:xfrm>
              <a:off x="7064280" y="4600440"/>
              <a:ext cx="527040" cy="162000"/>
              <a:chOff x="7064280" y="4600440"/>
              <a:chExt cx="527040" cy="162000"/>
            </a:xfrm>
          </p:grpSpPr>
          <p:sp>
            <p:nvSpPr>
              <p:cNvPr id="3667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064280" y="4611600"/>
              <a:ext cx="82440" cy="163440"/>
              <a:chOff x="7064280" y="4611600"/>
              <a:chExt cx="82440" cy="163440"/>
            </a:xfrm>
          </p:grpSpPr>
          <p:sp>
            <p:nvSpPr>
              <p:cNvPr id="3670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2" name=""/>
            <p:cNvGrpSpPr/>
            <p:nvPr/>
          </p:nvGrpSpPr>
          <p:grpSpPr>
            <a:xfrm>
              <a:off x="7064280" y="4745160"/>
              <a:ext cx="527040" cy="177840"/>
              <a:chOff x="7064280" y="4745160"/>
              <a:chExt cx="527040" cy="177840"/>
            </a:xfrm>
          </p:grpSpPr>
          <p:sp>
            <p:nvSpPr>
              <p:cNvPr id="3673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5" name=""/>
            <p:cNvGrpSpPr/>
            <p:nvPr/>
          </p:nvGrpSpPr>
          <p:grpSpPr>
            <a:xfrm>
              <a:off x="7064280" y="4738680"/>
              <a:ext cx="82440" cy="185400"/>
              <a:chOff x="7064280" y="4738680"/>
              <a:chExt cx="82440" cy="185400"/>
            </a:xfrm>
          </p:grpSpPr>
          <p:sp>
            <p:nvSpPr>
              <p:cNvPr id="3676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7068960" y="4719600"/>
              <a:ext cx="6840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40520" y="4622760"/>
              <a:ext cx="666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45200" y="4827600"/>
              <a:ext cx="712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113520" y="424008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108480" y="3889440"/>
              <a:ext cx="180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3" name=""/>
            <p:cNvGrpSpPr/>
            <p:nvPr/>
          </p:nvGrpSpPr>
          <p:grpSpPr>
            <a:xfrm>
              <a:off x="6475320" y="3886200"/>
              <a:ext cx="171360" cy="190440"/>
              <a:chOff x="6475320" y="3886200"/>
              <a:chExt cx="171360" cy="190440"/>
            </a:xfrm>
          </p:grpSpPr>
          <p:sp>
            <p:nvSpPr>
              <p:cNvPr id="3684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475320" y="4048200"/>
              <a:ext cx="171360" cy="196920"/>
              <a:chOff x="6475320" y="4048200"/>
              <a:chExt cx="171360" cy="196920"/>
            </a:xfrm>
          </p:grpSpPr>
          <p:sp>
            <p:nvSpPr>
              <p:cNvPr id="3687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9" name=""/>
            <p:cNvSpPr/>
            <p:nvPr/>
          </p:nvSpPr>
          <p:spPr>
            <a:xfrm>
              <a:off x="6646680" y="4038480"/>
              <a:ext cx="5724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224320" y="456408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224320" y="493416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219640" y="4570560"/>
              <a:ext cx="144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3" name=""/>
            <p:cNvGrpSpPr/>
            <p:nvPr/>
          </p:nvGrpSpPr>
          <p:grpSpPr>
            <a:xfrm>
              <a:off x="5586480" y="4567320"/>
              <a:ext cx="171360" cy="189000"/>
              <a:chOff x="5586480" y="4567320"/>
              <a:chExt cx="171360" cy="1890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5586480" y="4745160"/>
              <a:ext cx="171360" cy="188640"/>
              <a:chOff x="5586480" y="4745160"/>
              <a:chExt cx="171360" cy="188640"/>
            </a:xfrm>
          </p:grpSpPr>
          <p:sp>
            <p:nvSpPr>
              <p:cNvPr id="3697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9" name=""/>
            <p:cNvSpPr/>
            <p:nvPr/>
          </p:nvSpPr>
          <p:spPr>
            <a:xfrm>
              <a:off x="5757840" y="4719600"/>
              <a:ext cx="572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957640" y="41385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952960" y="4143240"/>
              <a:ext cx="1800" cy="295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846840" y="486108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837120" y="4862520"/>
              <a:ext cx="1800" cy="18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68800" y="5049720"/>
              <a:ext cx="1766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841640" y="497988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854240" y="49388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591320" y="47451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846840" y="4660920"/>
              <a:ext cx="187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702480" y="4057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6838560" y="4062600"/>
              <a:ext cx="3240" cy="598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957640" y="398772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068800" y="398772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908600" y="39067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921200" y="38671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924600" y="474984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657840" y="4448160"/>
              <a:ext cx="1440" cy="29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642000" y="4730760"/>
              <a:ext cx="34920" cy="367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813280" y="4749840"/>
              <a:ext cx="376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475320" y="4750920"/>
              <a:ext cx="4381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730840" y="4125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772960" y="416736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068800" y="466884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908600" y="459900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919760" y="455940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068800" y="481824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908600" y="474984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921920" y="470844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729560" y="462924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746840" y="458964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841720" y="4783320"/>
              <a:ext cx="324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858280" y="4743360"/>
              <a:ext cx="14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886280" y="5280120"/>
              <a:ext cx="3378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842360" y="5340240"/>
              <a:ext cx="2019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sert inverters to eliminat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ouble bubbles on a w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717720" y="2828880"/>
              <a:ext cx="684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28800" y="44848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812960" y="5248440"/>
              <a:ext cx="184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output of AND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931120" y="454032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8" name=""/>
            <p:cNvGrpSpPr/>
            <p:nvPr/>
          </p:nvGrpSpPr>
          <p:grpSpPr>
            <a:xfrm>
              <a:off x="6183720" y="4618080"/>
              <a:ext cx="302760" cy="299520"/>
              <a:chOff x="6183720" y="4618080"/>
              <a:chExt cx="302760" cy="299520"/>
            </a:xfrm>
          </p:grpSpPr>
          <p:sp>
            <p:nvSpPr>
              <p:cNvPr id="3739" name=""/>
              <p:cNvSpPr/>
              <p:nvPr/>
            </p:nvSpPr>
            <p:spPr>
              <a:xfrm>
                <a:off x="6183720" y="4618080"/>
                <a:ext cx="242640" cy="133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6183720" y="4751280"/>
                <a:ext cx="242640" cy="16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6188760" y="4618080"/>
                <a:ext cx="1080" cy="288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rot="5400000">
                <a:off x="6428520" y="472464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3" name=""/>
            <p:cNvSpPr/>
            <p:nvPr/>
          </p:nvSpPr>
          <p:spPr>
            <a:xfrm>
              <a:off x="5952960" y="4443480"/>
              <a:ext cx="7016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BB5-6306-456B-9B34-DB845676D0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4" name=""/>
          <p:cNvGrpSpPr/>
          <p:nvPr/>
        </p:nvGrpSpPr>
        <p:grpSpPr>
          <a:xfrm>
            <a:off x="685800" y="5181480"/>
            <a:ext cx="3384720" cy="1143000"/>
            <a:chOff x="685800" y="5181480"/>
            <a:chExt cx="3384720" cy="1143000"/>
          </a:xfrm>
        </p:grpSpPr>
        <p:grpSp>
          <p:nvGrpSpPr>
            <p:cNvPr id="3745" name=""/>
            <p:cNvGrpSpPr/>
            <p:nvPr/>
          </p:nvGrpSpPr>
          <p:grpSpPr>
            <a:xfrm>
              <a:off x="3117960" y="5181480"/>
              <a:ext cx="825480" cy="1143000"/>
              <a:chOff x="3117960" y="5181480"/>
              <a:chExt cx="825480" cy="1143000"/>
            </a:xfrm>
          </p:grpSpPr>
          <p:sp>
            <p:nvSpPr>
              <p:cNvPr id="3746" name=""/>
              <p:cNvSpPr/>
              <p:nvPr/>
            </p:nvSpPr>
            <p:spPr>
              <a:xfrm>
                <a:off x="3130560" y="51814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130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130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187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175200" y="58863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117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117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117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930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117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543480" y="55944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86712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>
              <a:off x="3003480" y="5302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03480" y="561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003480" y="58737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003480" y="6191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956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8580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4927680" y="5181480"/>
            <a:ext cx="3498840" cy="1143000"/>
            <a:chOff x="4927680" y="5181480"/>
            <a:chExt cx="3498840" cy="1143000"/>
          </a:xfrm>
        </p:grpSpPr>
        <p:grpSp>
          <p:nvGrpSpPr>
            <p:cNvPr id="3765" name=""/>
            <p:cNvGrpSpPr/>
            <p:nvPr/>
          </p:nvGrpSpPr>
          <p:grpSpPr>
            <a:xfrm>
              <a:off x="7473960" y="5181480"/>
              <a:ext cx="825480" cy="1143000"/>
              <a:chOff x="7473960" y="5181480"/>
              <a:chExt cx="825480" cy="1143000"/>
            </a:xfrm>
          </p:grpSpPr>
          <p:sp>
            <p:nvSpPr>
              <p:cNvPr id="3766" name=""/>
              <p:cNvSpPr/>
              <p:nvPr/>
            </p:nvSpPr>
            <p:spPr>
              <a:xfrm>
                <a:off x="7486560" y="5181480"/>
                <a:ext cx="73692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486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86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543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531200" y="5886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473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473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473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8286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473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899480" y="5594400"/>
                <a:ext cx="254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22348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8" name=""/>
            <p:cNvSpPr/>
            <p:nvPr/>
          </p:nvSpPr>
          <p:spPr>
            <a:xfrm>
              <a:off x="7359840" y="5302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359840" y="5619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359840" y="5873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359840" y="61912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8312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7333920" y="5467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H="1">
              <a:off x="7321680" y="60390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92768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6" name=""/>
          <p:cNvGrpSpPr/>
          <p:nvPr/>
        </p:nvGrpSpPr>
        <p:grpSpPr>
          <a:xfrm>
            <a:off x="4876920" y="2685960"/>
            <a:ext cx="3301920" cy="2095560"/>
            <a:chOff x="4876920" y="2685960"/>
            <a:chExt cx="3301920" cy="2095560"/>
          </a:xfrm>
        </p:grpSpPr>
        <p:sp>
          <p:nvSpPr>
            <p:cNvPr id="3787" name=""/>
            <p:cNvSpPr/>
            <p:nvPr/>
          </p:nvSpPr>
          <p:spPr>
            <a:xfrm>
              <a:off x="5181840" y="4388040"/>
              <a:ext cx="1904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213680" y="436248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143680" y="2685960"/>
              <a:ext cx="2832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ssibl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238720" y="32068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23872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232600" y="3213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67680" y="3214800"/>
              <a:ext cx="4312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67320" y="318780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886360" y="34038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238720" y="37782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23872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232600" y="3784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67680" y="37861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467320" y="375948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86360" y="39751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810760" y="3492720"/>
              <a:ext cx="1256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810760" y="3519360"/>
              <a:ext cx="125640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382440" y="3519360"/>
              <a:ext cx="12600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07280" y="3517560"/>
              <a:ext cx="1011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407280" y="3594240"/>
              <a:ext cx="889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407280" y="378468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32168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732168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1520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588440" y="36831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060880" y="3333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7692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060880" y="3524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87692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060880" y="3905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7692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060880" y="4095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87692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962680" y="3435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22944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3404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14052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962680" y="4006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22944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14052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13404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080480" y="3714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77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95024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723960" y="2724120"/>
            <a:ext cx="3213000" cy="2070000"/>
            <a:chOff x="723960" y="2724120"/>
            <a:chExt cx="3213000" cy="2070000"/>
          </a:xfrm>
        </p:grpSpPr>
        <p:sp>
          <p:nvSpPr>
            <p:cNvPr id="3832" name=""/>
            <p:cNvSpPr/>
            <p:nvPr/>
          </p:nvSpPr>
          <p:spPr>
            <a:xfrm>
              <a:off x="1015920" y="4388040"/>
              <a:ext cx="64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095560" y="4400640"/>
              <a:ext cx="1562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787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447920" y="272412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al conce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085760" y="3206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08576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1079640" y="32000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302120" y="3214800"/>
              <a:ext cx="4183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301760" y="318780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085760" y="37782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8576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079640" y="37717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02120" y="3786120"/>
              <a:ext cx="418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301760" y="375948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026080" y="3519360"/>
              <a:ext cx="20232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442160" y="3519360"/>
              <a:ext cx="1357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517400" y="3492720"/>
              <a:ext cx="128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025720" y="3492720"/>
              <a:ext cx="20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165400" y="36259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165400" y="3816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06720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306720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06072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333960" y="36831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08200" y="3435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98756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89864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89252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708200" y="400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98756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89864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9252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00440" y="3714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89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895320" y="333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2396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953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396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895320" y="390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2396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89532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2396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43548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70836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-OR-invert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I function:  three stages of logic —  AND, OR, Inv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ates "packaged" as a single circui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660-AE8E-472F-B335-86123A521B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7" name=""/>
          <p:cNvGrpSpPr/>
          <p:nvPr/>
        </p:nvGrpSpPr>
        <p:grpSpPr>
          <a:xfrm>
            <a:off x="4648320" y="4102200"/>
            <a:ext cx="2514600" cy="1307880"/>
            <a:chOff x="4648320" y="4102200"/>
            <a:chExt cx="2514600" cy="1307880"/>
          </a:xfrm>
        </p:grpSpPr>
        <p:grpSp>
          <p:nvGrpSpPr>
            <p:cNvPr id="3878" name=""/>
            <p:cNvGrpSpPr/>
            <p:nvPr/>
          </p:nvGrpSpPr>
          <p:grpSpPr>
            <a:xfrm>
              <a:off x="5505480" y="4159080"/>
              <a:ext cx="825480" cy="1143000"/>
              <a:chOff x="5505480" y="4159080"/>
              <a:chExt cx="825480" cy="1143000"/>
            </a:xfrm>
          </p:grpSpPr>
          <p:sp>
            <p:nvSpPr>
              <p:cNvPr id="3879" name=""/>
              <p:cNvSpPr/>
              <p:nvPr/>
            </p:nvSpPr>
            <p:spPr>
              <a:xfrm>
                <a:off x="5518080" y="41590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518080" y="41590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518080" y="47307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575320" y="42926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5562720" y="48639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505480" y="4603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505480" y="4857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505480" y="5175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1836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505480" y="42861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931000" y="45720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254640" y="4705200"/>
                <a:ext cx="5076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5391000" y="4280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391000" y="4597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391000" y="4851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391000" y="51688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343560" y="472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48320" y="410220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648320" y="441972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660920" y="4686480"/>
              <a:ext cx="584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660920" y="500364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591240" y="4559400"/>
              <a:ext cx="571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to AOI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procedure to place in AOI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complement of the function in sum-of-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rouping the 0s in the Karnaug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XOR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xor B = A’ B  +  A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I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’ B’  +  A B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CA4-9F10-4E48-A7EF-C30849F1B36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57200" y="2514600"/>
            <a:ext cx="6908760" cy="2895480"/>
            <a:chOff x="457200" y="2514600"/>
            <a:chExt cx="6908760" cy="2895480"/>
          </a:xfrm>
        </p:grpSpPr>
        <p:grpSp>
          <p:nvGrpSpPr>
            <p:cNvPr id="120" name=""/>
            <p:cNvGrpSpPr/>
            <p:nvPr/>
          </p:nvGrpSpPr>
          <p:grpSpPr>
            <a:xfrm>
              <a:off x="2387520" y="2895480"/>
              <a:ext cx="918720" cy="419400"/>
              <a:chOff x="2387520" y="2895480"/>
              <a:chExt cx="918720" cy="419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387520" y="292896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9680" y="289548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57200" y="2903400"/>
              <a:ext cx="918720" cy="419400"/>
              <a:chOff x="457200" y="2903400"/>
              <a:chExt cx="918720" cy="4194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17040" y="293688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57200" y="290340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473120" y="4876920"/>
              <a:ext cx="589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D  +  A' C  +  B' C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29718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251460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473120" y="1494000"/>
            <a:ext cx="6908760" cy="4678200"/>
            <a:chOff x="1473120" y="1494000"/>
            <a:chExt cx="6908760" cy="4678200"/>
          </a:xfrm>
        </p:grpSpPr>
        <p:grpSp>
          <p:nvGrpSpPr>
            <p:cNvPr id="130" name=""/>
            <p:cNvGrpSpPr/>
            <p:nvPr/>
          </p:nvGrpSpPr>
          <p:grpSpPr>
            <a:xfrm>
              <a:off x="7543800" y="1494000"/>
              <a:ext cx="426960" cy="2849040"/>
              <a:chOff x="7543800" y="1494000"/>
              <a:chExt cx="426960" cy="28490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543800" y="1494000"/>
                <a:ext cx="419040" cy="918720"/>
                <a:chOff x="7543800" y="1494000"/>
                <a:chExt cx="419040" cy="918720"/>
              </a:xfrm>
            </p:grpSpPr>
            <p:sp>
              <p:nvSpPr>
                <p:cNvPr id="132" name=""/>
                <p:cNvSpPr/>
                <p:nvPr/>
              </p:nvSpPr>
              <p:spPr>
                <a:xfrm rot="16200000">
                  <a:off x="7375320" y="185580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7520040" y="151776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551720" y="3424320"/>
                <a:ext cx="419040" cy="918720"/>
                <a:chOff x="7551720" y="3424320"/>
                <a:chExt cx="419040" cy="9187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16200000">
                  <a:off x="7382880" y="362592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16200000">
                  <a:off x="7527960" y="390024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1473120" y="5638680"/>
              <a:ext cx="589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 C' D'  +  A C'  +  A B D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20574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7315200" y="182844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33520" y="486396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152960"/>
            <a:ext cx="1778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4720" y="1749600"/>
            <a:ext cx="2760120" cy="2364840"/>
            <a:chOff x="684720" y="1749600"/>
            <a:chExt cx="2760120" cy="2364840"/>
          </a:xfrm>
        </p:grpSpPr>
        <p:sp>
          <p:nvSpPr>
            <p:cNvPr id="146" name=""/>
            <p:cNvSpPr/>
            <p:nvPr/>
          </p:nvSpPr>
          <p:spPr>
            <a:xfrm>
              <a:off x="113832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04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81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259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687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812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576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6092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456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637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115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543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040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012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81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259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687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156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372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764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37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15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543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72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504240" y="1749600"/>
            <a:ext cx="2760120" cy="2364840"/>
            <a:chOff x="3504240" y="1749600"/>
            <a:chExt cx="2760120" cy="2364840"/>
          </a:xfrm>
        </p:grpSpPr>
        <p:sp>
          <p:nvSpPr>
            <p:cNvPr id="171" name=""/>
            <p:cNvSpPr/>
            <p:nvPr/>
          </p:nvSpPr>
          <p:spPr>
            <a:xfrm>
              <a:off x="395784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756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76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54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882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9764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1528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044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408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32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310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7738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992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964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76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54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6882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3108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324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3716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32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10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7738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424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777000" y="207000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86720" y="20685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68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646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5074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6800" y="1978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34440" y="241452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99600" y="27036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3240" y="17496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024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502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5930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69080" y="30081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78800" y="300672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168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646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074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5024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2400" y="2884320"/>
            <a:ext cx="0" cy="9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56320" y="37846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024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502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5930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3400" y="3187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257800"/>
            <a:ext cx="264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(A xnor C) • (B xnor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6095880"/>
            <a:ext cx="589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 and GT are similar (flip A/C and B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73120" y="2057400"/>
            <a:ext cx="4927680" cy="3657600"/>
            <a:chOff x="1473120" y="2057400"/>
            <a:chExt cx="4927680" cy="3657600"/>
          </a:xfrm>
        </p:grpSpPr>
        <p:sp>
          <p:nvSpPr>
            <p:cNvPr id="222" name=""/>
            <p:cNvSpPr/>
            <p:nvPr/>
          </p:nvSpPr>
          <p:spPr>
            <a:xfrm>
              <a:off x="1473120" y="5257800"/>
              <a:ext cx="492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C' D'  +  A' B C' D  +  A B C D  +  A B' C 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20574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7080" y="25146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718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4290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584-F8FE-4A9C-A359-6742F20ECF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2971800" y="6184800"/>
            <a:ext cx="462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lemented in a single 2x2 AOI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 flipH="1" flipV="1">
            <a:off x="2508120" y="5521320"/>
            <a:ext cx="130176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3809880" y="5555880"/>
            <a:ext cx="46224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V="1">
            <a:off x="3809880" y="5545080"/>
            <a:ext cx="2214720" cy="62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3809880" y="5568840"/>
            <a:ext cx="39546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 B + A C’ + B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’ B’ + A’ C + B’ C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AO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 + B) (A + C’) (B + 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[(A’ + B’) (A’ + C) (B’ + C)]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OA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(A0 B0 + A0’ B0’)(A1 B1 + A1’ B1’)(A2 B2 + A2’ B2’)(A3 B3 + A3’ B3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9C5-F2C6-4965-BB0C-8B625DBC7C6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"/>
          <p:cNvSpPr/>
          <p:nvPr/>
        </p:nvSpPr>
        <p:spPr>
          <a:xfrm>
            <a:off x="5283360" y="2203560"/>
            <a:ext cx="184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 if A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B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  if A0 = 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5270400" y="4705200"/>
            <a:ext cx="3492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ll inputs are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 Ai = Bi, i=0,...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Z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648320" y="3498840"/>
            <a:ext cx="28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ation of bub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flipH="1" flipV="1">
            <a:off x="2889360" y="2869920"/>
            <a:ext cx="167616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 flipH="1">
            <a:off x="3282480" y="3657600"/>
            <a:ext cx="129564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2813040" y="2400480"/>
            <a:ext cx="2425680" cy="8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 flipV="1">
            <a:off x="3765600" y="4546440"/>
            <a:ext cx="151128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7" name=""/>
          <p:cNvGrpSpPr/>
          <p:nvPr/>
        </p:nvGrpSpPr>
        <p:grpSpPr>
          <a:xfrm>
            <a:off x="774720" y="2355840"/>
            <a:ext cx="3695760" cy="4121280"/>
            <a:chOff x="774720" y="2355840"/>
            <a:chExt cx="3695760" cy="4121280"/>
          </a:xfrm>
        </p:grpSpPr>
        <p:sp>
          <p:nvSpPr>
            <p:cNvPr id="3918" name=""/>
            <p:cNvSpPr/>
            <p:nvPr/>
          </p:nvSpPr>
          <p:spPr>
            <a:xfrm>
              <a:off x="774720" y="235584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74720" y="342252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74720" y="450216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74720" y="5581800"/>
              <a:ext cx="571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244680" y="4235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244680" y="45910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238560" y="42418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4560" y="4249800"/>
              <a:ext cx="32976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435480" y="4243320"/>
              <a:ext cx="3549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454200" y="4235400"/>
              <a:ext cx="330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435120" y="4215960"/>
              <a:ext cx="3553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797280" y="4400640"/>
              <a:ext cx="50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238560" y="4114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238560" y="45975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87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168720" y="44575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168720" y="43178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168720" y="41655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873080" y="5562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330280" y="55627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873080" y="6019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68480" y="56707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968480" y="6127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425680" y="58993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797120" y="56768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797120" y="58291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800440" y="59817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8730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330280" y="449568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873080" y="49528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968480" y="46036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968480" y="50608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425680" y="483228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7971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797120" y="47624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800440" y="49147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1873080" y="34290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30280" y="342900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873080" y="3886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1968480" y="35496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968480" y="40068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425680" y="377820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797120" y="35560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797120" y="37083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800440" y="38606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87308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30280" y="23623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873080" y="2819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968480" y="2482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68480" y="29401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425680" y="27115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797120" y="24890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797120" y="26416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800440" y="27939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720800" y="2508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720800" y="2965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339920" y="2508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714320" y="2514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701720" y="2495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720800" y="2660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72080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568520" y="2660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339920" y="26607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56852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562040" y="2666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549440" y="26478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720800" y="4032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339920" y="3575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714320" y="3581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720800" y="3575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720800" y="3727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72080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568520" y="3727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339920" y="3727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56852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562040" y="37339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549440" y="37148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863800" y="3879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092400" y="4336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33640" y="3886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40120" y="4336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720800" y="5099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339920" y="46418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714320" y="46483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7208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720800" y="4794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72080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568520" y="4794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339920" y="479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56852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562040" y="4800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54944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20800" y="6165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339920" y="57085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714320" y="5715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720800" y="5708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720800" y="5861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72080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68520" y="5861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339920" y="58611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56852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562040" y="5867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549440" y="58482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863800" y="28130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092400" y="4184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085920" y="28195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40120" y="2813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863800" y="4946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092400" y="4489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40120" y="44895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33640" y="4495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863800" y="6013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0924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085920" y="46483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40120" y="6013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803760" y="4413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276720" y="4286160"/>
              <a:ext cx="66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49560" y="4286160"/>
              <a:ext cx="520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AOI implementation of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2A9-A79B-48F8-971C-280AA8762F3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have smaller fan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fficult to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for optimization are not as good as for two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5A3-E750-470D-A7E2-CF8973A3D9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 behavior of combinational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values carried on signal wires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in explaining sequences of events (changes in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tools are used to create these 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to the simulator includes gates and their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timulus, that is, input signal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 — time for change at input to cause change 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elay – typical/nominal delay – max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eful designers design for the wor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 time — time for output to transition from low to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time — time for output to transition from high to low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width — time that an output stays high or stays low betwee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953-DE27-434B-9711-EA83DE0EA8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2" name="" descr=""/>
          <p:cNvPicPr/>
          <p:nvPr/>
        </p:nvPicPr>
        <p:blipFill>
          <a:blip r:embed="rId1"/>
          <a:stretch/>
        </p:blipFill>
        <p:spPr>
          <a:xfrm>
            <a:off x="3962520" y="3606840"/>
            <a:ext cx="5207040" cy="2006640"/>
          </a:xfrm>
          <a:prstGeom prst="rect">
            <a:avLst/>
          </a:prstGeom>
          <a:ln w="0">
            <a:noFill/>
          </a:ln>
        </p:spPr>
      </p:pic>
      <p:sp>
        <p:nvSpPr>
          <p:cNvPr id="4043" name=""/>
          <p:cNvSpPr/>
          <p:nvPr/>
        </p:nvSpPr>
        <p:spPr>
          <a:xfrm>
            <a:off x="6095880" y="5867280"/>
            <a:ext cx="3035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s not 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lse 3 gate-delays 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276880" y="4921200"/>
            <a:ext cx="171432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2705040" y="5740560"/>
            <a:ext cx="3137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remains hig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gate delays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hanges from low t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210360" y="5486400"/>
            <a:ext cx="476280" cy="577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 flipH="1">
            <a:off x="4819320" y="5105520"/>
            <a:ext cx="399960" cy="641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5121360" y="2695680"/>
            <a:ext cx="4149360" cy="588960"/>
            <a:chOff x="5121360" y="2695680"/>
            <a:chExt cx="4149360" cy="588960"/>
          </a:xfrm>
        </p:grpSpPr>
        <p:sp>
          <p:nvSpPr>
            <p:cNvPr id="4049" name=""/>
            <p:cNvSpPr/>
            <p:nvPr/>
          </p:nvSpPr>
          <p:spPr>
            <a:xfrm>
              <a:off x="8728560" y="2895840"/>
              <a:ext cx="5421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12136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604080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77160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51464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8003880" y="278964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003880" y="3237480"/>
              <a:ext cx="45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997760" y="2795760"/>
              <a:ext cx="0" cy="43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245800" y="2802960"/>
              <a:ext cx="3996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27800" y="2796840"/>
              <a:ext cx="43560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245440" y="2790360"/>
              <a:ext cx="3999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227440" y="2772720"/>
              <a:ext cx="4359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49320" y="2736720"/>
              <a:ext cx="27072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V="1">
              <a:off x="7249320" y="2913120"/>
              <a:ext cx="27072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24320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531920" y="2889720"/>
              <a:ext cx="8244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50628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650628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50052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78924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75172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575172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74596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03468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6266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781488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56344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814880" y="3107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808760" y="311364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563440" y="3284640"/>
              <a:ext cx="22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557320" y="292536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280120" y="29192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533920" y="2895840"/>
              <a:ext cx="586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8663760" y="30132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88356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072560" y="291924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129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318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mentary changes in out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ful — pulse shaping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 problem — incorrect circuit operation (glitches/hazar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427-EF7A-4A01-A227-0CA657688D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9" name="" descr=""/>
          <p:cNvPicPr/>
          <p:nvPr/>
        </p:nvPicPr>
        <p:blipFill>
          <a:blip r:embed="rId1"/>
          <a:stretch/>
        </p:blipFill>
        <p:spPr>
          <a:xfrm>
            <a:off x="647640" y="4444920"/>
            <a:ext cx="8153640" cy="1638360"/>
          </a:xfrm>
          <a:prstGeom prst="rect">
            <a:avLst/>
          </a:prstGeom>
          <a:ln w="0">
            <a:noFill/>
          </a:ln>
        </p:spPr>
      </p:pic>
      <p:sp>
        <p:nvSpPr>
          <p:cNvPr id="4090" name=""/>
          <p:cNvSpPr/>
          <p:nvPr/>
        </p:nvSpPr>
        <p:spPr>
          <a:xfrm>
            <a:off x="1378080" y="5251320"/>
            <a:ext cx="342720" cy="10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378080" y="5543640"/>
            <a:ext cx="711000" cy="10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1378080" y="5835600"/>
            <a:ext cx="1066680" cy="10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019240" y="3822840"/>
            <a:ext cx="1181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96880" y="3314880"/>
            <a:ext cx="158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3708360" y="3924360"/>
            <a:ext cx="1536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136520" y="3664080"/>
            <a:ext cx="20340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2216160" y="4387680"/>
            <a:ext cx="101520" cy="148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1860480" y="4387680"/>
            <a:ext cx="457200" cy="11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 flipH="1">
            <a:off x="1593360" y="4375080"/>
            <a:ext cx="723960" cy="8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2914560" y="4210200"/>
            <a:ext cx="81288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4267080" y="1587600"/>
            <a:ext cx="4343400" cy="1917720"/>
            <a:chOff x="4267080" y="1587600"/>
            <a:chExt cx="4343400" cy="1917720"/>
          </a:xfrm>
        </p:grpSpPr>
        <p:sp>
          <p:nvSpPr>
            <p:cNvPr id="4102" name=""/>
            <p:cNvSpPr/>
            <p:nvPr/>
          </p:nvSpPr>
          <p:spPr>
            <a:xfrm>
              <a:off x="5334120" y="158760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23040" y="1860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429160" y="196200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5352480" y="1987560"/>
              <a:ext cx="1270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365800" y="2038320"/>
              <a:ext cx="1015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352480" y="210204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365800" y="2165400"/>
              <a:ext cx="1015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352480" y="221616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365800" y="2279520"/>
              <a:ext cx="50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423040" y="23176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V="1">
              <a:off x="5130720" y="3028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111640" y="302904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V="1">
              <a:off x="5130720" y="2736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111640" y="283860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35680" y="2851200"/>
              <a:ext cx="88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35680" y="34290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73480" y="3467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111640" y="3505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130720" y="340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30720" y="3143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130720" y="32320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423040" y="2355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403960" y="253368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130720" y="25462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137200" y="2540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267080" y="267984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83080" y="2006640"/>
              <a:ext cx="914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626080" y="228600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8026200" y="231156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108840" y="269244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934320" y="294660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435800" y="2400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435800" y="2882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29320" y="240660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696440" y="2414520"/>
              <a:ext cx="4312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677360" y="2408400"/>
              <a:ext cx="4694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96080" y="240012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677000" y="2381040"/>
              <a:ext cx="469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622920" y="273672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flipV="1">
              <a:off x="6622920" y="292716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1680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927840" y="290196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23000" y="2736720"/>
              <a:ext cx="291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5823000" y="292716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81652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127560" y="2901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0293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2327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232760" y="2743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26280" y="27496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149800" y="25401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423040" y="29401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248680" y="2629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22944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432480" y="2933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4291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960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159760" y="259704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0293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429160" y="3327480"/>
              <a:ext cx="290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8356680" y="2635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scillatory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0BA-A092-44AF-8869-37B45AA4E0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hardware at varying levels of abst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al replacement for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composition of modules from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/function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module does, not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generates circuit for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seman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78A-0146-440F-A686-3DC7772AD8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D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4000"/>
          </a:bodyPr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l (circa 1983) - developed by Data-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to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much more than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circa 1977) - research project at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, but no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circa 1985) - developed by Gateway (absorbed by Ca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ascal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is only interaction with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efficient and easy to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circa 1987) - DoD sponsor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da (emphasis on re-use and maintain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semantics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general but ver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696-50C6-45DE-9D3C-D44CCE9A45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tructural and behavioral de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structur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ach logic gate instantiated and connected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cribes input/output behavior of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tructural implementations could have sa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ifferent implementation of one Boolea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’ll mostly be using behavioral Verilog in Aldec ActiveH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on schematic when we want structural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BBD-C8A6-4F24-AF2C-087C6143D0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"/>
          <p:cNvSpPr/>
          <p:nvPr/>
        </p:nvSpPr>
        <p:spPr>
          <a:xfrm>
            <a:off x="1143000" y="1981080"/>
            <a:ext cx="72388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wire      abar, bbar, t1, t2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A (abar, a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B (bbar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1 (t1, a, b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2 (t2, b, a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r_gate  or1 (out, t1, t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ructu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74E-3DE8-474C-BAF8-9AF82A8ABF4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562720" y="2514600"/>
            <a:ext cx="2489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s of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d without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72280" y="5130720"/>
            <a:ext cx="309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NOR is implemented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least 3 simple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36560" y="1670040"/>
            <a:ext cx="3987720" cy="4578120"/>
            <a:chOff x="736560" y="1670040"/>
            <a:chExt cx="3987720" cy="4578120"/>
          </a:xfrm>
        </p:grpSpPr>
        <p:sp>
          <p:nvSpPr>
            <p:cNvPr id="230" name=""/>
            <p:cNvSpPr/>
            <p:nvPr/>
          </p:nvSpPr>
          <p:spPr>
            <a:xfrm>
              <a:off x="2508120" y="2673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8120" y="2977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02000" y="2666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2000" y="25779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7240" y="2687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0760" y="2681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66880" y="2673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0400" y="2666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3600" y="3652560"/>
              <a:ext cx="8877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7120" y="3646440"/>
              <a:ext cx="9007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89680" y="365256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3560" y="364644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83240" y="3638520"/>
              <a:ext cx="8881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76760" y="3632400"/>
              <a:ext cx="9010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89320" y="3638520"/>
              <a:ext cx="759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83200" y="3632400"/>
              <a:ext cx="882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33600" y="3714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3600" y="38415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327480" y="3911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7480" y="3530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600" y="5594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3600" y="5898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327480" y="5587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720" y="5608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6240" y="5602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2360" y="5594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85880" y="5587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8160" y="535284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1680" y="534636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8520" y="536724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02040" y="536076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236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588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236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552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9040" y="54734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900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252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00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216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08120" y="542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8120" y="5556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178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63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050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5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9712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2640" y="226044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66968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160" y="2450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41588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176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89160" y="22539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328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35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0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7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2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08120" y="330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8120" y="3612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02000" y="330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02000" y="32130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240" y="3322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0760" y="331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3308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330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8120" y="3943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8120" y="4248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502000" y="3936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3848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67240" y="39574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0760" y="3951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6880" y="39434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0400" y="39369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8120" y="4578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08120" y="4883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02000" y="457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02000" y="448308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7240" y="4592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0760" y="4586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4578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4572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8160" y="586080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01680" y="585432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08520" y="587520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2040" y="586872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0236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588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552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9040" y="59814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900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252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900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216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08120" y="5937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8120" y="60642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72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6880" y="3587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80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00400" y="2832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5272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688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980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73320" y="3848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5272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6880" y="3968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0400" y="3975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980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78200" y="377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7820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1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1040" y="3905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1040" y="453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1040" y="5429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7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1040" y="2133360"/>
              <a:ext cx="0" cy="17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3892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1040" y="391140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527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454644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5416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54356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7160" y="390528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7160" y="4539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7160" y="54291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324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040" y="4159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1040" y="4794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81040" y="5556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1928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1280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12800" y="2133360"/>
              <a:ext cx="0" cy="20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4146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2800" y="416556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020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2800" y="48006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00200" y="5543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2800" y="5562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9280" y="4159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4794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55562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6880" y="5682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9800" y="5492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54990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1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8520" y="2622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040" y="2635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81040" y="3270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1480" y="264132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28520" y="3257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1480" y="3276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760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76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0324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1040" y="2889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81040" y="3524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3240" y="2641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0640" y="28764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3240" y="289548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0640" y="3511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3240" y="3530520"/>
              <a:ext cx="0" cy="27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9720" y="28890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09720" y="352404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688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2720" y="34606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3320" y="346680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7980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236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81040" y="2762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81040" y="4667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22360" y="26413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9760" y="2749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22360" y="2768400"/>
              <a:ext cx="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9760" y="4654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2360" y="467352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28840" y="276228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28840" y="466704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84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1040" y="301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1040" y="4921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84480" y="2641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520" y="300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84480" y="302256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520" y="4908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84480" y="4927320"/>
              <a:ext cx="0" cy="13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0600" y="3016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060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2236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1040" y="3396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81040" y="4032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81040" y="5937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3804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21142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3192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31920" y="213336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33843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920" y="34034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40194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31920" y="403848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2452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31920" y="5943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040" y="339696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38040" y="403200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8040" y="593712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84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81040" y="3651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81040" y="4286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81040" y="6064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00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94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4040" y="21333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1080" y="3638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4040" y="36576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1080" y="4273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4040" y="429264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81080" y="6051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4040" y="60703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0160" y="3651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0160" y="4286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00160" y="6064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6880" y="5810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79800" y="6000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0400" y="58165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6560" y="1670040"/>
              <a:ext cx="1739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363852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24360" y="561960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039000" y="4070160"/>
            <a:ext cx="1765080" cy="826560"/>
            <a:chOff x="6039000" y="4070160"/>
            <a:chExt cx="1765080" cy="826560"/>
          </a:xfrm>
        </p:grpSpPr>
        <p:sp>
          <p:nvSpPr>
            <p:cNvPr id="462" name=""/>
            <p:cNvSpPr/>
            <p:nvPr/>
          </p:nvSpPr>
          <p:spPr>
            <a:xfrm>
              <a:off x="6483240" y="407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3240" y="438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477120" y="40701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42360" y="4091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35880" y="408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42000" y="407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35520" y="4083120"/>
              <a:ext cx="291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58080" y="4597560"/>
              <a:ext cx="862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51600" y="4591440"/>
              <a:ext cx="8758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58440" y="4611600"/>
              <a:ext cx="8625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1960" y="4605480"/>
              <a:ext cx="8755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1920" y="461160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45800" y="460548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6760" y="4610880"/>
              <a:ext cx="507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1000" y="4604040"/>
              <a:ext cx="626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3240" y="467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83240" y="480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47242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27840" y="47181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44200" y="4351320"/>
              <a:ext cx="1389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37760" y="4351320"/>
              <a:ext cx="9518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87800" y="4336920"/>
              <a:ext cx="9018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43840" y="43369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45360" y="441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45360" y="4546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565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37440" y="41529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56520" y="4673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39000" y="4165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50040" y="4172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5652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2944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39000" y="48006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036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94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2960" y="429912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18280" y="4546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1200" y="4737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12160" y="455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27840" y="4229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18280" y="44197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12160" y="42354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54920" y="4229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483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BC9-A4DF-451F-8D1D-797164BA1D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"/>
          <p:cNvSpPr/>
          <p:nvPr/>
        </p:nvSpPr>
        <p:spPr>
          <a:xfrm>
            <a:off x="762120" y="2590920"/>
            <a:ext cx="77342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g   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4648320" y="5052960"/>
            <a:ext cx="3031920" cy="580680"/>
          </a:xfrm>
          <a:prstGeom prst="borderCallout1">
            <a:avLst>
              <a:gd name="adj1" fmla="val 18750"/>
              <a:gd name="adj2" fmla="val -8333"/>
              <a:gd name="adj3" fmla="val -96157"/>
              <a:gd name="adj4" fmla="val -72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ay from input 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outpu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248520" y="3276720"/>
            <a:ext cx="2438280" cy="916920"/>
          </a:xfrm>
          <a:prstGeom prst="borderCallout1">
            <a:avLst>
              <a:gd name="adj1" fmla="val 18750"/>
              <a:gd name="adj2" fmla="val -8333"/>
              <a:gd name="adj3" fmla="val 49134"/>
              <a:gd name="adj4" fmla="val -8963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register - keeps track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of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BFE-EA94-48D9-BBEB-B4C6A6FA55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"/>
          <p:cNvSpPr/>
          <p:nvPr/>
        </p:nvSpPr>
        <p:spPr>
          <a:xfrm>
            <a:off x="685800" y="2209680"/>
            <a:ext cx="85852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          ou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lways @(a or b) 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4638600" y="5105520"/>
            <a:ext cx="4105440" cy="642600"/>
          </a:xfrm>
          <a:prstGeom prst="borderCallout1">
            <a:avLst>
              <a:gd name="adj1" fmla="val 18750"/>
              <a:gd name="adj2" fmla="val -8333"/>
              <a:gd name="adj3" fmla="val -157222"/>
              <a:gd name="adj4" fmla="val -262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es when block is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. triggered by which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D64-7552-4519-8321-8CADF7E874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>
            <a:off x="609480" y="1523880"/>
            <a:ext cx="549936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testbench (x, y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x, y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[1:0]     cn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itial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cnt = 0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repeat (4)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#10 cnt = cnt + 1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$display ("@ time=%d, x=%b, y=%b, cnt=%b"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$time, x, y, cnt); end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#10 $finish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x = cnt[1]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y = cnt[0]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5689440" y="2451240"/>
            <a:ext cx="2184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riving a simulation through a “testbench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5" name=""/>
          <p:cNvSpPr/>
          <p:nvPr/>
        </p:nvSpPr>
        <p:spPr>
          <a:xfrm>
            <a:off x="5486400" y="1779480"/>
            <a:ext cx="1544760" cy="411480"/>
          </a:xfrm>
          <a:prstGeom prst="borderCallout1">
            <a:avLst>
              <a:gd name="adj1" fmla="val 18750"/>
              <a:gd name="adj2" fmla="val -8333"/>
              <a:gd name="adj3" fmla="val 132689"/>
              <a:gd name="adj4" fmla="val -1014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bit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5486400" y="2666880"/>
            <a:ext cx="2895480" cy="91692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81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block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ce at st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5562720" y="5715000"/>
            <a:ext cx="2187360" cy="642600"/>
          </a:xfrm>
          <a:prstGeom prst="borderCallout1">
            <a:avLst>
              <a:gd name="adj1" fmla="val 18750"/>
              <a:gd name="adj2" fmla="val -8333"/>
              <a:gd name="adj3" fmla="val -131185"/>
              <a:gd name="adj4" fmla="val -10318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ve to stop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248520" y="4829040"/>
            <a:ext cx="2187360" cy="368280"/>
          </a:xfrm>
          <a:prstGeom prst="borderCallout1">
            <a:avLst>
              <a:gd name="adj1" fmla="val 18750"/>
              <a:gd name="adj2" fmla="val -8333"/>
              <a:gd name="adj3" fmla="val -29976"/>
              <a:gd name="adj4" fmla="val -757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 to a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844-EFC8-4DE1-86AE-48CFCC46EE4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simulation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imulus component and device to test in a sche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1" name="" descr=""/>
          <p:cNvPicPr/>
          <p:nvPr/>
        </p:nvPicPr>
        <p:blipFill>
          <a:blip r:embed="rId1"/>
          <a:stretch/>
        </p:blipFill>
        <p:spPr>
          <a:xfrm>
            <a:off x="1822320" y="2963880"/>
            <a:ext cx="5410440" cy="1407960"/>
          </a:xfrm>
          <a:prstGeom prst="rect">
            <a:avLst/>
          </a:prstGeom>
          <a:ln w="0">
            <a:noFill/>
          </a:ln>
        </p:spPr>
      </p:pic>
      <p:sp>
        <p:nvSpPr>
          <p:cNvPr id="4192" name=""/>
          <p:cNvSpPr/>
          <p:nvPr/>
        </p:nvSpPr>
        <p:spPr>
          <a:xfrm>
            <a:off x="4944600" y="3116160"/>
            <a:ext cx="30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46760" y="3841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4946760" y="3554280"/>
            <a:ext cx="3045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743880" y="3193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192400" y="3489480"/>
            <a:ext cx="232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-be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266720" y="328284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267080" y="3573360"/>
            <a:ext cx="29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8FD-BC9C-4DE0-BB98-8EBE5806CD2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"/>
          <p:cNvSpPr/>
          <p:nvPr/>
        </p:nvSpPr>
        <p:spPr>
          <a:xfrm>
            <a:off x="533520" y="2057400"/>
            <a:ext cx="80769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Compare1 (Equal, Alarger, Blarger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Equal, Alarger, Blarger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#5 Equal = (A &amp; B) | (~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Alarger = (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Blar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= (~A &amp; B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ato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F8E-4229-45B4-99E0-AFEA3D4DBF7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57200" y="1663560"/>
            <a:ext cx="84582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life (n0, n1, n2, n3, n4, n5, n6, n7, self, ou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n0, n1, n2, n3, n4, n5, n6, n7, sel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  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7:0] neighbo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3:0] i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neighbors = {n7, n6, n5, n4, n3, n2, n1, n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neighbors or self)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ount 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or (i = 0; i &lt; 8; i = i+1) count = count + neighbors[i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(count == 3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out | ((self == 1) &amp; (count == 2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2ED-EDC6-49D7-8749-1C7E889408C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vs. programming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 of multiple components of the s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interconnections between modules via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y of modules (only leaves can be HDL in Aldec ActiveH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assignment (logic always comp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 (computation takes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signals is important (when does computation have its eff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xplicitly spelled out - no dynamic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s naturally parallel (must support multiple thr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s can occur in parallel (not just 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1AB-E585-4C9D-9E84-DB686F2E251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- specification of inputs, outputs, bidirectional, and intern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 - a gate’s output is a function of its inputs at all times (doesn’t need to wait to be "called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tion delay- concept of time and delay in input affecting gat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 - connecting modules together with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y - modules encapsulate functional b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145-806E-4032-BAC2-FC99E38301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truth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ing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and 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sign cas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065-0AFB-41AE-B8D9-22B36A02BBA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701720" y="459756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5587920"/>
            <a:ext cx="2235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94120" y="199404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7760" y="1784520"/>
            <a:ext cx="0" cy="35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4120" y="281952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44880" y="363204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4880" y="445788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1778040"/>
            <a:ext cx="327672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43000" y="2654280"/>
            <a:ext cx="2590920" cy="1359000"/>
            <a:chOff x="1143000" y="2654280"/>
            <a:chExt cx="2590920" cy="1359000"/>
          </a:xfrm>
        </p:grpSpPr>
        <p:sp>
          <p:nvSpPr>
            <p:cNvPr id="518" name=""/>
            <p:cNvSpPr/>
            <p:nvPr/>
          </p:nvSpPr>
          <p:spPr>
            <a:xfrm>
              <a:off x="3429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440" y="265428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95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195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195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95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79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79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79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79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F14-49A2-4B8F-9F3B-88E176BE70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616120" y="16257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49840" y="160020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41680" y="4140360"/>
            <a:ext cx="1701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49840" y="41403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026040" y="1447920"/>
            <a:ext cx="2828880" cy="2365200"/>
            <a:chOff x="6026040" y="1447920"/>
            <a:chExt cx="2828880" cy="2365200"/>
          </a:xfrm>
        </p:grpSpPr>
        <p:sp>
          <p:nvSpPr>
            <p:cNvPr id="535" name=""/>
            <p:cNvSpPr/>
            <p:nvPr/>
          </p:nvSpPr>
          <p:spPr>
            <a:xfrm>
              <a:off x="65484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581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82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360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2788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882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058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710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46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73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21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64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04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502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882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360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788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216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738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277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73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21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64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2604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0200" y="3962520"/>
            <a:ext cx="2828880" cy="2365200"/>
            <a:chOff x="6010200" y="3962520"/>
            <a:chExt cx="2828880" cy="2365200"/>
          </a:xfrm>
        </p:grpSpPr>
        <p:sp>
          <p:nvSpPr>
            <p:cNvPr id="560" name=""/>
            <p:cNvSpPr/>
            <p:nvPr/>
          </p:nvSpPr>
          <p:spPr>
            <a:xfrm>
              <a:off x="653256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4228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723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98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2626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7236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9000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5516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7880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579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054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3482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464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3436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723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198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2626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54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5796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188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579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054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3482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102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23800" y="3962520"/>
            <a:ext cx="2844720" cy="2365200"/>
            <a:chOff x="523800" y="3962520"/>
            <a:chExt cx="2844720" cy="2365200"/>
          </a:xfrm>
        </p:grpSpPr>
        <p:sp>
          <p:nvSpPr>
            <p:cNvPr id="585" name=""/>
            <p:cNvSpPr/>
            <p:nvPr/>
          </p:nvSpPr>
          <p:spPr>
            <a:xfrm>
              <a:off x="106200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172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018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96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924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180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944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8460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0824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874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352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780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5408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6380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18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496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7924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52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740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4132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74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352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780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38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3800" y="1447920"/>
            <a:ext cx="2844720" cy="2365200"/>
            <a:chOff x="523800" y="1447920"/>
            <a:chExt cx="2844720" cy="2365200"/>
          </a:xfrm>
        </p:grpSpPr>
        <p:sp>
          <p:nvSpPr>
            <p:cNvPr id="610" name=""/>
            <p:cNvSpPr/>
            <p:nvPr/>
          </p:nvSpPr>
          <p:spPr>
            <a:xfrm>
              <a:off x="10620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717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01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49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792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18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194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846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082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874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352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780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40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38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01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49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792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52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74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13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74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352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780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380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771640" y="2898720"/>
            <a:ext cx="1905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 = A2A1B2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73080" y="2682720"/>
            <a:ext cx="3049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93960" y="4708440"/>
            <a:ext cx="728640" cy="289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03280" y="5638680"/>
            <a:ext cx="7621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17680" y="4724280"/>
            <a:ext cx="316080" cy="76212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762120"/>
              <a:gd name="textAreaBottom" fmla="*/ 747000 h 762120"/>
            </a:gdLst>
            <a:ahLst/>
            <a:rect l="textAreaLeft" t="textAreaTop" r="textAreaRight" b="textAreaBottom"/>
            <a:pathLst>
              <a:path w="21600" h="52046">
                <a:moveTo>
                  <a:pt x="3600" y="0"/>
                </a:moveTo>
                <a:arcTo wR="3600" hR="3600" stAng="16200000" swAng="-5400000"/>
                <a:lnTo>
                  <a:pt x="0" y="48446"/>
                </a:lnTo>
                <a:arcTo wR="3600" hR="3600" stAng="10800000" swAng="-5400000"/>
                <a:lnTo>
                  <a:pt x="18000" y="5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15880" y="5181480"/>
            <a:ext cx="304920" cy="7621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762120"/>
              <a:gd name="textAreaBottom" fmla="*/ 747360 h 76212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69160" y="4708440"/>
            <a:ext cx="789120" cy="789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350120" y="2685960"/>
            <a:ext cx="761760" cy="761760"/>
            <a:chOff x="7350120" y="2685960"/>
            <a:chExt cx="761760" cy="761760"/>
          </a:xfrm>
        </p:grpSpPr>
        <p:sp>
          <p:nvSpPr>
            <p:cNvPr id="642" name=""/>
            <p:cNvSpPr/>
            <p:nvPr/>
          </p:nvSpPr>
          <p:spPr>
            <a:xfrm rot="16200000">
              <a:off x="7578720" y="2914560"/>
              <a:ext cx="761760" cy="3045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6200000">
              <a:off x="7578720" y="2901960"/>
              <a:ext cx="304560" cy="76176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87">
                  <a:moveTo>
                    <a:pt x="3600" y="0"/>
                  </a:moveTo>
                  <a:arcTo wR="3600" hR="3600" stAng="16200000" swAng="-5400000"/>
                  <a:lnTo>
                    <a:pt x="0" y="50387"/>
                  </a:lnTo>
                  <a:arcTo wR="3600" hR="3600" stAng="10800000" swAng="-5400000"/>
                  <a:lnTo>
                    <a:pt x="18000" y="53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543560" y="2063880"/>
            <a:ext cx="1739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7640" y="5369040"/>
            <a:ext cx="1702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'A1B2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1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B2'B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48320" y="4546440"/>
            <a:ext cx="1650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1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726920" y="5472000"/>
            <a:ext cx="1662120" cy="16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163240" y="5811840"/>
            <a:ext cx="1047960" cy="15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163240" y="5003640"/>
            <a:ext cx="1047960" cy="111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01640" y="5487840"/>
            <a:ext cx="709560" cy="88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2260440"/>
            <a:ext cx="1067040" cy="98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78400" y="2517840"/>
            <a:ext cx="1533600" cy="43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9F6-E2C3-4890-BB3D-6645DC3F51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626000" y="2114640"/>
            <a:ext cx="36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35720" y="1905120"/>
            <a:ext cx="0" cy="33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08440" y="1898640"/>
            <a:ext cx="37720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41280" y="480708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3680" y="5556240"/>
            <a:ext cx="3225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 for each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4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65160" y="2808360"/>
            <a:ext cx="2590920" cy="1359000"/>
            <a:chOff x="965160" y="2808360"/>
            <a:chExt cx="2590920" cy="1359000"/>
          </a:xfrm>
        </p:grpSpPr>
        <p:sp>
          <p:nvSpPr>
            <p:cNvPr id="659" name=""/>
            <p:cNvSpPr/>
            <p:nvPr/>
          </p:nvSpPr>
          <p:spPr>
            <a:xfrm>
              <a:off x="3251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3600" y="280836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16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416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16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416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65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700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700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700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700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CAD-5476-4D01-ADA9-79FD6BA4FF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693720" y="1580040"/>
            <a:ext cx="8070840" cy="4828680"/>
            <a:chOff x="693720" y="1580040"/>
            <a:chExt cx="8070840" cy="4828680"/>
          </a:xfrm>
        </p:grpSpPr>
        <p:grpSp>
          <p:nvGrpSpPr>
            <p:cNvPr id="672" name=""/>
            <p:cNvGrpSpPr/>
            <p:nvPr/>
          </p:nvGrpSpPr>
          <p:grpSpPr>
            <a:xfrm>
              <a:off x="6428880" y="2722680"/>
              <a:ext cx="662040" cy="450720"/>
              <a:chOff x="6428880" y="2722680"/>
              <a:chExt cx="662040" cy="4507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6525720" y="275436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428880" y="272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555920" y="1580040"/>
              <a:ext cx="917640" cy="2334960"/>
              <a:chOff x="1555920" y="1580040"/>
              <a:chExt cx="917640" cy="23349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568880" y="1580040"/>
                <a:ext cx="904680" cy="661320"/>
                <a:chOff x="1568880" y="1580040"/>
                <a:chExt cx="904680" cy="661320"/>
              </a:xfrm>
            </p:grpSpPr>
            <p:sp>
              <p:nvSpPr>
                <p:cNvPr id="677" name=""/>
                <p:cNvSpPr/>
                <p:nvPr/>
              </p:nvSpPr>
              <p:spPr>
                <a:xfrm rot="16200000">
                  <a:off x="1722600" y="1586520"/>
                  <a:ext cx="564840" cy="744480"/>
                </a:xfrm>
                <a:custGeom>
                  <a:avLst/>
                  <a:gdLst>
                    <a:gd name="textAreaLeft" fmla="*/ 27360 w 564840"/>
                    <a:gd name="textAreaRight" fmla="*/ 537480 w 56484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65">
                      <a:moveTo>
                        <a:pt x="3600" y="0"/>
                      </a:moveTo>
                      <a:arcTo wR="3600" hR="3600" stAng="16200000" swAng="-5400000"/>
                      <a:lnTo>
                        <a:pt x="0" y="24865"/>
                      </a:lnTo>
                      <a:arcTo wR="3600" hR="3600" stAng="10800000" swAng="-5400000"/>
                      <a:lnTo>
                        <a:pt x="18000" y="284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1916640" y="1232280"/>
                  <a:ext cx="20916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55920" y="3252960"/>
                <a:ext cx="904680" cy="662040"/>
                <a:chOff x="1555920" y="3252960"/>
                <a:chExt cx="904680" cy="662040"/>
              </a:xfrm>
            </p:grpSpPr>
            <p:sp>
              <p:nvSpPr>
                <p:cNvPr id="680" name=""/>
                <p:cNvSpPr/>
                <p:nvPr/>
              </p:nvSpPr>
              <p:spPr>
                <a:xfrm flipH="1" rot="16200000">
                  <a:off x="1709640" y="3163320"/>
                  <a:ext cx="565200" cy="7444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47">
                      <a:moveTo>
                        <a:pt x="3600" y="0"/>
                      </a:moveTo>
                      <a:arcTo wR="3600" hR="3600" stAng="16200000" swAng="-5400000"/>
                      <a:lnTo>
                        <a:pt x="0" y="24847"/>
                      </a:lnTo>
                      <a:arcTo wR="3600" hR="3600" stAng="10800000" swAng="-5400000"/>
                      <a:lnTo>
                        <a:pt x="18000" y="284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16200000">
                  <a:off x="1902960" y="3357720"/>
                  <a:ext cx="20952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8102520" y="2728800"/>
              <a:ext cx="662040" cy="451080"/>
              <a:chOff x="8102520" y="2728800"/>
              <a:chExt cx="662040" cy="451080"/>
            </a:xfrm>
          </p:grpSpPr>
          <p:sp>
            <p:nvSpPr>
              <p:cNvPr id="683" name=""/>
              <p:cNvSpPr/>
              <p:nvPr/>
            </p:nvSpPr>
            <p:spPr>
              <a:xfrm>
                <a:off x="8102520" y="276084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555040" y="272880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151760" y="3228840"/>
              <a:ext cx="887400" cy="646200"/>
              <a:chOff x="7151760" y="3228840"/>
              <a:chExt cx="887400" cy="64620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3228840"/>
                <a:ext cx="822240" cy="5810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1760" y="3697200"/>
                <a:ext cx="8874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708600" y="3994200"/>
              <a:ext cx="1808280" cy="693360"/>
              <a:chOff x="6708600" y="3994200"/>
              <a:chExt cx="1808280" cy="69336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6740640" y="4155480"/>
                <a:ext cx="172692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08600" y="399420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6715080" y="5699160"/>
              <a:ext cx="1808280" cy="709560"/>
              <a:chOff x="6715080" y="5699160"/>
              <a:chExt cx="1808280" cy="709560"/>
            </a:xfrm>
          </p:grpSpPr>
          <p:sp>
            <p:nvSpPr>
              <p:cNvPr id="692" name=""/>
              <p:cNvSpPr/>
              <p:nvPr/>
            </p:nvSpPr>
            <p:spPr>
              <a:xfrm>
                <a:off x="6746760" y="5699160"/>
                <a:ext cx="172728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15080" y="616752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3117960" y="2646360"/>
              <a:ext cx="32432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8 = I4 I2 I1 + I8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4 = I4 I2' + I4 I1' + I4’ I2 I1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2 = I8’ I2’ I1 + I2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1 =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62080" y="2776680"/>
              <a:ext cx="758880" cy="355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3720" y="4778280"/>
              <a:ext cx="824040" cy="355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720" y="569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9280" y="1873080"/>
              <a:ext cx="790560" cy="806760"/>
            </a:xfrm>
            <a:custGeom>
              <a:avLst/>
              <a:gdLst>
                <a:gd name="textAreaLeft" fmla="*/ 38520 w 790560"/>
                <a:gd name="textAreaRight" fmla="*/ 752040 w 790560"/>
                <a:gd name="textAreaTop" fmla="*/ 38520 h 806760"/>
                <a:gd name="textAreaBottom" fmla="*/ 768240 h 806760"/>
              </a:gdLst>
              <a:ahLst/>
              <a:rect l="textAreaLeft" t="textAreaTop" r="textAreaRight" b="textAreaBottom"/>
              <a:pathLst>
                <a:path w="21600" h="22042">
                  <a:moveTo>
                    <a:pt x="3600" y="0"/>
                  </a:moveTo>
                  <a:arcTo wR="3600" hR="3600" stAng="16200000" swAng="-5400000"/>
                  <a:lnTo>
                    <a:pt x="0" y="18442"/>
                  </a:lnTo>
                  <a:arcTo wR="3600" hR="3600" stAng="10800000" swAng="-5400000"/>
                  <a:lnTo>
                    <a:pt x="18000" y="220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145280" y="1587960"/>
              <a:ext cx="887400" cy="645480"/>
              <a:chOff x="7145280" y="1587960"/>
              <a:chExt cx="887400" cy="645480"/>
            </a:xfrm>
          </p:grpSpPr>
          <p:sp>
            <p:nvSpPr>
              <p:cNvPr id="700" name=""/>
              <p:cNvSpPr/>
              <p:nvPr/>
            </p:nvSpPr>
            <p:spPr>
              <a:xfrm flipV="1">
                <a:off x="7176960" y="1652400"/>
                <a:ext cx="822240" cy="5806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145280" y="1587600"/>
                <a:ext cx="8874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2571840" y="1739880"/>
            <a:ext cx="635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05400" y="174960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81200" y="418464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05400" y="4197240"/>
            <a:ext cx="55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0520" y="1589040"/>
            <a:ext cx="2835000" cy="2365200"/>
            <a:chOff x="290520" y="1589040"/>
            <a:chExt cx="2835000" cy="2365200"/>
          </a:xfrm>
        </p:grpSpPr>
        <p:sp>
          <p:nvSpPr>
            <p:cNvPr id="708" name=""/>
            <p:cNvSpPr/>
            <p:nvPr/>
          </p:nvSpPr>
          <p:spPr>
            <a:xfrm>
              <a:off x="81900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2872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588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066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5494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880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7644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4160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6524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44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922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350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108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2080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588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66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5494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9224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40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49832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4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922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350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90520" y="4054320"/>
            <a:ext cx="2835000" cy="2365200"/>
            <a:chOff x="290520" y="4054320"/>
            <a:chExt cx="2835000" cy="2365200"/>
          </a:xfrm>
        </p:grpSpPr>
        <p:sp>
          <p:nvSpPr>
            <p:cNvPr id="733" name=""/>
            <p:cNvSpPr/>
            <p:nvPr/>
          </p:nvSpPr>
          <p:spPr>
            <a:xfrm>
              <a:off x="81900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2872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588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66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5494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5880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7644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4160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6524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44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22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350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108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2080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588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066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494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9224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40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9832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44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922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350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052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338880" y="1589040"/>
            <a:ext cx="2835000" cy="2365200"/>
            <a:chOff x="6338880" y="1589040"/>
            <a:chExt cx="2835000" cy="2365200"/>
          </a:xfrm>
        </p:grpSpPr>
        <p:sp>
          <p:nvSpPr>
            <p:cNvPr id="758" name=""/>
            <p:cNvSpPr/>
            <p:nvPr/>
          </p:nvSpPr>
          <p:spPr>
            <a:xfrm>
              <a:off x="686736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7708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071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550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5978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716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52480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58996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1360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927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06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6834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5944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6916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071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550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5978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06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276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4668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927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406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834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3888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40680" y="4054320"/>
            <a:ext cx="2835000" cy="2365200"/>
            <a:chOff x="6340680" y="4054320"/>
            <a:chExt cx="2835000" cy="2365200"/>
          </a:xfrm>
        </p:grpSpPr>
        <p:sp>
          <p:nvSpPr>
            <p:cNvPr id="783" name=""/>
            <p:cNvSpPr/>
            <p:nvPr/>
          </p:nvSpPr>
          <p:spPr>
            <a:xfrm>
              <a:off x="686916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7888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089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568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5996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0896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2660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9176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540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45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424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6852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6124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7096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089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568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5996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4240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9456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4848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945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424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6852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068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ACB-439F-475B-B1C8-041107513F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finition of terms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35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lement of ON-set or DC-set or any group of these elements that can be combined to form a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nt that can't be combined with another to form a larger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 implicant is essential if it alone covers an element of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articipate in ALL possible covers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-set used to form prime implicants but not to make implicant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implicant into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literals pe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the ON-set with as few prime implicants a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number of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35C-EA54-45AB-A3B2-78442CD013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56Z</dcterms:modified>
  <cp:revision>42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