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  <p:sldId id="301" r:id="rId75"/>
    <p:sldId id="302" r:id="rId76"/>
    <p:sldId id="303" r:id="rId77"/>
    <p:sldId id="304" r:id="rId78"/>
    <p:sldId id="305" r:id="rId79"/>
    <p:sldId id="306" r:id="rId80"/>
    <p:sldId id="307" r:id="rId81"/>
    <p:sldId id="308" r:id="rId82"/>
    <p:sldId id="309" r:id="rId83"/>
    <p:sldId id="310" r:id="rId84"/>
    <p:sldId id="311" r:id="rId85"/>
    <p:sldId id="312" r:id="rId86"/>
    <p:sldId id="313" r:id="rId87"/>
    <p:sldId id="314" r:id="rId88"/>
    <p:sldId id="315" r:id="rId89"/>
    <p:sldId id="316" r:id="rId90"/>
    <p:sldId id="317" r:id="rId91"/>
    <p:sldId id="318" r:id="rId92"/>
    <p:sldId id="319" r:id="rId93"/>
    <p:sldId id="320" r:id="rId94"/>
    <p:sldId id="321" r:id="rId95"/>
    <p:sldId id="322" r:id="rId96"/>
    <p:sldId id="323" r:id="rId97"/>
    <p:sldId id="324" r:id="rId98"/>
    <p:sldId id="325" r:id="rId99"/>
    <p:sldId id="326" r:id="rId100"/>
  </p:sldIdLst>
  <p:sldSz cx="9907588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slide" Target="slides/slide46.xml"/><Relationship Id="rId76" Type="http://schemas.openxmlformats.org/officeDocument/2006/relationships/slide" Target="slides/slide47.xml"/><Relationship Id="rId77" Type="http://schemas.openxmlformats.org/officeDocument/2006/relationships/slide" Target="slides/slide48.xml"/><Relationship Id="rId78" Type="http://schemas.openxmlformats.org/officeDocument/2006/relationships/slide" Target="slides/slide49.xml"/><Relationship Id="rId79" Type="http://schemas.openxmlformats.org/officeDocument/2006/relationships/slide" Target="slides/slide50.xml"/><Relationship Id="rId80" Type="http://schemas.openxmlformats.org/officeDocument/2006/relationships/slide" Target="slides/slide51.xml"/><Relationship Id="rId81" Type="http://schemas.openxmlformats.org/officeDocument/2006/relationships/slide" Target="slides/slide52.xml"/><Relationship Id="rId82" Type="http://schemas.openxmlformats.org/officeDocument/2006/relationships/slide" Target="slides/slide53.xml"/><Relationship Id="rId83" Type="http://schemas.openxmlformats.org/officeDocument/2006/relationships/slide" Target="slides/slide54.xml"/><Relationship Id="rId84" Type="http://schemas.openxmlformats.org/officeDocument/2006/relationships/slide" Target="slides/slide55.xml"/><Relationship Id="rId85" Type="http://schemas.openxmlformats.org/officeDocument/2006/relationships/slide" Target="slides/slide56.xml"/><Relationship Id="rId86" Type="http://schemas.openxmlformats.org/officeDocument/2006/relationships/slide" Target="slides/slide57.xml"/><Relationship Id="rId87" Type="http://schemas.openxmlformats.org/officeDocument/2006/relationships/slide" Target="slides/slide58.xml"/><Relationship Id="rId88" Type="http://schemas.openxmlformats.org/officeDocument/2006/relationships/slide" Target="slides/slide59.xml"/><Relationship Id="rId89" Type="http://schemas.openxmlformats.org/officeDocument/2006/relationships/slide" Target="slides/slide60.xml"/><Relationship Id="rId90" Type="http://schemas.openxmlformats.org/officeDocument/2006/relationships/slide" Target="slides/slide61.xml"/><Relationship Id="rId91" Type="http://schemas.openxmlformats.org/officeDocument/2006/relationships/slide" Target="slides/slide62.xml"/><Relationship Id="rId92" Type="http://schemas.openxmlformats.org/officeDocument/2006/relationships/slide" Target="slides/slide63.xml"/><Relationship Id="rId93" Type="http://schemas.openxmlformats.org/officeDocument/2006/relationships/slide" Target="slides/slide64.xml"/><Relationship Id="rId94" Type="http://schemas.openxmlformats.org/officeDocument/2006/relationships/slide" Target="slides/slide65.xml"/><Relationship Id="rId95" Type="http://schemas.openxmlformats.org/officeDocument/2006/relationships/slide" Target="slides/slide66.xml"/><Relationship Id="rId96" Type="http://schemas.openxmlformats.org/officeDocument/2006/relationships/slide" Target="slides/slide67.xml"/><Relationship Id="rId97" Type="http://schemas.openxmlformats.org/officeDocument/2006/relationships/slide" Target="slides/slide68.xml"/><Relationship Id="rId98" Type="http://schemas.openxmlformats.org/officeDocument/2006/relationships/slide" Target="slides/slide69.xml"/><Relationship Id="rId99" Type="http://schemas.openxmlformats.org/officeDocument/2006/relationships/slide" Target="slides/slide70.xml"/><Relationship Id="rId100" Type="http://schemas.openxmlformats.org/officeDocument/2006/relationships/slide" Target="slides/slide71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4337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 type="dt" idx="82"/>
          </p:nvPr>
        </p:nvSpPr>
        <p:spPr>
          <a:xfrm>
            <a:off x="5800680" y="0"/>
            <a:ext cx="44337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 type="sldImg"/>
          </p:nvPr>
        </p:nvSpPr>
        <p:spPr>
          <a:xfrm>
            <a:off x="3195720" y="531360"/>
            <a:ext cx="3844800" cy="266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 type="ftr" idx="83"/>
          </p:nvPr>
        </p:nvSpPr>
        <p:spPr>
          <a:xfrm>
            <a:off x="0" y="6743520"/>
            <a:ext cx="44337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 type="sldNum" idx="84"/>
          </p:nvPr>
        </p:nvSpPr>
        <p:spPr>
          <a:xfrm>
            <a:off x="5800680" y="6743520"/>
            <a:ext cx="44337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FC1169-B5FE-4125-B3C4-2F070048B2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915EF76-6352-4842-8A40-E857AED8D9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3197160" y="531720"/>
            <a:ext cx="3845160" cy="266220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9E9172-3488-4A2C-A21B-66E796562F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0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7B90065-EC14-43F2-A3D6-3ECBB7D60F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DD71551-CC22-4126-82A8-B93E78742A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1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1B9117B-098E-4A98-AB41-4EE8A6DFA9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1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8E6C6FC-A31C-48AA-925B-B303D14655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1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6E22614-C4DD-4AAE-B5D3-89ACEE3329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0821BE3-3830-4B9D-870D-18177703F3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17E862D-2125-4BED-9FBB-48D506EFE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3024B59-00EB-4E9B-ADB4-4411677E7B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2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DD8A23-4396-4CB0-AAE2-EFD97D6195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3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409D494-5877-49DA-961F-B25130FE0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8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47B5ECA-4ADC-4CDF-A39F-380080773A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3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B8FA68D-9370-4B57-8BEE-402F37F74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38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3AA4957-BBF7-4A39-9CA6-A782719DF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4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C6DE68B-A596-48BF-A0AE-44CA448621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4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A2444C9-890A-467E-AF62-A12E6E994B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7B1771-D23B-48C5-8329-D5A0AF293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57BE095-1E60-40D7-98AB-A874DAE6F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5AC133-6280-4520-8A02-053A92267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2B94D9A-E4F4-45C4-9F5B-DC4D67C137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966F984-C84A-4A94-B202-00D3E883A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84ABB68-1AD1-47C4-B07F-F64F44F8D2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05E4E5-CC2E-46B7-8243-C8D80AC77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6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ACF909A-6818-442D-B062-34A4422321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20CC057-5830-4007-9A4D-F76DDDF62A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269A27E-7CEA-4D07-BAB2-255262C2B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643AD05-62A6-4898-A1D9-BB47B3DEDF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7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A868CD-0806-4ADA-BE46-6ADDF5D267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8748919-1B35-4E2C-A6FD-2800A0C028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95CDF3-EDB8-424F-B05A-4D72A48655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F268F91-5CFF-44B1-84EC-EEFB94C0C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8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88C909B-D4F8-4319-9257-FF657A5C00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333DC15-6596-49A3-9D14-D0F3C9085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9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A0275F1-2B9A-472D-9F36-5F9478143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155A6EB-5A87-451D-8A57-9431DEA1D1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90FC40C-7427-4A2C-BF8F-135BDABEB0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3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FC3CD11-CB80-41D8-8CCD-1502FF1534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19822F-3D18-49A5-BC94-69D4F844C0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Rectangle 7"/>
          <p:cNvSpPr/>
          <p:nvPr/>
        </p:nvSpPr>
        <p:spPr>
          <a:xfrm>
            <a:off x="5800680" y="6743880"/>
            <a:ext cx="4433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4809DB7-B616-44E0-B0E1-968120B03C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1"/>
          <p:cNvSpPr>
            <a:spLocks noGrp="1"/>
          </p:cNvSpPr>
          <p:nvPr>
            <p:ph type="sldImg"/>
          </p:nvPr>
        </p:nvSpPr>
        <p:spPr>
          <a:xfrm>
            <a:off x="3195720" y="531720"/>
            <a:ext cx="3844800" cy="2662200"/>
          </a:xfrm>
          <a:prstGeom prst="rect">
            <a:avLst/>
          </a:prstGeom>
          <a:ln w="0">
            <a:noFill/>
          </a:ln>
        </p:spPr>
      </p:sp>
      <p:sp>
        <p:nvSpPr>
          <p:cNvPr id="1702" name="PlaceHolder 2"/>
          <p:cNvSpPr>
            <a:spLocks noGrp="1"/>
          </p:cNvSpPr>
          <p:nvPr>
            <p:ph type="body"/>
          </p:nvPr>
        </p:nvSpPr>
        <p:spPr>
          <a:xfrm>
            <a:off x="1363680" y="3371400"/>
            <a:ext cx="7507440" cy="31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266-F593-4298-AEFE-326DFC01E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9545-8038-466F-B4C6-16C39AEB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24CD8-0E30-4126-AD38-9D457F6B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9F74D-A662-4FFB-8D2D-EC06199C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4D0C8-06BE-4815-A696-10F0A753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2C91E-139E-4B6A-AAE8-E9CAA64B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705B7-6DD7-40DE-9C2F-408F76B2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81288-61E6-4767-AABB-86DA5E8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FEB65-F352-4C0B-ADA1-0A739979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FA9EB-0612-420B-8A8C-6DDAED27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8C96D-E435-49AD-9326-8B67CC21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AD42F-DD90-4ED5-A696-97877F6F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1F7E-CEF3-4175-9DB4-5B90AE44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1618B-8F0D-40A4-8A61-E5C00F1D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BC2A1-E7C5-40E6-8707-8EA8C41F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FFE54-45C9-47F6-958A-905FD2A9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925DA5-F312-4BF7-BCBB-3FCD0EA8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05DE5-E4C5-47A2-8874-39C3C16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C4788-D41C-4849-A17F-DBD1F74D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A3F6A-FFC8-4EED-BBCA-07E9ADF6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E774B-5CA4-4560-91C2-12CBADF4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F8840-6B5F-46C0-B86A-972921EA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2DFE81-4E3B-4B64-B1DF-BDE904BB3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FD31-5757-4293-A662-D2B5CDB0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44F88-E75A-4648-938A-595DF46D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82DB1-F039-4D96-85C2-542C8D53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94619-C774-4DA6-8FA6-06CBD4D9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A6339-7EEB-4235-BE55-9F001522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88CFB-033B-46CA-B3AB-E49166F6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FAF87-9736-4547-8F3B-2863EF4B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F7B8A-5C25-4107-9B73-4011F25A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446B2-1B7A-4A12-8062-9602F4F8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493E1-A910-41DF-909C-88F2E4235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95C6A-4635-4F8C-8208-57D5D6FB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7871-1E3D-4402-AD00-E641285B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782AF-D1D7-41DE-83ED-C6D6D6B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99EA8-F6FE-472C-8E91-7DB8F10E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BBA0F-B3E6-4391-8AB9-C9C8113D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FAE6E1-290F-41A1-AEF9-9C3C6261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DE266-9A97-4FAE-8D40-8183E140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C02EB-C8DB-4E7A-AA3C-B69F3A65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6C49-2230-437F-843D-31751AC2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6DF4-213A-49EC-BB45-02AF2DE2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27147-87CC-4C07-A8C0-A6A06191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CDC49B-9927-4386-9A9F-A8CD6669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0097-4D07-48AB-AA37-890DED75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D64C2-81DE-4B93-A18E-5AB72886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760DF-A738-4F69-A253-0D0B78DD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F8ADD-E57C-4AED-860C-1CDF56DC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D02CAE-3258-43F1-861D-BE942B4A7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70560-D06E-41E5-9BDD-B0107219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B0356F-1BF6-4510-9F02-F988CD343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BB62C-E07A-4A90-8F36-FAEE0EB4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FECC5-D5B5-44E0-BE43-BED1B00B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187D5-234D-4883-B108-C34DAF92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BC4BE6-C898-4789-9B1A-12B09863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D22D-0A47-4954-9096-19DBF620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3F5A4-009D-4B5D-8D5E-8307EA75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7FE04-1AD1-46F5-AB60-F0FF761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0D29C-E242-4054-8AF3-A1801581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BC21E0-5864-41CF-B285-94DD3CBA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3759A1-232F-4BEA-BF7D-720DCA8A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38BD1-A54B-4688-91EE-977486E2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D331A8-E6BA-4ECD-B6B8-B02C4CA0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5063C-55C9-476B-9924-EB910218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8AF312-2B03-4C70-B355-AEDA271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F9D45-16D1-4830-957B-B6B1A840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1814-041C-4724-A5BA-DA45B618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3D1467-0EC2-429E-88A4-B20F4D8C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F44FF9-8962-487C-A6B7-93D7A1BE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EC266-2410-41BD-95F6-F75E9215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01A650-F3AE-485A-8096-206DCB95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C73D5-FFE8-4F56-A852-C10430A0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5E5104-3492-4D2D-AF37-E89E50A2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14369-4AA8-4824-914B-CF3A3131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33780-E885-43F6-B159-B4C6293D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310531-DB48-4153-A544-65BBD332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BB6CD4-37B3-4ADB-A3AA-ECF98036F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2B17-B50B-40F4-A889-7F3C189E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EFA56-E6B8-427E-9D74-D5FBF125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F167A-6E3B-4C85-9BE5-D1B25358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3F44D-A0B8-405C-BEA7-759FBB25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CDF48-86FF-4047-95F1-8B521F0A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29738-0D64-4139-B4E0-8089214A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FE9EB5-5C5C-4BFB-913E-3FFA101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E20C7-FA67-4EED-B7B3-84FFD6C5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F139B-C1FB-4523-AA92-6A33C42E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7890C-21B9-42D7-BC31-21F56125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419A61-3134-4D44-B7D7-EC2D0135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94E2-B1D8-4B5C-AB8F-2E8311A1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CDFD5-5F4E-47BC-A801-221077A0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E1E0B6-DDCC-4258-A028-29B76741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6E4A0-EEE0-4572-9D8E-B0E6F892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7FFB11-88A3-4A9A-B2C1-211BD973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8974F-CE97-46A5-9EF5-79BB70DA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CEF5E5-57B5-40F8-9A85-2A18E789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E0E5B-88B1-4343-B971-F61B24A2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E7156-CC9B-4329-AEDB-58C1C0E7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DC6BD-2FB7-4F7C-BC02-CD3FC9B5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E9C2D4-C419-40EC-AED3-BEB197FF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4F76-BBD1-4FBD-A23A-2799139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A9967D-AE07-4050-8D8F-A1265FC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18813B-23EB-471C-8577-BB71EBA07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28D55-5E9C-435C-94E7-8A06821A2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B32109-E443-405C-A133-8118D67E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AECE95-39CF-441C-9D42-54996439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F69A0B-B34C-40AD-8D9D-7FED1DB1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1756D7-B032-4C35-8AED-1FF16A9B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66B2B-435E-4E4C-874B-3FF44D2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C0E57B-7FBD-47B1-B335-11FB0326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E0C6AB-87EC-41CC-9263-4B55BA8B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88F-4F4E-4942-8E51-3F09F593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EE79-EE4D-48F2-B8DD-C48DD2F9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48679-B48B-4A22-8C33-E2F0DCD9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9B284A-B182-4C19-A6F4-71E47654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AE510-1F22-4130-81D6-F26FF4A4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CBD742-7FCE-4576-A23B-6CE3570A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B03CE-F24F-4A29-A2B6-633ED10A3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0B7586-B9FA-4E58-B3BB-BABFE7C7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8CE66A-EC37-47CC-A08C-3C669A7E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1EF70D-19D2-44F0-BAE9-B2512273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F33B1-9CD7-476F-8613-8A8137CE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7F5A09-6853-47F4-BC9F-FFD18B28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4334-8C10-493B-8590-59CE51D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1F4C31-6015-4079-8C41-FD33980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D34718-2E3F-402E-B13E-E45FCEA9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70CB0B-DAC8-4637-89A5-9B66D889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4CC3F5-B43F-406F-BC2F-74031FB1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A951C6-B422-4935-8749-F418C07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762566-8DC1-4926-8F89-20AB9311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97AC1-DB27-41F0-845D-9E8552CB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80A15-4551-4BF6-9E42-D0B1BC3D2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1654E-D355-4D4F-83E4-164A13F8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76E9FA-F208-4E78-B9E6-22050D69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4441-C148-4E06-AAB8-1DB21FF7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8B12C-8D04-4055-A187-ECB37473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E88F7-AD7E-4590-861B-57FCDED5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BA1F3-B5C8-47B6-B015-83F4003C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F881C8-72FD-460A-A618-F86AA6F8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8A404-04BF-430A-AC47-0EF1E33C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6D594C-5A3A-4BD2-AFBE-3D7DDA54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B9A70-7B3C-4DBC-BCC5-515CB9F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E89151-CAF6-4622-8746-F096B48DD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46111-8E73-4665-A9CA-1B8FBBE6D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9DECD4-2C30-4129-ABB1-045B58D3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B1F4-01DA-465F-AA29-F31A5FC7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7C29AA-678F-43C5-9FAF-D732A3C8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C0DE06-0711-4321-8EEA-8A32FABCB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30620C-B0FD-4948-9673-445AFBA4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06EED-B55B-4F2C-BD6B-4918398C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CD5B03-A55E-4AD9-A4B2-635549D9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C01EF-42B6-4708-9F0E-808EFCD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33F9B-D463-4C68-A512-D4908AF7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D81ECD-69E7-469C-A842-EDE439A9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C6F45-BC8C-465A-8510-6F0BD4F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2E040-B36A-4388-97B1-59BC4F60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1140-5ECE-49F7-95B8-0BE9F956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C700EA-BE9F-46D3-AC8D-99E7B1005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DCCC9-55FF-445C-88E9-6180EED9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C3FF9-419A-401B-B846-2AEB63C7B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9A353D-B633-4E4C-845B-D371AE6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B6566D-1C5A-4322-986D-2C77C9D5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DA4BF7-5B08-4FDC-A8B2-48CE5F3D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2D540-0CA3-429E-A622-9B4E948F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AA3FD-B3F7-44BE-936F-86087639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7362B1-B152-42E9-99C6-432C770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EDBEC-F06D-463D-AB93-101A1A6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16C6-2EF4-4057-AF10-54EA8C72C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16CFA-8CA1-4569-87B2-865FA34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E62657-BD2D-4E94-B839-BFA060CA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06381C-D085-48DE-AD73-FAC363D2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F5194C-9DCB-4FB4-AB27-D2127AA6C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DBF277-2FD1-4C91-AF04-5B9361B5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7F0A11-076A-43FB-8FC3-5374BC63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1FC02-EFAA-4905-BA6A-3E031B57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5A1271-E68F-4BDD-9F37-C8BFB12C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591B92-6DE3-4318-A62A-094A5470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0F2025-AC19-4607-9F45-0B048DE8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4E44-F739-4793-92B9-10F10D2A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ED0C0F-AD33-4D8E-A862-E8DCE14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EA854-1588-4F93-8191-BAE0ADA3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2672C9-B995-40C5-8A56-FF729A05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544CA8-6C05-41E6-AD26-46556351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01A2CD-655C-409C-9FBB-1AEB1BC4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9FC94A-DECB-4B5E-B9CD-618B9F62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010A52-6B56-4D9E-A623-68A9E7E7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3329E0-2671-45A1-9DE9-51A21890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2723AB-35AA-4B06-A49E-93E678A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8539D-2EFB-4E4B-824E-674D7FDE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5BB34-27C2-4EED-8D9A-9F092F9B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2E4744-E284-42C9-BDC2-DB3C09FD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860A99-7014-4850-A7D4-D4AA99C9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98E54D-020A-4D73-AF4D-F1873D87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E49B9-47F1-43AF-B968-8211BBD1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17035-421D-4B29-B5F5-05EB945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5F80AE-5F94-4F73-A1AC-134147FE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DBB03B-9EB3-49EA-9DA3-E9F6833D8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34ABC4-CBB5-4A00-90C3-6AFDA590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3BC843-D412-4902-8B32-BB3FD4C9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3A1DDA-C8E0-46FB-B298-B257B81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C2045-6DC0-490A-8CFA-BC71CE37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1F3001-23AB-40A1-BC9F-4D2F13DF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EF8CE9-C2E9-4AE1-8D65-A9BF7247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24EDF6-0ACA-4DE1-BCDF-D313757F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620256-6AF6-495D-BBBE-D3B7826D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562A37-A3BE-409A-BB48-7DF8CE5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FBC388-7C45-4442-8DE5-3E52EAE5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BD1CB3-8A36-4774-89C1-8F25306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0F40CB-D4D2-499E-A1AA-7F03083B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6C9E23-73E2-420F-8AF7-1C60BBCE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699197-95E6-4669-89B3-9EB4F25B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CFC1C-2690-4EB5-8091-81C20711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525EFF-7D6F-4A00-BFCF-251FD4D3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B2CF577-B0CB-43EB-9359-9F5EF329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217C03-89DF-4983-A01F-870C1AE5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AE6062-B3E8-49B3-9326-07B7AE10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E9A15-0ED3-4A1B-9BF7-176094A28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1A9B48-C5DC-43BC-82EE-B16E464C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A4A5F4E-702E-47A4-914F-1A27615C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A50571-FF44-4E24-8D66-A6F77997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B2D29E-C2EF-4AA4-BCC8-74A19DA8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DD964C-6C71-43DD-897F-B330FC5E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318-AFA0-4225-ABB4-44A97C3B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BD43-F129-458B-8D81-E51E7D7E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46E0669-D733-424D-8C11-353CEA9E1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D0CEDD-61EF-4701-AB6B-7731F51D0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7ED87B-DD7E-44AF-BC1B-D1861FA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2E0C42-45AB-436C-9B1C-42A09033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385CBB-E746-4E19-9702-0F3C2F8C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70B0E0-8B64-483E-A09A-6A2F9572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043AB5-E5DF-4257-9990-B31D3200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179813-1A18-44EC-8661-7ABB1738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61BE83-2B07-48E8-8DC0-4EA1B193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226DF9-C2CB-4189-9DD3-97F44FEA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D60F-12FE-48A5-A287-5CBEFF42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245A87-9EBD-4157-BA0D-F3FD5999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14DAE-B62A-4D50-988A-0DE379C0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44F1C4-4DB5-4464-92EF-492D651C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F1FE0B-A96B-4B69-BF9E-6554A54A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97EADA-FC27-4982-83AB-DF57C5B6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9B4028-F20C-4DFF-A8B7-700722D0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E01C84-AC5E-4FAF-95E0-D027C062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BD7D9C-373E-4A91-A55C-B2EED9522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4ABBAC-391D-4FE6-9777-97C04B46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0696DA8-CDC2-4DA9-878F-AC536C38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6AD14-5888-43F7-A1B5-0A1FCCC1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69CA20-D22A-4676-9D34-183B1D9E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366829-E3C9-4FE0-833A-2C3CC811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B7C843-6A15-4AE9-98C0-36BF272C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5EBBFC1-8ABB-4A4C-8040-1B96ACED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D07DED-410D-44C2-B3DA-22853768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A1DD-BBA0-47F7-B36A-FEBDE4E9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B0960-022B-4F72-8E6B-DCFD56EA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A41F1-FD6D-4450-88B6-3929DBE2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71AB0-0E6D-4B7D-A6B7-DD83837E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3AE5C-B9F3-414C-B209-7139A43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839C-4A35-4EB8-AF03-3F1A72BC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D4A14-09E2-47C8-9832-87194F0A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CA1-E4FA-461A-A7D1-A1D0682B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B84DC-79D3-4EC4-81BE-FA1D0681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BA65C-6A7B-49EE-9279-40CF2895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3688D-B6F0-4202-9C70-F09685BA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B7080-2A16-4A58-9A08-5DD876A9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42E9B-52FB-46C5-ABDF-9041F96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6503C-32AA-41F3-AF3E-62EAA43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58D38-B718-4BDD-B6AA-6F3A64F9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7EEB-5CB9-4464-9777-1A31FEE7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4878-EF68-44E4-B26F-05213B5D1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A7FA8-73BC-4D84-9DF9-B7E9FFE4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EDD-CCC6-40EB-A0BA-4272C7DF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0F478-4912-4DB1-8150-22A64DC8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8DFEDD-BC98-4BA5-BCAC-A47F7EA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A70DC7-6AE5-410C-92F6-5385D249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BCF7A-54CA-4C99-86F1-4AA01F89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84C85-4A61-4854-80CB-66CCC869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F6E31B-95AB-457E-9D4D-B3F4974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83807-1C0E-46A2-8CAF-BABCC2B3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B2372-7B10-42AF-860E-7D55122A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29DCB5-5509-4043-9CB1-9F8E4D78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CDA95-B74A-46F5-877D-6BFC82D8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92B8-E327-48AD-BFFD-7781E1C8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1DDD9D-D0F1-4BDF-82E8-BD4AF234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5700-6708-4909-8663-CFCD045B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BB2E0-A1DD-4F83-89B9-3FB41F1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FA7D8-82BF-4443-84C9-D5428E0A1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C90E5-C5D5-4978-A15D-35F5394D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5921-68AC-45E5-B98F-4BEA8B13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DBDA4-6214-4F75-ABDB-0CE9377A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F67D0-702F-46C1-BACF-45AEB8FA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EB570-F480-409A-A3E4-D2F5E2B4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0C82-E960-4699-A4EC-BACD7A05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E080-D5BC-4360-85EF-C46755AE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EAF1C-4E27-4BBF-B531-3181AD4C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31218-642D-4E45-B771-42854960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8E243-94C7-4417-BF32-B7AD0943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1B491-1DF7-4BA3-AA47-38170585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A6CA-6676-48C1-825E-65789422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79F2C-3E48-426C-9245-9BF5728A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AC20-087B-4383-B8EB-473165A9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8BCE1-9E00-465B-85EA-42BB0B46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EEDA0-AD39-4E34-B719-E22D7E532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829D4-F533-4BD9-A245-36FB3EB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84E-C6A4-48DD-994B-1086CBBD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FE01D-00C9-4CE8-8172-08F253B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D594-0D12-42D1-A725-901CDF29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55C6B-5F5B-4DDF-9024-BDAD2F84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DF337-35F6-4E99-8054-D5D687B8D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ECB94-4AAB-437B-BEF0-31AA1283D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C71C2-A8E2-4C3E-87BF-C5CA9E30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137AB-E529-47B6-8165-D05F4B5F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AFE91-554B-43D3-A2E1-88E681E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544F7-9D9C-412E-AB11-BBA1ADBC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7525C-73E6-4F1E-803E-144562E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DDA0-5F24-4AF0-BC9A-7C9A1F4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507600" y="259920"/>
            <a:ext cx="89154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1EDD6-351A-4ABC-8677-46D21F4E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D3F50-1711-4B29-858E-F041A2808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4F6CA-48F3-4CB1-9EB6-476E4333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8941A-CC4B-4390-A156-5350143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95000" y="3853080"/>
            <a:ext cx="89154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7A900-6BC3-436D-AAC7-2A045AF7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48392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50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063400" y="3853080"/>
            <a:ext cx="435060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71110-D3C9-4DCA-84B2-21A25669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0964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524280" y="148392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9500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0964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524280" y="3853080"/>
            <a:ext cx="2870640" cy="21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FF9E5-AED4-436B-89CD-BF25EE56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C97B6-62D9-49D0-B47B-E1E5D444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3190C-00C5-466D-8458-5BCB3C70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E36B7-243B-4993-B340-D7012E15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992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9AC8-EAA4-45AA-8E20-5815F50F790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8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9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08F-026E-44AB-AE48-9A4FBBE86FB0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B974-82AC-4FE9-A3D2-904240F1021A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F19E3-2686-4EAA-B457-110B0BA43BD3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7287-C210-4F3F-97D3-D742BAF1BA42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6755-A427-4578-9FFB-8089B39D0199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4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DB1-01E5-4262-B4AA-6A6753B16B74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46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4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4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70F7-6D72-48A4-8C74-58FCC9F133D9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4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ftr" idx="5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sldNum" idx="5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5FE-54C1-4774-9A4E-21426869B0C0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52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5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54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131C-FD9D-48D2-85DD-902D8943A323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55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7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8F4-6B19-4F29-BB1D-DC685796F3DF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884-67E2-49CE-BC2B-C805F09537C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dt" idx="58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ftr" idx="5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sldNum" idx="60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A1FA-1E17-4EBE-B78C-2704BC1F225A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 type="dt" idx="61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 type="ftr" idx="6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 type="sldNum" idx="6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D212-61E6-4B18-B085-5B275C67CC17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4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7FB3-A65F-4242-AEF8-E290B88856B1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D939-FB41-4A65-BEDE-87A17F417707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7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7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7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E05F-7015-48E8-B222-7DAE8D7AECCE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73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7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75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976D-7997-4394-8532-83E5E2C00941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76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7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78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27C3-84C9-43DC-85CE-BE289F7351F5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79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8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81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EED-8D56-4126-8BC5-D44B7737257D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259992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D4CC-885E-41A6-81AD-CAE88D1AEA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ccec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742680" y="6248520"/>
            <a:ext cx="2415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</a:rPr>
              <a:t>Milano, 10th March 200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CB39-4C5E-427C-BEDE-52FC230728D2}" type="slidenum"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166" name="Freeform 4"/>
          <p:cNvSpPr/>
          <p:nvPr/>
        </p:nvSpPr>
        <p:spPr>
          <a:xfrm>
            <a:off x="309600" y="2803680"/>
            <a:ext cx="1440" cy="3035160"/>
          </a:xfrm>
          <a:custGeom>
            <a:avLst/>
            <a:gdLst/>
            <a:ahLst/>
            <a:rect l="l" t="t" r="r" b="b"/>
            <a:pathLst>
              <a:path w="1587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A536-A40E-4D1D-92BD-AD05CC2728D2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A5B4E-F5BD-4ECB-A48A-5161FCC25503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E88D-0558-472E-8A3F-61AAB251A6BA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E67D-7655-4D38-BBFC-DCA65A21B781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8" descr="cromatica-5"/>
          <p:cNvPicPr/>
          <p:nvPr/>
        </p:nvPicPr>
        <p:blipFill>
          <a:blip r:embed="rId2"/>
          <a:stretch/>
        </p:blipFill>
        <p:spPr>
          <a:xfrm>
            <a:off x="9032760" y="176040"/>
            <a:ext cx="703440" cy="4813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5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6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BD17-A383-4084-B1F3-669B07306146}" type="slidenum"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9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9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6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dx.doi.org/10.1109/TPAMI.2005.169" TargetMode="External"/><Relationship Id="rId2" Type="http://schemas.openxmlformats.org/officeDocument/2006/relationships/hyperlink" Target="http://dx.doi.org/10.1109/TPAMI.2005.169" TargetMode="External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8E95-35B2-4776-90CA-27B1E04B4A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790200" y="259092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Times New Roman"/>
              </a:rPr>
              <a:t>Teoria e Tecniche del Riconoscimento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subTitle"/>
          </p:nvPr>
        </p:nvSpPr>
        <p:spPr>
          <a:xfrm>
            <a:off x="1508040" y="42224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Stima dei parametri:</a:t>
            </a:r>
            <a:br>
              <a:rPr sz="3600"/>
            </a:b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pproccio Maximum Likelihoo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approccio Bayesiano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Expectation-Max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4"/>
          <p:cNvSpPr/>
          <p:nvPr/>
        </p:nvSpPr>
        <p:spPr>
          <a:xfrm>
            <a:off x="871560" y="457200"/>
            <a:ext cx="8244000" cy="21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ipartimento di Informatic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niversità di Veron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.A. 2014-15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C57-5F27-4542-809E-A20F541DF8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tima dei parametri – Due approcci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440" y="1104480"/>
            <a:ext cx="88074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ccio Maximum 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arametri so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uantità fiss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 sconosci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migliore stima dei loro valori è quella c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ssimizza la probabilità di ottenere i dati di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ccio Bayesia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parametri son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riabili aleator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venti determinate probabilità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osservazioni dei dati di training trasformano queste probabilità in probabilità a poste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93CA-214A-406D-8E7C-F881B3141E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Times New Roman"/>
              </a:rPr>
              <a:t>Stima dei parametri – Due approcci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685440" y="1467000"/>
            <a:ext cx="880740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giungendo campioni di training il risultato è di rifinire meglio la forma delle densità a posteriori, causando un innalzamento di esse in corrispondenza dei veri valori dei parametri (fenomeno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yesian Lear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risultati dei due approcci, benché proceduralmente diversi, sono qualitativamente simi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975-3BFA-4716-8CCE-0307AA6106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</a:t>
            </a:r>
            <a:r>
              <a:rPr b="1" i="1" lang="en-GB" sz="4000" spc="-1" strike="noStrike">
                <a:solidFill>
                  <a:srgbClr val="3333cc"/>
                </a:solidFill>
                <a:latin typeface="Times New Roman"/>
              </a:rPr>
              <a:t>Maximum Likeliho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5052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orza dell’ipotesi di partenza del problema, poiché i pattern del se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no i.i.d., abbiamo c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ta come funzione 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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viene chiamata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likeliho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rispetto al set di campion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tima di Maximum Likelihood di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è, per definizione, il valore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 massimizza p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ordiamo l’assunzione ch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è fissato ma sconosciu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6" name="Object 4"/>
              <p:cNvSpPr txBox="1"/>
              <p:nvPr/>
            </p:nvSpPr>
            <p:spPr>
              <a:xfrm>
                <a:off x="2782800" y="2151000"/>
                <a:ext cx="415296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7" name="Object 5"/>
              <p:cNvSpPr txBox="1"/>
              <p:nvPr/>
            </p:nvSpPr>
            <p:spPr>
              <a:xfrm>
                <a:off x="4865760" y="4726080"/>
                <a:ext cx="3333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7B5D-F74A-45A4-814F-21D9D61060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202" name="Picture 7" descr=""/>
          <p:cNvPicPr/>
          <p:nvPr/>
        </p:nvPicPr>
        <p:blipFill>
          <a:blip r:embed="rId1"/>
          <a:stretch/>
        </p:blipFill>
        <p:spPr>
          <a:xfrm>
            <a:off x="2825640" y="1231920"/>
            <a:ext cx="5562720" cy="5073480"/>
          </a:xfrm>
          <a:prstGeom prst="rect">
            <a:avLst/>
          </a:prstGeom>
          <a:ln w="0">
            <a:noFill/>
          </a:ln>
        </p:spPr>
      </p:pic>
      <p:sp>
        <p:nvSpPr>
          <p:cNvPr id="1203" name="Text Box 14"/>
          <p:cNvSpPr/>
          <p:nvPr/>
        </p:nvSpPr>
        <p:spPr>
          <a:xfrm>
            <a:off x="225360" y="1084320"/>
            <a:ext cx="3056040" cy="1739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ti di training 1-D assunti generati d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sità gaussiana di varianza fissata ma media sconosciu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15"/>
          <p:cNvSpPr/>
          <p:nvPr/>
        </p:nvSpPr>
        <p:spPr>
          <a:xfrm>
            <a:off x="8199360" y="996840"/>
            <a:ext cx="1533600" cy="14101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delle infinite possibili gaussia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AutoShape 16"/>
          <p:cNvSpPr/>
          <p:nvPr/>
        </p:nvSpPr>
        <p:spPr>
          <a:xfrm rot="9275400">
            <a:off x="7492680" y="888840"/>
            <a:ext cx="245880" cy="1038240"/>
          </a:xfrm>
          <a:prstGeom prst="rightArrow">
            <a:avLst>
              <a:gd name="adj1" fmla="val 50000"/>
              <a:gd name="adj2" fmla="val 502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AutoShape 17"/>
          <p:cNvSpPr/>
          <p:nvPr/>
        </p:nvSpPr>
        <p:spPr>
          <a:xfrm rot="21286200">
            <a:off x="3225600" y="2176560"/>
            <a:ext cx="609480" cy="461880"/>
          </a:xfrm>
          <a:prstGeom prst="rightArrow">
            <a:avLst>
              <a:gd name="adj1" fmla="val 31676"/>
              <a:gd name="adj2" fmla="val 967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8"/>
          <p:cNvSpPr/>
          <p:nvPr/>
        </p:nvSpPr>
        <p:spPr>
          <a:xfrm>
            <a:off x="174600" y="3857760"/>
            <a:ext cx="2784600" cy="17938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likelihood p(D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è funzione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entre la densità condizionale p(x|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funzione di 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19"/>
          <p:cNvSpPr/>
          <p:nvPr/>
        </p:nvSpPr>
        <p:spPr>
          <a:xfrm>
            <a:off x="6885720" y="3267000"/>
            <a:ext cx="204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KELIHO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20"/>
          <p:cNvSpPr/>
          <p:nvPr/>
        </p:nvSpPr>
        <p:spPr>
          <a:xfrm>
            <a:off x="6943680" y="484812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G-LIKELIHOO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70C9-EDA8-4BF1-B738-7AFD44A188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il numero di parametri da stimare è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a  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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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scopi analitici risulta più semplice lavorare con il logaritmo della likelih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amo quindi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unzione di log-likelih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5" name="Object 5"/>
              <p:cNvSpPr txBox="1"/>
              <p:nvPr/>
            </p:nvSpPr>
            <p:spPr>
              <a:xfrm>
                <a:off x="4070520" y="1708200"/>
                <a:ext cx="152856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t xml:space="preserve">θ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6" name="Object 6"/>
              <p:cNvSpPr txBox="1"/>
              <p:nvPr/>
            </p:nvSpPr>
            <p:spPr>
              <a:xfrm>
                <a:off x="2487600" y="5392800"/>
                <a:ext cx="55339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89B0-22AC-4363-979B-95870E41E0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 scopo è di ottenere quindi il vettore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ui la dipendenza sul data set D è implic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tanto per ricavare il ma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cui vogliamo otten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Object 6"/>
              <p:cNvSpPr txBox="1"/>
              <p:nvPr/>
            </p:nvSpPr>
            <p:spPr>
              <a:xfrm>
                <a:off x="3244680" y="1620720"/>
                <a:ext cx="27165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θ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3" name="Object 7"/>
              <p:cNvSpPr txBox="1"/>
              <p:nvPr/>
            </p:nvSpPr>
            <p:spPr>
              <a:xfrm>
                <a:off x="2552760" y="4435560"/>
                <a:ext cx="43448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∇</m:t>
                            </m:r>
                          </m:e>
                          <m:sub>
                            <m:r>
                              <m:t xml:space="preserve">θ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4" name="Object 8"/>
              <p:cNvSpPr txBox="1"/>
              <p:nvPr/>
            </p:nvSpPr>
            <p:spPr>
              <a:xfrm>
                <a:off x="2340000" y="3165480"/>
                <a:ext cx="54309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5" name="Object 9"/>
              <p:cNvSpPr txBox="1"/>
              <p:nvPr/>
            </p:nvSpPr>
            <p:spPr>
              <a:xfrm>
                <a:off x="5678640" y="5465880"/>
                <a:ext cx="18000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6" name="AutoShape 10"/>
          <p:cNvSpPr/>
          <p:nvPr/>
        </p:nvSpPr>
        <p:spPr>
          <a:xfrm rot="5400000">
            <a:off x="4561560" y="3794760"/>
            <a:ext cx="474840" cy="1038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3975-2A06-4249-8743-5A7C8AD253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Approccio Maximum Likelihood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685440" y="1317240"/>
            <a:ext cx="880740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mente, una volta trovato il set di parametri che rende vera, è necessario controllare che la soluzione trovata sia effettivamente un massimo globale, piuttosto che un massimo locale o un flesso o peggio ancora un punto di mini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sogna anche controllare cosa accade ai bordi degli estremi dello spazio dei parame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hiamo ora l’approccio ML ad alcuni casi specific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FEC-6AC1-4BA5-BA3D-FC2805088C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ximum Likelihood: caso Gaussiano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iamo che i campioni siano generati da una popolazione normale multivariata di medi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covarianz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semplicità, consideriamo il caso in cui solo la medi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ia sconosciuta. Consideriamo quindi il punto campi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troviam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7" name="Object 4"/>
              <p:cNvSpPr txBox="1"/>
              <p:nvPr/>
            </p:nvSpPr>
            <p:spPr>
              <a:xfrm>
                <a:off x="1228680" y="3819600"/>
                <a:ext cx="7505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Σ</m:t>
                            </m:r>
                          </m:e>
                        </m:d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8" name="Object 5"/>
              <p:cNvSpPr txBox="1"/>
              <p:nvPr/>
            </p:nvSpPr>
            <p:spPr>
              <a:xfrm>
                <a:off x="2727360" y="5635800"/>
                <a:ext cx="4048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μ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9" name="AutoShape 6"/>
          <p:cNvSpPr/>
          <p:nvPr/>
        </p:nvSpPr>
        <p:spPr>
          <a:xfrm rot="5400000">
            <a:off x="4329720" y="4666320"/>
            <a:ext cx="611280" cy="1038240"/>
          </a:xfrm>
          <a:prstGeom prst="rightArrow">
            <a:avLst>
              <a:gd name="adj1" fmla="val 50000"/>
              <a:gd name="adj2" fmla="val 314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608E-1454-41CC-AC75-8AF455A9E7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cand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deduce che la stima Maximum-Likelihood di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ve soddisfare la relaz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ltiplicando pe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 riorganizzando la somma otten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 non è altro che la semplic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edi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gli esempi di training, altresì indicata con       per indicarne la dipendenza dalla numerosità del training s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Object 4"/>
              <p:cNvSpPr txBox="1"/>
              <p:nvPr/>
            </p:nvSpPr>
            <p:spPr>
              <a:xfrm>
                <a:off x="3413160" y="1996920"/>
                <a:ext cx="29178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6" name="Object 5"/>
              <p:cNvSpPr txBox="1"/>
              <p:nvPr/>
            </p:nvSpPr>
            <p:spPr>
              <a:xfrm>
                <a:off x="3695760" y="3719520"/>
                <a:ext cx="183492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7" name="Object 6"/>
              <p:cNvSpPr txBox="1"/>
              <p:nvPr/>
            </p:nvSpPr>
            <p:spPr>
              <a:xfrm>
                <a:off x="5230800" y="5191200"/>
                <a:ext cx="4748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FCD8-9188-40D5-93A2-E8D94C8AA98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/>
          </p:nvPr>
        </p:nvSpPr>
        <p:spPr>
          <a:xfrm>
            <a:off x="388800" y="1120680"/>
            <a:ext cx="91980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ora il caso più tipico in cui la distribuzione Gaussiana abbia media e covarianza ign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sideriamo prima il caso univariato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 = (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 si prende un singolo punto abb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cui derivata 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3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3" name="Object 4"/>
              <p:cNvSpPr txBox="1"/>
              <p:nvPr/>
            </p:nvSpPr>
            <p:spPr>
              <a:xfrm>
                <a:off x="2330280" y="3027240"/>
                <a:ext cx="588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4" name="Object 5"/>
              <p:cNvSpPr txBox="1"/>
              <p:nvPr/>
            </p:nvSpPr>
            <p:spPr>
              <a:xfrm>
                <a:off x="1820880" y="4106880"/>
                <a:ext cx="5969160" cy="20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∇</m:t>
                        </m:r>
                      </m:e>
                      <m:sub>
                        <m:r>
                          <m:t xml:space="preserve">θ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k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  <m:sSubSup>
                                    <m:e>
                                      <m:r>
                                        <m:t xml:space="preserve">θ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2978-CFB5-46FA-A2CA-3F35571607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ntroduzi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440" y="1213920"/>
            <a:ext cx="842004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r creare un classificatore ottimale che utilizzi la regola di decisione Bayesiana è necessario conosc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robabilità a pri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densità condi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 performance di un classificatore dipendono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rtemen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lla bontà di queste compon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Times New Roman"/>
              </a:rPr>
              <a:t>NON SI HANNO PRATICAMENTE MAI TUTTE QUESTE INFORMAZION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8" name="Object 4"/>
              <p:cNvSpPr txBox="1"/>
              <p:nvPr/>
            </p:nvSpPr>
            <p:spPr>
              <a:xfrm>
                <a:off x="5692680" y="2633760"/>
                <a:ext cx="936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9" name="Object 5"/>
              <p:cNvSpPr txBox="1"/>
              <p:nvPr/>
            </p:nvSpPr>
            <p:spPr>
              <a:xfrm>
                <a:off x="5702400" y="3157560"/>
                <a:ext cx="1412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202B-ABF0-4D1B-964C-B36F85762E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742680" y="1149480"/>
            <a:ext cx="842004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guagliando a 0 e considerando tutti i punti si ottie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dove     e      sono le stime ML per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i="1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ostituendo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si hanno le stime ML di media e var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4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0" name="Object 4"/>
              <p:cNvSpPr txBox="1"/>
              <p:nvPr/>
            </p:nvSpPr>
            <p:spPr>
              <a:xfrm>
                <a:off x="1527120" y="2166840"/>
                <a:ext cx="262908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1" name="Object 5"/>
              <p:cNvSpPr txBox="1"/>
              <p:nvPr/>
            </p:nvSpPr>
            <p:spPr>
              <a:xfrm>
                <a:off x="4919760" y="2106720"/>
                <a:ext cx="381312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2" name="Object 6"/>
              <p:cNvSpPr txBox="1"/>
              <p:nvPr/>
            </p:nvSpPr>
            <p:spPr>
              <a:xfrm>
                <a:off x="2075040" y="3408480"/>
                <a:ext cx="3538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3" name="Object 7"/>
              <p:cNvSpPr txBox="1"/>
              <p:nvPr/>
            </p:nvSpPr>
            <p:spPr>
              <a:xfrm>
                <a:off x="2819520" y="3392640"/>
                <a:ext cx="384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4" name="Object 9"/>
              <p:cNvSpPr txBox="1"/>
              <p:nvPr/>
            </p:nvSpPr>
            <p:spPr>
              <a:xfrm>
                <a:off x="3220920" y="4017960"/>
                <a:ext cx="2832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5" name="Object 10"/>
              <p:cNvSpPr txBox="1"/>
              <p:nvPr/>
            </p:nvSpPr>
            <p:spPr>
              <a:xfrm>
                <a:off x="1488960" y="5072040"/>
                <a:ext cx="174312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6" name="Object 11"/>
              <p:cNvSpPr txBox="1"/>
              <p:nvPr/>
            </p:nvSpPr>
            <p:spPr>
              <a:xfrm>
                <a:off x="5008680" y="5054760"/>
                <a:ext cx="2867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CB58-51B2-4548-A271-2C50984554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/>
          </p:nvPr>
        </p:nvSpPr>
        <p:spPr>
          <a:xfrm>
            <a:off x="742680" y="1081080"/>
            <a:ext cx="84200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l caso multivariato si tratta in maniera analoga con più conti. Il risultato è comun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i noti tuttavia che la stima della covarianza è sbilanciata, i.e., il valore aspettato della varianza campione su tutti i possibili insiemi di dimension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non è uguale alla vera varianz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 Likelihood: caso Gaussiano (5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2" name="Object 5"/>
              <p:cNvSpPr txBox="1"/>
              <p:nvPr/>
            </p:nvSpPr>
            <p:spPr>
              <a:xfrm>
                <a:off x="1695600" y="2027160"/>
                <a:ext cx="182880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3" name="Object 6"/>
              <p:cNvSpPr txBox="1"/>
              <p:nvPr/>
            </p:nvSpPr>
            <p:spPr>
              <a:xfrm>
                <a:off x="4727520" y="2054160"/>
                <a:ext cx="39243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4" name="Object 8"/>
              <p:cNvSpPr txBox="1"/>
              <p:nvPr/>
            </p:nvSpPr>
            <p:spPr>
              <a:xfrm>
                <a:off x="2287440" y="4929120"/>
                <a:ext cx="48168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D31F-77AE-47EC-B23E-7A0C1071A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ximum-Likelihood: altri cas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47280" y="858960"/>
            <a:ext cx="880740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istono, oltre alla densità Gaussiana, anche altre famiglie di densità che costituiscono altrettante famiglie di paramet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-379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zione espon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-379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zione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4240" indent="-379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tribuzione di Bernoulli multivari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0" name="Object 9"/>
              <p:cNvSpPr txBox="1"/>
              <p:nvPr/>
            </p:nvSpPr>
            <p:spPr>
              <a:xfrm>
                <a:off x="2847960" y="2806560"/>
                <a:ext cx="455940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θ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r>
                                    <m:t xml:space="preserve">θ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</m:t>
                                  </m:r>
                                  <m:r>
                                    <m:t xml:space="preserve">x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       </m:t>
                              </m:r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1" name="Object 10"/>
              <p:cNvSpPr txBox="1"/>
              <p:nvPr/>
            </p:nvSpPr>
            <p:spPr>
              <a:xfrm>
                <a:off x="2660760" y="4451400"/>
                <a:ext cx="5030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/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θ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altrimenti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41D5-EA84-4468-8F70-70B209AA6E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Maximum-Likelihood – Modello d’error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440" y="11667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generale, se i modelli parametrici sono validi, il classificato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imum-likelihoo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nisce risultati eccellent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ce, se si usano famiglie parametriche scorrette, il classificatore produce forti err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0000" indent="-2728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o accade anche se è nota la famiglia parametrica da usare, per esempio se si stima all’interno di una distribuzione gaussiana come parametro una varianza troppo l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0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EA65-C5A4-44EE-92C6-758CF74FBB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Maximum-Likelihood – Modello d’errore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440" y="1302840"/>
            <a:ext cx="88074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 fat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nca un modello d’errore che dia un voto alla parametrizzazione ottenu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oltre, per applicare la stima di Maximum-Likelihood, tutti i dati di training devono essere disponibi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vogliamo utilizz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uov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i di training, è necessario ricalcolare la procedura di stima Maximum-Likelih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8A7F-8BB9-4602-B6D6-952E3B1ABA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Stima di Bay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440" y="1280880"/>
            <a:ext cx="8807400" cy="49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ifferenza dell’approccio ML, in cui supponiam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e fissato ma sconosciuto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’approccio di stima Bayesian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i parametri considera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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a variabile alea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questo caso il set di dati di training D ci permette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vertire una distribuzione a pri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 questa variabile in una densità di probabilità a posteri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     p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a difficoltà dell’argomento, è necessario un passo indietro al concetto di classificazione Baye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ight Arrow 8"/>
          <p:cNvSpPr/>
          <p:nvPr/>
        </p:nvSpPr>
        <p:spPr>
          <a:xfrm>
            <a:off x="4635360" y="4876920"/>
            <a:ext cx="36036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219E-3363-4B37-BA03-254532B3E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Approccio di stima Bayesiano – Idea central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766440" y="147636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 calcolo delle densità a posteriori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ta alla base della classificazione Baye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 creare un classificatore ottimale che utilizzi la regola di decisione Bayesiana è necessario conosc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probabilità a prior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densità condizional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ando queste quantità sono sconosciute, bisogna ricorrere a tutte le informazioni a disposi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5F09-6BBA-4C3F-A8E0-E04B8872E0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-360" y="17892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2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58920" y="1254240"/>
            <a:ext cx="927072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rte di queste informazioni può essere derivante 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450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oscenza a pri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53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orma funzionale delle densità sconosci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53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ntervallo dei valori dei parametri sconosc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77840" indent="-4507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ining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11360" indent="-353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a D i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t totale di camp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l nostro compito si trasforma così nella stima d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,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 queste probabilità possiamo ottenere il classificatore Bayes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A544-A686-45A1-A69E-441CF52A6C7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3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61680" y="77940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0040" indent="-32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il set di training D, la formula di Bayes div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0040" indent="-320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nzion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00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gionevolment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 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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000" indent="-266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il caso di learning supervisionato il set D è partizionato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di campioni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...,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 i campioni in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tenenti 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0000" indent="-266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mpioni appartenenti al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danno informazioni sui parametri di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) se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Object 4"/>
              <p:cNvSpPr txBox="1"/>
              <p:nvPr/>
            </p:nvSpPr>
            <p:spPr>
              <a:xfrm>
                <a:off x="1751040" y="1509840"/>
                <a:ext cx="587052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A87E-8A15-49F8-8C6D-18D958CFB5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4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661680" y="77940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ste assunzioni portano a due conseguenz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amo lavorare con ogni classe indipendentemente, o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4"/>
              <p:cNvSpPr txBox="1"/>
              <p:nvPr/>
            </p:nvSpPr>
            <p:spPr>
              <a:xfrm>
                <a:off x="1854360" y="2436840"/>
                <a:ext cx="583884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0" name="Object 6"/>
              <p:cNvSpPr txBox="1"/>
              <p:nvPr/>
            </p:nvSpPr>
            <p:spPr>
              <a:xfrm>
                <a:off x="2070000" y="4809960"/>
                <a:ext cx="5464440" cy="159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1" name="AutoShape 7"/>
          <p:cNvSpPr/>
          <p:nvPr/>
        </p:nvSpPr>
        <p:spPr>
          <a:xfrm rot="5400000">
            <a:off x="4770360" y="3787920"/>
            <a:ext cx="827280" cy="1039680"/>
          </a:xfrm>
          <a:prstGeom prst="rightArrow">
            <a:avLst>
              <a:gd name="adj1" fmla="val 50000"/>
              <a:gd name="adj2" fmla="val 4256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Oval 9"/>
          <p:cNvSpPr/>
          <p:nvPr/>
        </p:nvSpPr>
        <p:spPr>
          <a:xfrm>
            <a:off x="5965920" y="2354400"/>
            <a:ext cx="1311120" cy="734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Oval 10"/>
          <p:cNvSpPr/>
          <p:nvPr/>
        </p:nvSpPr>
        <p:spPr>
          <a:xfrm>
            <a:off x="6265800" y="4657680"/>
            <a:ext cx="101124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Oval 11"/>
          <p:cNvSpPr/>
          <p:nvPr/>
        </p:nvSpPr>
        <p:spPr>
          <a:xfrm>
            <a:off x="5389560" y="2327400"/>
            <a:ext cx="609480" cy="73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Oval 12"/>
          <p:cNvSpPr/>
          <p:nvPr/>
        </p:nvSpPr>
        <p:spPr>
          <a:xfrm>
            <a:off x="5629320" y="4686480"/>
            <a:ext cx="660240" cy="73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Oval 14"/>
          <p:cNvSpPr/>
          <p:nvPr/>
        </p:nvSpPr>
        <p:spPr>
          <a:xfrm>
            <a:off x="5567400" y="3081240"/>
            <a:ext cx="609480" cy="73512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Oval 15"/>
          <p:cNvSpPr/>
          <p:nvPr/>
        </p:nvSpPr>
        <p:spPr>
          <a:xfrm>
            <a:off x="5869080" y="5450040"/>
            <a:ext cx="609480" cy="734760"/>
          </a:xfrm>
          <a:prstGeom prst="ellipse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Oval 16"/>
          <p:cNvSpPr/>
          <p:nvPr/>
        </p:nvSpPr>
        <p:spPr>
          <a:xfrm>
            <a:off x="6532560" y="5437080"/>
            <a:ext cx="101124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Oval 17"/>
          <p:cNvSpPr/>
          <p:nvPr/>
        </p:nvSpPr>
        <p:spPr>
          <a:xfrm>
            <a:off x="6168960" y="3046320"/>
            <a:ext cx="148752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844B-9D6B-49AA-A3BA-CD0A2C667D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685440" y="628560"/>
            <a:ext cx="84200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iù spesso, si hanno unicame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vaga conoscenza del problem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da cui estrarre vaghe probabilità a prior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lcuni pattern particolarmente rappresentativ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raining da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usati per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ddestr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l classificatore (spesso troppo pochi!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stima delle probabilità a priori di solito non risulta particolarmente diffico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 stima delle densità condizionali è più comples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E998-4785-4EBE-87AC-FFC6F2B55C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311040" y="779400"/>
            <a:ext cx="9258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ché ogni classe può essere trattata indipendentemente, si possono evitare le distinzioni tra le classi e semplificare la notazion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ducendola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verse istanze dello stesso proble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oss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4" name="Object 18"/>
              <p:cNvSpPr txBox="1"/>
              <p:nvPr/>
            </p:nvSpPr>
            <p:spPr>
              <a:xfrm>
                <a:off x="1874880" y="2708280"/>
                <a:ext cx="546408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Approccio di stima Bayesiano – Idea centrale (5)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6" name="Oval 8"/>
          <p:cNvSpPr/>
          <p:nvPr/>
        </p:nvSpPr>
        <p:spPr>
          <a:xfrm>
            <a:off x="4235400" y="2563920"/>
            <a:ext cx="1800360" cy="734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Object 16"/>
              <p:cNvSpPr txBox="1"/>
              <p:nvPr/>
            </p:nvSpPr>
            <p:spPr>
              <a:xfrm>
                <a:off x="4471920" y="5423040"/>
                <a:ext cx="1311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Oval 19"/>
          <p:cNvSpPr/>
          <p:nvPr/>
        </p:nvSpPr>
        <p:spPr>
          <a:xfrm>
            <a:off x="4270320" y="5288040"/>
            <a:ext cx="1800360" cy="734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ight Arrow 11"/>
          <p:cNvSpPr/>
          <p:nvPr/>
        </p:nvSpPr>
        <p:spPr>
          <a:xfrm rot="5400000">
            <a:off x="4860000" y="3979080"/>
            <a:ext cx="658800" cy="1038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C4D1-FF5B-411C-8D8D-71F70E5AD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-360" y="163080"/>
            <a:ext cx="9906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stribuzione dei parametr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23520" y="1228680"/>
            <a:ext cx="88074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-45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llo che vogliamo fare è effettivamente osservare come viene ottenut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tramite l’ausilio di un modello di parametr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plici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gionevolmente, abbi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l’integrazione si estende su tutto lo spazio dei paramet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Object 4"/>
              <p:cNvSpPr txBox="1"/>
              <p:nvPr/>
            </p:nvSpPr>
            <p:spPr>
              <a:xfrm>
                <a:off x="2754360" y="3328920"/>
                <a:ext cx="386568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θ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1294-6783-4113-9558-25F433887C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/>
          </p:nvPr>
        </p:nvSpPr>
        <p:spPr>
          <a:xfrm>
            <a:off x="623520" y="741240"/>
            <a:ext cx="8807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chè, per ipotesi, la probabili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indipendente dai campioni di tr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ato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0" name="Object 4"/>
              <p:cNvSpPr txBox="1"/>
              <p:nvPr/>
            </p:nvSpPr>
            <p:spPr>
              <a:xfrm>
                <a:off x="1911240" y="1117440"/>
                <a:ext cx="5870520" cy="22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θ</m:t>
                            </m:r>
                            <m:r>
                              <m:t xml:space="preserve">|</m:t>
                            </m:r>
                          </m:e>
                        </m:nary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51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Distribuzione dei paramet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2" name="Oval 6"/>
          <p:cNvSpPr/>
          <p:nvPr/>
        </p:nvSpPr>
        <p:spPr>
          <a:xfrm>
            <a:off x="4086360" y="2027160"/>
            <a:ext cx="1812960" cy="735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7"/>
              <p:cNvSpPr txBox="1"/>
              <p:nvPr/>
            </p:nvSpPr>
            <p:spPr>
              <a:xfrm>
                <a:off x="2075040" y="4002120"/>
                <a:ext cx="532260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8353-4E4F-4998-B467-9C79533278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/>
          </p:nvPr>
        </p:nvSpPr>
        <p:spPr>
          <a:xfrm>
            <a:off x="623520" y="1028520"/>
            <a:ext cx="8807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equazione precedente lega esplicitamente la densità condiziona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alla densità a posterior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tramite il vettore sconosciuto di parametri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si concentra fortemente su un valore, otteniamo una stima     del vettore più probabile, quin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questo approcci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permette di tenere conto dell’effetto di tutti gli altri modelli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tti dal valore della funzione integral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per tutti i possibili modell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Distribuzione dei parametri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9" name="Object 7"/>
              <p:cNvSpPr txBox="1"/>
              <p:nvPr/>
            </p:nvSpPr>
            <p:spPr>
              <a:xfrm>
                <a:off x="4264200" y="2778120"/>
                <a:ext cx="44424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0" name="Object 8"/>
              <p:cNvSpPr txBox="1"/>
              <p:nvPr/>
            </p:nvSpPr>
            <p:spPr>
              <a:xfrm>
                <a:off x="2558880" y="5302080"/>
                <a:ext cx="4962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1" name="Object 9"/>
              <p:cNvSpPr txBox="1"/>
              <p:nvPr/>
            </p:nvSpPr>
            <p:spPr>
              <a:xfrm>
                <a:off x="5754600" y="3316320"/>
                <a:ext cx="4446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45E1-0C96-4F62-9D2B-D3B2BA1C76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85800" y="979560"/>
            <a:ext cx="9020160" cy="52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iamo le tecniche di stima Bayesiana per calcolare la densità a posteriori p(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D), e quindi la densità p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D) per il caso in cui                                        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 cui l’unica quantità sconosciuta è la media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o quindi defin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7" name="Object 6"/>
              <p:cNvSpPr txBox="1"/>
              <p:nvPr/>
            </p:nvSpPr>
            <p:spPr>
              <a:xfrm>
                <a:off x="3795840" y="2909880"/>
                <a:ext cx="53481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8" name="Object 8"/>
              <p:cNvSpPr txBox="1"/>
              <p:nvPr/>
            </p:nvSpPr>
            <p:spPr>
              <a:xfrm>
                <a:off x="2576520" y="1125360"/>
                <a:ext cx="49626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9" name="Object 6"/>
              <p:cNvSpPr txBox="1"/>
              <p:nvPr/>
            </p:nvSpPr>
            <p:spPr>
              <a:xfrm>
                <a:off x="4600440" y="4417920"/>
                <a:ext cx="26179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7F7-C9EE-4E41-8F3F-456367458E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la regola di Bayes posso scriv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O P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-609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tic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ppresenta la migliore scelta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0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il parametr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 ne misura l’incert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5" name="Object 8"/>
              <p:cNvSpPr txBox="1"/>
              <p:nvPr/>
            </p:nvSpPr>
            <p:spPr>
              <a:xfrm>
                <a:off x="2484360" y="1784520"/>
                <a:ext cx="417852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μ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6" name="Text Box 13"/>
          <p:cNvSpPr/>
          <p:nvPr/>
        </p:nvSpPr>
        <p:spPr>
          <a:xfrm>
            <a:off x="7196040" y="1838160"/>
            <a:ext cx="19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Densità riprodott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7" name="Object 7"/>
              <p:cNvSpPr txBox="1"/>
              <p:nvPr/>
            </p:nvSpPr>
            <p:spPr>
              <a:xfrm>
                <a:off x="3341520" y="4192560"/>
                <a:ext cx="2479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8" name="Text Box 10"/>
          <p:cNvSpPr/>
          <p:nvPr/>
        </p:nvSpPr>
        <p:spPr>
          <a:xfrm>
            <a:off x="6586560" y="4203720"/>
            <a:ext cx="30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Prior coniugat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71BE-B6F2-4F6C-B2F4-B8E4067A3ABF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955440" y="981000"/>
            <a:ext cx="8289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la scelta del prior è arbitraria, 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 essere fatta (il prior deve essere noto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solito si sceglie un prior coniugato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prior che assicura che la forma della posteri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D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a trattabile, cioè abbia la stessa forma della condizion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Questo semplifica di molto l’analis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Esempio: gaussiana per gaussiana, dirichlet per multinomial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8797-376A-4C41-8483-7169A4FBE7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niamo di av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 di training           D=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..., 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e riscriviamo la densit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iprodotta 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è un fattore di normalizzazione dipendente da 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7" name="Object 8"/>
              <p:cNvSpPr txBox="1"/>
              <p:nvPr/>
            </p:nvSpPr>
            <p:spPr>
              <a:xfrm>
                <a:off x="2789280" y="2216160"/>
                <a:ext cx="417816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μ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8" name="Object 9"/>
              <p:cNvSpPr txBox="1"/>
              <p:nvPr/>
            </p:nvSpPr>
            <p:spPr>
              <a:xfrm>
                <a:off x="4033800" y="3276720"/>
                <a:ext cx="3048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α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A746-4495-4118-928B-C8B6F3E154A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685440" y="1239840"/>
            <a:ext cx="88074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’equazione mostra come l’osservazione del set di esempi di training influenzi la nostra idea sul vero valore d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ssa relaziona la densità a priori p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con la densità a posteriori p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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|D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O PASS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Svolgendo i calcoli, ci si accorge che, grazie al prior normal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|D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ulta anch’essa normale, modificandosi in dipendenza del numero di campioni che formano il training set, evolvendosi in impulso di Dirac p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enomeno d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arning Bayesia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lmente si giunge alle seguenti form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BD12-6A8C-433A-8B18-6E9C793E2D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742680" y="1981080"/>
            <a:ext cx="8420040" cy="4114800"/>
          </a:xfrm>
          <a:prstGeom prst="rect">
            <a:avLst/>
          </a:prstGeom>
          <a:ln w="0">
            <a:noFill/>
          </a:ln>
        </p:spPr>
      </p:pic>
      <p:pic>
        <p:nvPicPr>
          <p:cNvPr id="1399" name="Picture 4" descr=""/>
          <p:cNvPicPr/>
          <p:nvPr/>
        </p:nvPicPr>
        <p:blipFill>
          <a:blip r:embed="rId2"/>
          <a:stretch/>
        </p:blipFill>
        <p:spPr>
          <a:xfrm>
            <a:off x="547560" y="1440000"/>
            <a:ext cx="859176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E958-22A9-4B43-B13F-7DDBA650BD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/>
          </p:nvPr>
        </p:nvSpPr>
        <p:spPr>
          <a:xfrm>
            <a:off x="453960" y="885960"/>
            <a:ext cx="891216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nto che la conoscenza, benché approssimativa, delle densità a priori non presenta problemi, per quanto riguarda le densità condizionali le problematiche si possono suddividere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tim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l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funzione sconosciu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Stima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parametri sconosciut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lla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funzione conosciut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 es., stimare il vettore                          se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4"/>
              <p:cNvSpPr txBox="1"/>
              <p:nvPr/>
            </p:nvSpPr>
            <p:spPr>
              <a:xfrm>
                <a:off x="6950160" y="3441600"/>
                <a:ext cx="1608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9" name="Object 5"/>
              <p:cNvSpPr txBox="1"/>
              <p:nvPr/>
            </p:nvSpPr>
            <p:spPr>
              <a:xfrm>
                <a:off x="3451320" y="4503600"/>
                <a:ext cx="16333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0" name="Object 6"/>
              <p:cNvSpPr txBox="1"/>
              <p:nvPr/>
            </p:nvSpPr>
            <p:spPr>
              <a:xfrm>
                <a:off x="1496880" y="5613480"/>
                <a:ext cx="34038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8"/>
              <p:cNvSpPr txBox="1"/>
              <p:nvPr/>
            </p:nvSpPr>
            <p:spPr>
              <a:xfrm>
                <a:off x="5151600" y="5141880"/>
                <a:ext cx="2119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216-2E10-4445-9EE8-4B74752B1A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PlaceHolder 1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rappresenta la nostra migliore scelta per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po aver osserva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pio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isura l’incertezza della nostra scel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4" name="Object 7"/>
              <p:cNvSpPr txBox="1"/>
              <p:nvPr/>
            </p:nvSpPr>
            <p:spPr>
              <a:xfrm>
                <a:off x="896760" y="1038240"/>
                <a:ext cx="7728120" cy="36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|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dμ</m:t>
                                </m:r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</m:e>
                            </m:rad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sub>
                                </m:sSub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ve 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n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0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5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3069-C346-4194-8BBF-1543285E74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Picture 5" descr="3"/>
          <p:cNvPicPr/>
          <p:nvPr/>
        </p:nvPicPr>
        <p:blipFill>
          <a:blip r:embed="rId1"/>
          <a:stretch/>
        </p:blipFill>
        <p:spPr>
          <a:xfrm>
            <a:off x="5187960" y="1192320"/>
            <a:ext cx="4718160" cy="4921200"/>
          </a:xfrm>
          <a:prstGeom prst="rect">
            <a:avLst/>
          </a:prstGeom>
          <a:ln w="0">
            <a:noFill/>
          </a:ln>
        </p:spPr>
      </p:pic>
      <p:pic>
        <p:nvPicPr>
          <p:cNvPr id="1410" name="Picture 7" descr=""/>
          <p:cNvPicPr/>
          <p:nvPr/>
        </p:nvPicPr>
        <p:blipFill>
          <a:blip r:embed="rId2"/>
          <a:stretch/>
        </p:blipFill>
        <p:spPr>
          <a:xfrm>
            <a:off x="237960" y="1871640"/>
            <a:ext cx="5240520" cy="4016520"/>
          </a:xfrm>
          <a:prstGeom prst="rect">
            <a:avLst/>
          </a:prstGeom>
          <a:ln w="0">
            <a:noFill/>
          </a:ln>
        </p:spPr>
      </p:pic>
      <p:sp>
        <p:nvSpPr>
          <p:cNvPr id="1411" name="PlaceHolder 1"/>
          <p:cNvSpPr>
            <a:spLocks noGrp="1"/>
          </p:cNvSpPr>
          <p:nvPr>
            <p:ph/>
          </p:nvPr>
        </p:nvSpPr>
        <p:spPr>
          <a:xfrm>
            <a:off x="685440" y="979200"/>
            <a:ext cx="8807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444F-B1D4-41B7-88CE-91E7D0AFB1FF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</a:rPr>
              <a:t>Esempio: caso Gaussiano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ERZO PASS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stima della densità condizional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x|D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16" name="Picture 16" descr="B_ESTIMATION1"/>
          <p:cNvPicPr/>
          <p:nvPr/>
        </p:nvPicPr>
        <p:blipFill>
          <a:blip r:embed="rId1"/>
          <a:stretch/>
        </p:blipFill>
        <p:spPr>
          <a:xfrm>
            <a:off x="-351000" y="2781360"/>
            <a:ext cx="10736280" cy="3614760"/>
          </a:xfrm>
          <a:prstGeom prst="rect">
            <a:avLst/>
          </a:prstGeom>
          <a:ln w="0">
            <a:noFill/>
          </a:ln>
        </p:spPr>
      </p:pic>
      <p:sp>
        <p:nvSpPr>
          <p:cNvPr id="1417" name="Oval 20"/>
          <p:cNvSpPr/>
          <p:nvPr/>
        </p:nvSpPr>
        <p:spPr>
          <a:xfrm>
            <a:off x="1098720" y="4140360"/>
            <a:ext cx="4098600" cy="736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21"/>
          <p:cNvSpPr/>
          <p:nvPr/>
        </p:nvSpPr>
        <p:spPr>
          <a:xfrm>
            <a:off x="5380200" y="4179960"/>
            <a:ext cx="4097160" cy="736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04798-3241-4820-809E-1CD195CB1E4E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Esempio: caso Gaussian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22" name="Picture 4" descr="B_ESTIMATION2"/>
          <p:cNvPicPr/>
          <p:nvPr/>
        </p:nvPicPr>
        <p:blipFill>
          <a:blip r:embed="rId1"/>
          <a:srcRect l="12659" t="0" r="0" b="0"/>
          <a:stretch/>
        </p:blipFill>
        <p:spPr>
          <a:xfrm>
            <a:off x="0" y="1628640"/>
            <a:ext cx="9909000" cy="16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C655-F1ED-49E6-94F4-245B96396449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Esempio: caso Gaussian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cludendo, la densità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(x|D)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=                    ) ottenuta è la densità condizionale desidera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he assieme ai prior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(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66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duce le informazioni desiderate per il design del classificatore, al contrario dell’approccio ML che restituisce solo le stime puntual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6" name="Object 2"/>
              <p:cNvSpPr txBox="1"/>
              <p:nvPr/>
            </p:nvSpPr>
            <p:spPr>
              <a:xfrm>
                <a:off x="1442880" y="2482920"/>
                <a:ext cx="578340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7" name="Oval 8"/>
          <p:cNvSpPr/>
          <p:nvPr/>
        </p:nvSpPr>
        <p:spPr>
          <a:xfrm>
            <a:off x="3776760" y="2371680"/>
            <a:ext cx="2252520" cy="736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AutoShape 9"/>
          <p:cNvSpPr/>
          <p:nvPr/>
        </p:nvSpPr>
        <p:spPr>
          <a:xfrm rot="8626200">
            <a:off x="5555880" y="1552680"/>
            <a:ext cx="897120" cy="1038240"/>
          </a:xfrm>
          <a:prstGeom prst="rightArrow">
            <a:avLst>
              <a:gd name="adj1" fmla="val 50000"/>
              <a:gd name="adj2" fmla="val 42565"/>
            </a:avLst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9" name="Object 3"/>
              <p:cNvSpPr txBox="1"/>
              <p:nvPr/>
            </p:nvSpPr>
            <p:spPr>
              <a:xfrm>
                <a:off x="3344760" y="4861080"/>
                <a:ext cx="123660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0" name="Object 4"/>
              <p:cNvSpPr txBox="1"/>
              <p:nvPr/>
            </p:nvSpPr>
            <p:spPr>
              <a:xfrm>
                <a:off x="4749840" y="1042920"/>
                <a:ext cx="15285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FEF8-2A01-4058-B764-DB3EE74D4D8A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Stima di Bayes: in generale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iassumendo ed estendendole al caso generale,  le formule principali viste son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 noti la somiglianza con l’approccio ML, con la differenza che qui non si cerca il max puntua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4" name="Object 2"/>
              <p:cNvSpPr txBox="1"/>
              <p:nvPr/>
            </p:nvSpPr>
            <p:spPr>
              <a:xfrm>
                <a:off x="2533680" y="4565520"/>
                <a:ext cx="42638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5" name="Object 3"/>
              <p:cNvSpPr txBox="1"/>
              <p:nvPr/>
            </p:nvSpPr>
            <p:spPr>
              <a:xfrm>
                <a:off x="1604880" y="2187720"/>
                <a:ext cx="57657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d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Object 4"/>
              <p:cNvSpPr txBox="1"/>
              <p:nvPr/>
            </p:nvSpPr>
            <p:spPr>
              <a:xfrm>
                <a:off x="104760" y="3314880"/>
                <a:ext cx="4529160" cy="12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  <m:r>
                              <m:t xml:space="preserve">dμ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7" name="Object 5"/>
              <p:cNvSpPr txBox="1"/>
              <p:nvPr/>
            </p:nvSpPr>
            <p:spPr>
              <a:xfrm>
                <a:off x="4649760" y="3341520"/>
                <a:ext cx="4591080" cy="12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|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  <m:r>
                              <m:t xml:space="preserve">dθ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8" name="Oval 9"/>
          <p:cNvSpPr/>
          <p:nvPr/>
        </p:nvSpPr>
        <p:spPr>
          <a:xfrm>
            <a:off x="5316480" y="2233440"/>
            <a:ext cx="15192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Oval 10"/>
          <p:cNvSpPr/>
          <p:nvPr/>
        </p:nvSpPr>
        <p:spPr>
          <a:xfrm>
            <a:off x="7800840" y="3510000"/>
            <a:ext cx="15210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Oval 11"/>
          <p:cNvSpPr/>
          <p:nvPr/>
        </p:nvSpPr>
        <p:spPr>
          <a:xfrm>
            <a:off x="2478240" y="4822920"/>
            <a:ext cx="1704960" cy="73656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Oval 12"/>
          <p:cNvSpPr/>
          <p:nvPr/>
        </p:nvSpPr>
        <p:spPr>
          <a:xfrm>
            <a:off x="5330880" y="3238560"/>
            <a:ext cx="1230120" cy="735120"/>
          </a:xfrm>
          <a:prstGeom prst="ellipse">
            <a:avLst/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ight Arrow 14"/>
          <p:cNvSpPr/>
          <p:nvPr/>
        </p:nvSpPr>
        <p:spPr>
          <a:xfrm rot="1561200">
            <a:off x="7104240" y="2920680"/>
            <a:ext cx="777600" cy="525600"/>
          </a:xfrm>
          <a:prstGeom prst="rightArrow">
            <a:avLst>
              <a:gd name="adj1" fmla="val 50000"/>
              <a:gd name="adj2" fmla="val 4984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ight Arrow 15"/>
          <p:cNvSpPr/>
          <p:nvPr/>
        </p:nvSpPr>
        <p:spPr>
          <a:xfrm rot="8329200">
            <a:off x="4291920" y="4198680"/>
            <a:ext cx="779400" cy="52524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5C66-D7BE-48BA-923D-2881D78C6D41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onclusioni: Bayes vs ML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L restituisce una stima puntuale    , l’approccio Bayesiano una distribuzione su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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ù ricca, tiene conto di tutti i possibili modelli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yes più accurato (in linea di principio), ML più fattibile in pratic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oltre: ML, per un dataset abbastanza grande, produce risultati bu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stime risultano equivalenti per training set di cardinalità infinita (Al limite, p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|D) converge ad una funzione delt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7" name="Object 2"/>
              <p:cNvSpPr txBox="1"/>
              <p:nvPr/>
            </p:nvSpPr>
            <p:spPr>
              <a:xfrm>
                <a:off x="5172120" y="938160"/>
                <a:ext cx="4474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67CF-E733-4AC6-BF2A-2EA15005DBA9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Conclusioni: Bayes vs ML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ayes occorre stimare i prio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aticamente, gli approcci sono differenti per vari motiv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990720" indent="-358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ssità computazionale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990720" indent="-358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pretabilità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990720" indent="-3589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fidabilità delle informazioni a priori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1" name="Object 2"/>
              <p:cNvSpPr txBox="1"/>
              <p:nvPr/>
            </p:nvSpPr>
            <p:spPr>
              <a:xfrm>
                <a:off x="4892760" y="973080"/>
                <a:ext cx="44748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D4E8-0D42-41E8-87DC-A061B3D164FD}" type="slidenum">
              <a:rPr b="1" lang="en-GB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247320" y="152280"/>
            <a:ext cx="842004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Mapping slide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it-IT" sz="4000" spc="-1" strike="noStrike">
                <a:solidFill>
                  <a:srgbClr val="000066"/>
                </a:solidFill>
                <a:latin typeface="Tahoma"/>
              </a:rPr>
              <a:t>libro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93320" y="981000"/>
            <a:ext cx="9441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ap.3 Duda until 3.4.2, 3.5.1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0000"/>
                </a:solidFill>
                <a:latin typeface="Tahoma"/>
              </a:rPr>
              <a:t>Expectation-Maximization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6" name="Object 2"/>
              <p:cNvSpPr txBox="1"/>
              <p:nvPr/>
            </p:nvSpPr>
            <p:spPr>
              <a:xfrm>
                <a:off x="2301840" y="5013360"/>
                <a:ext cx="49910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57" name="Picture 6" descr="Punti_Iniziale"/>
          <p:cNvPicPr/>
          <p:nvPr/>
        </p:nvPicPr>
        <p:blipFill>
          <a:blip r:embed="rId1"/>
          <a:stretch/>
        </p:blipFill>
        <p:spPr>
          <a:xfrm>
            <a:off x="2457360" y="1341360"/>
            <a:ext cx="4843440" cy="3353040"/>
          </a:xfrm>
          <a:prstGeom prst="rect">
            <a:avLst/>
          </a:prstGeom>
          <a:ln w="0">
            <a:noFill/>
          </a:ln>
        </p:spPr>
      </p:pic>
      <p:sp>
        <p:nvSpPr>
          <p:cNvPr id="1458" name="Oval 7"/>
          <p:cNvSpPr/>
          <p:nvPr/>
        </p:nvSpPr>
        <p:spPr>
          <a:xfrm rot="1762800">
            <a:off x="3079440" y="257004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8"/>
          <p:cNvSpPr/>
          <p:nvPr/>
        </p:nvSpPr>
        <p:spPr>
          <a:xfrm rot="21014400">
            <a:off x="4093920" y="314640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9"/>
          <p:cNvSpPr/>
          <p:nvPr/>
        </p:nvSpPr>
        <p:spPr>
          <a:xfrm rot="19652400">
            <a:off x="4798800" y="2209680"/>
            <a:ext cx="18698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10"/>
          <p:cNvSpPr/>
          <p:nvPr/>
        </p:nvSpPr>
        <p:spPr>
          <a:xfrm>
            <a:off x="3079800" y="1849320"/>
            <a:ext cx="140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11"/>
          <p:cNvSpPr/>
          <p:nvPr/>
        </p:nvSpPr>
        <p:spPr>
          <a:xfrm>
            <a:off x="5264280" y="3894120"/>
            <a:ext cx="140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12"/>
          <p:cNvSpPr/>
          <p:nvPr/>
        </p:nvSpPr>
        <p:spPr>
          <a:xfrm>
            <a:off x="4484520" y="170172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13"/>
          <p:cNvSpPr/>
          <p:nvPr/>
        </p:nvSpPr>
        <p:spPr>
          <a:xfrm>
            <a:off x="4154400" y="3011400"/>
            <a:ext cx="7956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Oval 14"/>
          <p:cNvSpPr/>
          <p:nvPr/>
        </p:nvSpPr>
        <p:spPr>
          <a:xfrm>
            <a:off x="5038560" y="3646440"/>
            <a:ext cx="79560" cy="716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15"/>
          <p:cNvSpPr/>
          <p:nvPr/>
        </p:nvSpPr>
        <p:spPr>
          <a:xfrm>
            <a:off x="5740560" y="2709720"/>
            <a:ext cx="79200" cy="71640"/>
          </a:xfrm>
          <a:prstGeom prst="ellipse">
            <a:avLst/>
          </a:prstGeom>
          <a:solidFill>
            <a:srgbClr val="160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402-7D80-4A01-A8DC-A2020769CC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tima dei paramet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440" y="1166400"/>
            <a:ext cx="842004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l secondo punto risulta di gran lunga più semplice (sebbene complesso!), e rappresenta un problema classico nella statis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sferito nell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ttern recogn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un approccio è quello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are i parametri dai dati di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e le stime risultanti come se fossero valori ver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ilizzare infine la teoria di decisione Bayesiana per usare un classific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aximum Likelihood Estimation (MLE) probl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8348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set of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observ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v={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t=1...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, i.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set comes from a parametric random pro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ch random process has a known form (f.i. a mixture of Gaussia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(i.i.d. data, usua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t of parameters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aximize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keliho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(v|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 a.k.a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ive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(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problem and EM solution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8348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, the MLE is performed by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ifferentiating the likeliho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with respect to the various parameters, and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lving for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, this solution is not feasible due to the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plex form of the 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he situation in which the EM algorithm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el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1" name="Object 2"/>
              <p:cNvSpPr txBox="1"/>
              <p:nvPr/>
            </p:nvSpPr>
            <p:spPr>
              <a:xfrm>
                <a:off x="2709720" y="2997360"/>
                <a:ext cx="42516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θ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EM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83487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iteration is composed by 2 ste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step: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xpec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step: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axim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gent to a local maxima of the likelihood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spread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conometr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07960" y="259920"/>
            <a:ext cx="9398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EM placement in the maximization methods literatur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894960" y="1483920"/>
            <a:ext cx="49165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Gradient desc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inear approximation to the L(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know how good is the approxi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know how big the step to 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Newton metho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quadratic appro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e problem as abo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each E step it builds a local lower bound of the objectiv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each M step, a novel h</a:t>
            </a:r>
            <a:r>
              <a:rPr b="0" lang="el-GR" sz="20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correspond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gger value of the objective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6" name="Picture 6" descr=""/>
          <p:cNvPicPr/>
          <p:nvPr/>
        </p:nvPicPr>
        <p:blipFill>
          <a:blip r:embed="rId1"/>
          <a:stretch/>
        </p:blipFill>
        <p:spPr>
          <a:xfrm>
            <a:off x="5797440" y="2133720"/>
            <a:ext cx="4023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example - Mixture of Gaussians (MoG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8" name="Object 2"/>
              <p:cNvSpPr txBox="1"/>
              <p:nvPr/>
            </p:nvSpPr>
            <p:spPr>
              <a:xfrm>
                <a:off x="507960" y="1442880"/>
                <a:ext cx="32655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79" name="Picture 4" descr="Punti_Iniziale"/>
          <p:cNvPicPr/>
          <p:nvPr/>
        </p:nvPicPr>
        <p:blipFill>
          <a:blip r:embed="rId1"/>
          <a:stretch/>
        </p:blipFill>
        <p:spPr>
          <a:xfrm>
            <a:off x="4946760" y="1268280"/>
            <a:ext cx="4841640" cy="3353040"/>
          </a:xfrm>
          <a:prstGeom prst="rect">
            <a:avLst/>
          </a:prstGeom>
          <a:ln w="0">
            <a:noFill/>
          </a:ln>
        </p:spPr>
      </p:pic>
      <p:sp>
        <p:nvSpPr>
          <p:cNvPr id="1480" name="Oval 5"/>
          <p:cNvSpPr/>
          <p:nvPr/>
        </p:nvSpPr>
        <p:spPr>
          <a:xfrm rot="1762800">
            <a:off x="5568480" y="249696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6"/>
          <p:cNvSpPr/>
          <p:nvPr/>
        </p:nvSpPr>
        <p:spPr>
          <a:xfrm rot="21014400">
            <a:off x="6582960" y="307332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7"/>
          <p:cNvSpPr/>
          <p:nvPr/>
        </p:nvSpPr>
        <p:spPr>
          <a:xfrm rot="19652400">
            <a:off x="7286760" y="2136600"/>
            <a:ext cx="18716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 Box 8"/>
          <p:cNvSpPr/>
          <p:nvPr/>
        </p:nvSpPr>
        <p:spPr>
          <a:xfrm>
            <a:off x="5568840" y="17762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Text Box 9"/>
          <p:cNvSpPr/>
          <p:nvPr/>
        </p:nvSpPr>
        <p:spPr>
          <a:xfrm>
            <a:off x="7753320" y="38210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Text Box 10"/>
          <p:cNvSpPr/>
          <p:nvPr/>
        </p:nvSpPr>
        <p:spPr>
          <a:xfrm>
            <a:off x="6973920" y="16286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11"/>
          <p:cNvSpPr/>
          <p:nvPr/>
        </p:nvSpPr>
        <p:spPr>
          <a:xfrm>
            <a:off x="6643800" y="2938320"/>
            <a:ext cx="7920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7" name="Object 3"/>
              <p:cNvSpPr txBox="1"/>
              <p:nvPr/>
            </p:nvSpPr>
            <p:spPr>
              <a:xfrm>
                <a:off x="554040" y="2755800"/>
                <a:ext cx="2992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8" name="Object 4"/>
              <p:cNvSpPr txBox="1"/>
              <p:nvPr/>
            </p:nvSpPr>
            <p:spPr>
              <a:xfrm>
                <a:off x="601560" y="4106880"/>
                <a:ext cx="378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9" name="Object 5"/>
              <p:cNvSpPr txBox="1"/>
              <p:nvPr/>
            </p:nvSpPr>
            <p:spPr>
              <a:xfrm>
                <a:off x="571680" y="5326200"/>
                <a:ext cx="26622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0" name="Object 6"/>
              <p:cNvSpPr txBox="1"/>
              <p:nvPr/>
            </p:nvSpPr>
            <p:spPr>
              <a:xfrm>
                <a:off x="3192480" y="5340240"/>
                <a:ext cx="1768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1" name="Oval 16"/>
          <p:cNvSpPr/>
          <p:nvPr/>
        </p:nvSpPr>
        <p:spPr>
          <a:xfrm>
            <a:off x="268200" y="1790640"/>
            <a:ext cx="1573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Oval 17"/>
          <p:cNvSpPr/>
          <p:nvPr/>
        </p:nvSpPr>
        <p:spPr>
          <a:xfrm>
            <a:off x="264960" y="3117960"/>
            <a:ext cx="15588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Oval 18"/>
          <p:cNvSpPr/>
          <p:nvPr/>
        </p:nvSpPr>
        <p:spPr>
          <a:xfrm>
            <a:off x="262080" y="446076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Oval 19"/>
          <p:cNvSpPr/>
          <p:nvPr/>
        </p:nvSpPr>
        <p:spPr>
          <a:xfrm>
            <a:off x="258840" y="570852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Oval 20"/>
          <p:cNvSpPr/>
          <p:nvPr/>
        </p:nvSpPr>
        <p:spPr>
          <a:xfrm>
            <a:off x="7527960" y="3573360"/>
            <a:ext cx="79200" cy="7164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Oval 21"/>
          <p:cNvSpPr/>
          <p:nvPr/>
        </p:nvSpPr>
        <p:spPr>
          <a:xfrm>
            <a:off x="8229600" y="2637000"/>
            <a:ext cx="79200" cy="71280"/>
          </a:xfrm>
          <a:prstGeom prst="ellipse">
            <a:avLst/>
          </a:prstGeom>
          <a:solidFill>
            <a:srgbClr val="1608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example - MoGs (2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8" name="Object 2"/>
              <p:cNvSpPr txBox="1"/>
              <p:nvPr/>
            </p:nvSpPr>
            <p:spPr>
              <a:xfrm>
                <a:off x="507960" y="1442880"/>
                <a:ext cx="326556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99" name="Picture 4" descr="Punti_Iniziale"/>
          <p:cNvPicPr/>
          <p:nvPr/>
        </p:nvPicPr>
        <p:blipFill>
          <a:blip r:embed="rId1"/>
          <a:stretch/>
        </p:blipFill>
        <p:spPr>
          <a:xfrm>
            <a:off x="4946760" y="1268280"/>
            <a:ext cx="4841640" cy="3353040"/>
          </a:xfrm>
          <a:prstGeom prst="rect">
            <a:avLst/>
          </a:prstGeom>
          <a:ln w="0">
            <a:noFill/>
          </a:ln>
        </p:spPr>
      </p:pic>
      <p:sp>
        <p:nvSpPr>
          <p:cNvPr id="1500" name="Oval 5"/>
          <p:cNvSpPr/>
          <p:nvPr/>
        </p:nvSpPr>
        <p:spPr>
          <a:xfrm rot="1762800">
            <a:off x="5568480" y="249696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6"/>
          <p:cNvSpPr/>
          <p:nvPr/>
        </p:nvSpPr>
        <p:spPr>
          <a:xfrm rot="21014400">
            <a:off x="6582960" y="307332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Oval 7"/>
          <p:cNvSpPr/>
          <p:nvPr/>
        </p:nvSpPr>
        <p:spPr>
          <a:xfrm rot="19652400">
            <a:off x="7286760" y="2136600"/>
            <a:ext cx="18716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Text Box 8"/>
          <p:cNvSpPr/>
          <p:nvPr/>
        </p:nvSpPr>
        <p:spPr>
          <a:xfrm>
            <a:off x="5568840" y="17762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9"/>
          <p:cNvSpPr/>
          <p:nvPr/>
        </p:nvSpPr>
        <p:spPr>
          <a:xfrm>
            <a:off x="7753320" y="38210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10"/>
          <p:cNvSpPr/>
          <p:nvPr/>
        </p:nvSpPr>
        <p:spPr>
          <a:xfrm>
            <a:off x="6973920" y="16286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Oval 11"/>
          <p:cNvSpPr/>
          <p:nvPr/>
        </p:nvSpPr>
        <p:spPr>
          <a:xfrm>
            <a:off x="6643800" y="2938320"/>
            <a:ext cx="7920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7" name="Object 3"/>
              <p:cNvSpPr txBox="1"/>
              <p:nvPr/>
            </p:nvSpPr>
            <p:spPr>
              <a:xfrm>
                <a:off x="554040" y="2755800"/>
                <a:ext cx="29923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8" name="Object 4"/>
              <p:cNvSpPr txBox="1"/>
              <p:nvPr/>
            </p:nvSpPr>
            <p:spPr>
              <a:xfrm>
                <a:off x="601560" y="4106880"/>
                <a:ext cx="378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9" name="Object 5"/>
              <p:cNvSpPr txBox="1"/>
              <p:nvPr/>
            </p:nvSpPr>
            <p:spPr>
              <a:xfrm>
                <a:off x="571680" y="5326200"/>
                <a:ext cx="2662200" cy="83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0" name="Object 6"/>
              <p:cNvSpPr txBox="1"/>
              <p:nvPr/>
            </p:nvSpPr>
            <p:spPr>
              <a:xfrm>
                <a:off x="3192480" y="5340240"/>
                <a:ext cx="1768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1" name="Oval 16"/>
          <p:cNvSpPr/>
          <p:nvPr/>
        </p:nvSpPr>
        <p:spPr>
          <a:xfrm>
            <a:off x="268200" y="1790640"/>
            <a:ext cx="1573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Oval 17"/>
          <p:cNvSpPr/>
          <p:nvPr/>
        </p:nvSpPr>
        <p:spPr>
          <a:xfrm>
            <a:off x="264960" y="3117960"/>
            <a:ext cx="15588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Oval 18"/>
          <p:cNvSpPr/>
          <p:nvPr/>
        </p:nvSpPr>
        <p:spPr>
          <a:xfrm>
            <a:off x="262080" y="446076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Oval 19"/>
          <p:cNvSpPr/>
          <p:nvPr/>
        </p:nvSpPr>
        <p:spPr>
          <a:xfrm>
            <a:off x="258840" y="5708520"/>
            <a:ext cx="155520" cy="144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0.00185 L -3.88889E-006 -0.60023 E">
                                      <p:cBhvr>
                                        <p:cTn id="173" dur="500" fill="hold"/>
                                        <p:tgtEl>
                                          <p:spTgt spid="1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9838 E">
                                      <p:cBhvr>
                                        <p:cTn id="175" dur="500" fill="hold"/>
                                        <p:tgtEl>
                                          <p:spTgt spid="1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59838 E">
                                      <p:cBhvr>
                                        <p:cTn id="177" dur="500" fill="hold"/>
                                        <p:tgtEl>
                                          <p:spTgt spid="1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Introduction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LE example - MoGs (3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pic>
        <p:nvPicPr>
          <p:cNvPr id="1516" name="Picture 4" descr="Punti_Iniziale"/>
          <p:cNvPicPr/>
          <p:nvPr/>
        </p:nvPicPr>
        <p:blipFill>
          <a:blip r:embed="rId1"/>
          <a:stretch/>
        </p:blipFill>
        <p:spPr>
          <a:xfrm>
            <a:off x="4946760" y="1268280"/>
            <a:ext cx="4841640" cy="3353040"/>
          </a:xfrm>
          <a:prstGeom prst="rect">
            <a:avLst/>
          </a:prstGeom>
          <a:ln w="0">
            <a:noFill/>
          </a:ln>
        </p:spPr>
      </p:pic>
      <p:sp>
        <p:nvSpPr>
          <p:cNvPr id="1517" name="Oval 5"/>
          <p:cNvSpPr/>
          <p:nvPr/>
        </p:nvSpPr>
        <p:spPr>
          <a:xfrm rot="1762800">
            <a:off x="5568480" y="2496960"/>
            <a:ext cx="1871640" cy="1008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Oval 6"/>
          <p:cNvSpPr/>
          <p:nvPr/>
        </p:nvSpPr>
        <p:spPr>
          <a:xfrm rot="21014400">
            <a:off x="6582960" y="3073320"/>
            <a:ext cx="1871640" cy="100800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Oval 7"/>
          <p:cNvSpPr/>
          <p:nvPr/>
        </p:nvSpPr>
        <p:spPr>
          <a:xfrm rot="19652400">
            <a:off x="7286760" y="2136600"/>
            <a:ext cx="1871640" cy="100836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8"/>
          <p:cNvSpPr/>
          <p:nvPr/>
        </p:nvSpPr>
        <p:spPr>
          <a:xfrm>
            <a:off x="5568840" y="17762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9"/>
          <p:cNvSpPr/>
          <p:nvPr/>
        </p:nvSpPr>
        <p:spPr>
          <a:xfrm>
            <a:off x="7753320" y="38210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32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10"/>
          <p:cNvSpPr/>
          <p:nvPr/>
        </p:nvSpPr>
        <p:spPr>
          <a:xfrm>
            <a:off x="6973920" y="1628640"/>
            <a:ext cx="1405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32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32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Oval 11"/>
          <p:cNvSpPr/>
          <p:nvPr/>
        </p:nvSpPr>
        <p:spPr>
          <a:xfrm>
            <a:off x="6643800" y="2938320"/>
            <a:ext cx="7920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4" name="Object 2"/>
              <p:cNvSpPr txBox="1"/>
              <p:nvPr/>
            </p:nvSpPr>
            <p:spPr>
              <a:xfrm>
                <a:off x="554040" y="1204920"/>
                <a:ext cx="26622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5" name="Object 3"/>
              <p:cNvSpPr txBox="1"/>
              <p:nvPr/>
            </p:nvSpPr>
            <p:spPr>
              <a:xfrm>
                <a:off x="3192480" y="1235160"/>
                <a:ext cx="1768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6" name="Oval 19"/>
          <p:cNvSpPr/>
          <p:nvPr/>
        </p:nvSpPr>
        <p:spPr>
          <a:xfrm>
            <a:off x="271440" y="1603440"/>
            <a:ext cx="15732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124920" y="2349000"/>
            <a:ext cx="85028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8" name="Object 4"/>
              <p:cNvSpPr txBox="1"/>
              <p:nvPr/>
            </p:nvSpPr>
            <p:spPr>
              <a:xfrm>
                <a:off x="2470320" y="3141720"/>
                <a:ext cx="1576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9" name="Object 5"/>
              <p:cNvSpPr txBox="1"/>
              <p:nvPr/>
            </p:nvSpPr>
            <p:spPr>
              <a:xfrm>
                <a:off x="1754280" y="2765520"/>
                <a:ext cx="387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0" name="Object 6"/>
              <p:cNvSpPr txBox="1"/>
              <p:nvPr/>
            </p:nvSpPr>
            <p:spPr>
              <a:xfrm>
                <a:off x="2171880" y="4076640"/>
                <a:ext cx="22730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1" name="Oval 24"/>
          <p:cNvSpPr/>
          <p:nvPr/>
        </p:nvSpPr>
        <p:spPr>
          <a:xfrm>
            <a:off x="2708280" y="1141560"/>
            <a:ext cx="2209680" cy="934920"/>
          </a:xfrm>
          <a:prstGeom prst="ellipse">
            <a:avLst/>
          </a:prstGeom>
          <a:solidFill>
            <a:srgbClr val="33cccc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Line 25"/>
          <p:cNvSpPr/>
          <p:nvPr/>
        </p:nvSpPr>
        <p:spPr>
          <a:xfrm>
            <a:off x="3159000" y="3645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Line 26"/>
          <p:cNvSpPr/>
          <p:nvPr/>
        </p:nvSpPr>
        <p:spPr>
          <a:xfrm>
            <a:off x="3159000" y="494172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27"/>
          <p:cNvSpPr/>
          <p:nvPr/>
        </p:nvSpPr>
        <p:spPr>
          <a:xfrm>
            <a:off x="2184480" y="53737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TI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Freeform 34"/>
          <p:cNvSpPr/>
          <p:nvPr/>
        </p:nvSpPr>
        <p:spPr>
          <a:xfrm>
            <a:off x="3782880" y="2060640"/>
            <a:ext cx="1001880" cy="3384360"/>
          </a:xfrm>
          <a:custGeom>
            <a:avLst/>
            <a:gdLst>
              <a:gd name="textAreaLeft" fmla="*/ 0 w 1001880"/>
              <a:gd name="textAreaRight" fmla="*/ 1002240 w 100188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582" h="2495">
                <a:moveTo>
                  <a:pt x="0" y="0"/>
                </a:moveTo>
                <a:cubicBezTo>
                  <a:pt x="181" y="333"/>
                  <a:pt x="362" y="666"/>
                  <a:pt x="453" y="953"/>
                </a:cubicBezTo>
                <a:cubicBezTo>
                  <a:pt x="544" y="1240"/>
                  <a:pt x="582" y="1467"/>
                  <a:pt x="544" y="1724"/>
                </a:cubicBezTo>
                <a:cubicBezTo>
                  <a:pt x="506" y="1981"/>
                  <a:pt x="366" y="2238"/>
                  <a:pt x="226" y="249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Rectangle 36"/>
          <p:cNvSpPr/>
          <p:nvPr/>
        </p:nvSpPr>
        <p:spPr>
          <a:xfrm>
            <a:off x="2195640" y="5829480"/>
            <a:ext cx="52275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he parameters are coupled, due to th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um of the log: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</a:rPr>
              <a:t>no closed form solu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EM in one slide! - The EM trick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8" name="Object 2"/>
              <p:cNvSpPr txBox="1"/>
              <p:nvPr/>
            </p:nvSpPr>
            <p:spPr>
              <a:xfrm>
                <a:off x="1285920" y="1508040"/>
                <a:ext cx="6553080" cy="42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P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v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Q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h</m:t>
                                    </m:r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,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39" name="Oval 9"/>
          <p:cNvSpPr/>
          <p:nvPr/>
        </p:nvSpPr>
        <p:spPr>
          <a:xfrm>
            <a:off x="1209600" y="4941720"/>
            <a:ext cx="482760" cy="412920"/>
          </a:xfrm>
          <a:prstGeom prst="ellipse">
            <a:avLst/>
          </a:prstGeom>
          <a:solidFill>
            <a:srgbClr val="00ff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0" name="AutoShape 10"/>
          <p:cNvCxnSpPr>
            <a:stCxn id="1539" idx="4"/>
            <a:endCxn id="1541" idx="0"/>
          </p:cNvCxnSpPr>
          <p:nvPr/>
        </p:nvCxnSpPr>
        <p:spPr>
          <a:xfrm>
            <a:off x="1450800" y="5354640"/>
            <a:ext cx="632880" cy="8467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541" name="Text Box 11"/>
          <p:cNvSpPr/>
          <p:nvPr/>
        </p:nvSpPr>
        <p:spPr>
          <a:xfrm>
            <a:off x="924120" y="6200640"/>
            <a:ext cx="23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Jensen Inequali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Line 18"/>
          <p:cNvSpPr/>
          <p:nvPr/>
        </p:nvSpPr>
        <p:spPr>
          <a:xfrm flipH="1">
            <a:off x="1442880" y="1897200"/>
            <a:ext cx="1949760" cy="64908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Line 19"/>
          <p:cNvSpPr/>
          <p:nvPr/>
        </p:nvSpPr>
        <p:spPr>
          <a:xfrm>
            <a:off x="1442880" y="2833560"/>
            <a:ext cx="0" cy="10083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Line 20"/>
          <p:cNvSpPr/>
          <p:nvPr/>
        </p:nvSpPr>
        <p:spPr>
          <a:xfrm>
            <a:off x="1442880" y="4098960"/>
            <a:ext cx="0" cy="86364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21"/>
          <p:cNvSpPr/>
          <p:nvPr/>
        </p:nvSpPr>
        <p:spPr>
          <a:xfrm>
            <a:off x="2646360" y="4910040"/>
            <a:ext cx="547560" cy="5032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Text Box 23"/>
          <p:cNvSpPr/>
          <p:nvPr/>
        </p:nvSpPr>
        <p:spPr>
          <a:xfrm>
            <a:off x="3788640" y="614664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The tric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7" name="AutoShape 24"/>
          <p:cNvCxnSpPr>
            <a:stCxn id="1545" idx="4"/>
            <a:endCxn id="1546" idx="1"/>
          </p:cNvCxnSpPr>
          <p:nvPr/>
        </p:nvCxnSpPr>
        <p:spPr>
          <a:xfrm>
            <a:off x="2921040" y="5412960"/>
            <a:ext cx="862560" cy="934200"/>
          </a:xfrm>
          <a:prstGeom prst="straightConnector1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Novel objects in the MLE instan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894960" y="2781360"/>
            <a:ext cx="84265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idden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hidd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single data poi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(h,v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plete data (hidden + visible) likelih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explains how the hidden variables and the visible ones are coupled toge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Q(h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pport distribution on the hidden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distribution over the hidden variables, simpler than P(h,v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0" name="Object 2"/>
              <p:cNvSpPr txBox="1"/>
              <p:nvPr/>
            </p:nvSpPr>
            <p:spPr>
              <a:xfrm>
                <a:off x="1320840" y="1125360"/>
                <a:ext cx="810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1" name="Oval 5"/>
          <p:cNvSpPr/>
          <p:nvPr/>
        </p:nvSpPr>
        <p:spPr>
          <a:xfrm>
            <a:off x="3236760" y="1773360"/>
            <a:ext cx="779760" cy="433440"/>
          </a:xfrm>
          <a:prstGeom prst="ellipse">
            <a:avLst/>
          </a:prstGeom>
          <a:solidFill>
            <a:srgbClr val="00c6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3079800" y="1197000"/>
            <a:ext cx="1092240" cy="433440"/>
          </a:xfrm>
          <a:prstGeom prst="ellipse">
            <a:avLst/>
          </a:prstGeom>
          <a:solidFill>
            <a:srgbClr val="99c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1911240" y="1484280"/>
            <a:ext cx="311400" cy="43344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584280" y="5291280"/>
            <a:ext cx="314280" cy="288720"/>
          </a:xfrm>
          <a:prstGeom prst="ellipse">
            <a:avLst/>
          </a:prstGeom>
          <a:solidFill>
            <a:srgbClr val="00c6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595440" y="3971880"/>
            <a:ext cx="311040" cy="289080"/>
          </a:xfrm>
          <a:prstGeom prst="ellipse">
            <a:avLst/>
          </a:prstGeom>
          <a:solidFill>
            <a:srgbClr val="99cc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601560" y="2781360"/>
            <a:ext cx="311400" cy="28872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Novel objects in the MLE instance (2)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894960" y="2781360"/>
            <a:ext cx="8659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(Q(h),P(h,v)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ivergence between Q,P a func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ferior bound with respect to the objective function L(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n object with Q(h)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n object with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9" name="Object 2"/>
              <p:cNvSpPr txBox="1"/>
              <p:nvPr/>
            </p:nvSpPr>
            <p:spPr>
              <a:xfrm>
                <a:off x="1320840" y="1125360"/>
                <a:ext cx="810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0" name="Oval 5"/>
          <p:cNvSpPr/>
          <p:nvPr/>
        </p:nvSpPr>
        <p:spPr>
          <a:xfrm>
            <a:off x="4970520" y="1268280"/>
            <a:ext cx="2574720" cy="86544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Oval 6"/>
          <p:cNvSpPr/>
          <p:nvPr/>
        </p:nvSpPr>
        <p:spPr>
          <a:xfrm>
            <a:off x="654120" y="2908440"/>
            <a:ext cx="287280" cy="2728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43E3-A392-4FAF-B734-7A603EA5A1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792000" y="228600"/>
            <a:ext cx="842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Uno sguardo d’insiem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1161" name="Picture 5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677200" cy="5086080"/>
          </a:xfrm>
          <a:prstGeom prst="rect">
            <a:avLst/>
          </a:prstGeom>
          <a:ln w="0">
            <a:noFill/>
          </a:ln>
        </p:spPr>
      </p:pic>
      <p:sp>
        <p:nvSpPr>
          <p:cNvPr id="1162" name="AutoShape 6"/>
          <p:cNvSpPr/>
          <p:nvPr/>
        </p:nvSpPr>
        <p:spPr>
          <a:xfrm rot="1863000">
            <a:off x="2058840" y="2354040"/>
            <a:ext cx="246240" cy="1038240"/>
          </a:xfrm>
          <a:prstGeom prst="rightArrow">
            <a:avLst>
              <a:gd name="adj1" fmla="val 50000"/>
              <a:gd name="adj2" fmla="val 5024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Minimization of the divergen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817200" y="1174320"/>
            <a:ext cx="86612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362520" indent="-3625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minimize F(Q,P)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ternatively (the sign – vanishes during minimiz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1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1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2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4" name="Object 2"/>
              <p:cNvSpPr txBox="1"/>
              <p:nvPr/>
            </p:nvSpPr>
            <p:spPr>
              <a:xfrm>
                <a:off x="785880" y="3816360"/>
                <a:ext cx="35179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5" name="Object 3"/>
              <p:cNvSpPr txBox="1"/>
              <p:nvPr/>
            </p:nvSpPr>
            <p:spPr>
              <a:xfrm>
                <a:off x="5452920" y="3726000"/>
                <a:ext cx="4415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v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6" name="Text Box 18"/>
          <p:cNvSpPr/>
          <p:nvPr/>
        </p:nvSpPr>
        <p:spPr>
          <a:xfrm>
            <a:off x="117360" y="2421000"/>
            <a:ext cx="45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respect to Q(h), with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fix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9"/>
          <p:cNvSpPr/>
          <p:nvPr/>
        </p:nvSpPr>
        <p:spPr>
          <a:xfrm>
            <a:off x="5264280" y="2421000"/>
            <a:ext cx="42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ith respect to h</a:t>
            </a:r>
            <a:r>
              <a:rPr b="0" lang="el-GR" sz="2400" spc="-1" strike="noStrike" baseline="30000">
                <a:solidFill>
                  <a:srgbClr val="ffcc00"/>
                </a:solidFill>
                <a:latin typeface="Tahoma"/>
              </a:rPr>
              <a:t>θ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, with Q(h) fix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AutoShape 20"/>
          <p:cNvSpPr/>
          <p:nvPr/>
        </p:nvSpPr>
        <p:spPr>
          <a:xfrm>
            <a:off x="2170080" y="3309840"/>
            <a:ext cx="5461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AutoShape 21"/>
          <p:cNvSpPr/>
          <p:nvPr/>
        </p:nvSpPr>
        <p:spPr>
          <a:xfrm>
            <a:off x="7216920" y="3284640"/>
            <a:ext cx="5443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AutoShape 22"/>
          <p:cNvSpPr/>
          <p:nvPr/>
        </p:nvSpPr>
        <p:spPr>
          <a:xfrm>
            <a:off x="2162160" y="4940280"/>
            <a:ext cx="5446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AutoShape 23"/>
          <p:cNvSpPr/>
          <p:nvPr/>
        </p:nvSpPr>
        <p:spPr>
          <a:xfrm>
            <a:off x="7216920" y="4940280"/>
            <a:ext cx="5443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24"/>
          <p:cNvSpPr/>
          <p:nvPr/>
        </p:nvSpPr>
        <p:spPr>
          <a:xfrm>
            <a:off x="1987560" y="4894200"/>
            <a:ext cx="21844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functional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riv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25"/>
          <p:cNvSpPr/>
          <p:nvPr/>
        </p:nvSpPr>
        <p:spPr>
          <a:xfrm>
            <a:off x="7102440" y="5029200"/>
            <a:ext cx="21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rivativ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4" name="Object 4"/>
              <p:cNvSpPr txBox="1"/>
              <p:nvPr/>
            </p:nvSpPr>
            <p:spPr>
              <a:xfrm>
                <a:off x="1130400" y="5700600"/>
                <a:ext cx="289692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5" name="Object 5"/>
              <p:cNvSpPr txBox="1"/>
              <p:nvPr/>
            </p:nvSpPr>
            <p:spPr>
              <a:xfrm>
                <a:off x="5370480" y="5451480"/>
                <a:ext cx="410688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6" name="AutoShape 31"/>
          <p:cNvSpPr/>
          <p:nvPr/>
        </p:nvSpPr>
        <p:spPr>
          <a:xfrm>
            <a:off x="4094280" y="2060640"/>
            <a:ext cx="2108160" cy="431640"/>
          </a:xfrm>
          <a:custGeom>
            <a:avLst/>
            <a:gdLst>
              <a:gd name="textAreaLeft" fmla="*/ 430200 w 2108160"/>
              <a:gd name="textAreaRight" fmla="*/ 1483200 w 21081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7" hR="21600" stAng="10800000" swAng="5400000"/>
                <a:lnTo>
                  <a:pt x="10789" y="0"/>
                </a:lnTo>
                <a:arcTo wR="8817" hR="21600" stAng="-5400000" swAng="2946172"/>
                <a:lnTo>
                  <a:pt x="21096" y="14400"/>
                </a:lnTo>
                <a:lnTo>
                  <a:pt x="18620" y="21600"/>
                </a:lnTo>
                <a:lnTo>
                  <a:pt x="15136" y="14400"/>
                </a:lnTo>
                <a:lnTo>
                  <a:pt x="17130" y="14400"/>
                </a:lnTo>
                <a:arcTo wR="8817" hR="21600" stAng="-2453828" swAng="-2788366"/>
                <a:lnTo>
                  <a:pt x="9803" y="135"/>
                </a:lnTo>
                <a:arcTo wR="8817" hR="21600" stAng="-5557806" swAng="-5242194"/>
                <a:close/>
              </a:path>
              <a:path fill="darkenLess" w="21600" h="21600">
                <a:moveTo>
                  <a:pt x="0" y="21600"/>
                </a:moveTo>
                <a:arcTo wR="8817" hR="21600" stAng="10800000" swAng="5400000"/>
                <a:lnTo>
                  <a:pt x="8817" y="0"/>
                </a:lnTo>
                <a:arcTo wR="8817" hR="21600" stAng="-5400000" swAng="157806"/>
                <a:lnTo>
                  <a:pt x="9803" y="135"/>
                </a:lnTo>
                <a:arcTo wR="8817" hR="21600" stAng="-5557806" swAng="-524219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AutoShape 32"/>
          <p:cNvSpPr/>
          <p:nvPr/>
        </p:nvSpPr>
        <p:spPr>
          <a:xfrm rot="10800000">
            <a:off x="3938400" y="2923920"/>
            <a:ext cx="2106360" cy="431640"/>
          </a:xfrm>
          <a:custGeom>
            <a:avLst/>
            <a:gdLst>
              <a:gd name="textAreaLeft" fmla="*/ 429840 w 2106360"/>
              <a:gd name="textAreaRight" fmla="*/ 1482120 w 2106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817" hR="21600" stAng="10800000" swAng="5400000"/>
                <a:lnTo>
                  <a:pt x="10789" y="0"/>
                </a:lnTo>
                <a:arcTo wR="8817" hR="21600" stAng="-5400000" swAng="2946172"/>
                <a:lnTo>
                  <a:pt x="21096" y="14400"/>
                </a:lnTo>
                <a:lnTo>
                  <a:pt x="18620" y="21600"/>
                </a:lnTo>
                <a:lnTo>
                  <a:pt x="15136" y="14400"/>
                </a:lnTo>
                <a:lnTo>
                  <a:pt x="17130" y="14400"/>
                </a:lnTo>
                <a:arcTo wR="8817" hR="21600" stAng="-2453828" swAng="-2788366"/>
                <a:lnTo>
                  <a:pt x="9803" y="135"/>
                </a:lnTo>
                <a:arcTo wR="8817" hR="21600" stAng="-5557806" swAng="-5242194"/>
                <a:close/>
              </a:path>
              <a:path fill="darkenLess" w="21600" h="21600">
                <a:moveTo>
                  <a:pt x="0" y="21600"/>
                </a:moveTo>
                <a:arcTo wR="8817" hR="21600" stAng="10800000" swAng="5400000"/>
                <a:lnTo>
                  <a:pt x="8817" y="0"/>
                </a:lnTo>
                <a:arcTo wR="8817" hR="21600" stAng="-5400000" swAng="157806"/>
                <a:lnTo>
                  <a:pt x="9803" y="135"/>
                </a:lnTo>
                <a:arcTo wR="8817" hR="21600" stAng="-5557806" swAng="-5242194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core of the EM in practi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an initial 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Q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lculating for each possible value of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M parameters, this is a system of M equ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0" name="Object 2"/>
              <p:cNvSpPr txBox="1"/>
              <p:nvPr/>
            </p:nvSpPr>
            <p:spPr>
              <a:xfrm>
                <a:off x="2925720" y="2490840"/>
                <a:ext cx="374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←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1" name="Object 3"/>
              <p:cNvSpPr txBox="1"/>
              <p:nvPr/>
            </p:nvSpPr>
            <p:spPr>
              <a:xfrm>
                <a:off x="2144880" y="4365720"/>
                <a:ext cx="5518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2" name="Oval 8"/>
          <p:cNvSpPr/>
          <p:nvPr/>
        </p:nvSpPr>
        <p:spPr>
          <a:xfrm>
            <a:off x="2612880" y="2332080"/>
            <a:ext cx="4602240" cy="8650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9"/>
          <p:cNvSpPr/>
          <p:nvPr/>
        </p:nvSpPr>
        <p:spPr>
          <a:xfrm>
            <a:off x="7439760" y="242100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ASY T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Oval 10"/>
          <p:cNvSpPr/>
          <p:nvPr/>
        </p:nvSpPr>
        <p:spPr>
          <a:xfrm>
            <a:off x="3938760" y="4508640"/>
            <a:ext cx="3041640" cy="79200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11"/>
          <p:cNvSpPr/>
          <p:nvPr/>
        </p:nvSpPr>
        <p:spPr>
          <a:xfrm>
            <a:off x="7830000" y="458136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ASY T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Perplexities and practical receipts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l, but when should I use 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probabilistic problems, in which mixture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e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involved, where each data point is generated by one of the components of the mix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G (mixtures of Gaussia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MM (mixtures of sta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yes Net (mixtures of parents of a no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ucial question: what is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(t)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dicates what component of the mixture generates the data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Applications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Back to the MoGs - the E-players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4" descr="Punti_Iniziale"/>
          <p:cNvPicPr/>
          <p:nvPr/>
        </p:nvPicPr>
        <p:blipFill>
          <a:blip r:embed="rId1">
            <a:lum bright="4000"/>
          </a:blip>
          <a:stretch/>
        </p:blipFill>
        <p:spPr>
          <a:xfrm>
            <a:off x="6124680" y="1011240"/>
            <a:ext cx="3587760" cy="2705040"/>
          </a:xfrm>
          <a:prstGeom prst="rect">
            <a:avLst/>
          </a:prstGeom>
          <a:ln w="0">
            <a:noFill/>
          </a:ln>
        </p:spPr>
      </p:pic>
      <p:sp>
        <p:nvSpPr>
          <p:cNvPr id="1591" name="Oval 5"/>
          <p:cNvSpPr/>
          <p:nvPr/>
        </p:nvSpPr>
        <p:spPr>
          <a:xfrm rot="1762800">
            <a:off x="6584760" y="2001960"/>
            <a:ext cx="1385640" cy="814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6"/>
          <p:cNvSpPr/>
          <p:nvPr/>
        </p:nvSpPr>
        <p:spPr>
          <a:xfrm rot="21014400">
            <a:off x="7337160" y="2467080"/>
            <a:ext cx="1385640" cy="8143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7"/>
          <p:cNvSpPr/>
          <p:nvPr/>
        </p:nvSpPr>
        <p:spPr>
          <a:xfrm rot="19652400">
            <a:off x="7858080" y="1711440"/>
            <a:ext cx="1386000" cy="81432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8"/>
          <p:cNvSpPr/>
          <p:nvPr/>
        </p:nvSpPr>
        <p:spPr>
          <a:xfrm>
            <a:off x="6585120" y="1420920"/>
            <a:ext cx="104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9"/>
          <p:cNvSpPr/>
          <p:nvPr/>
        </p:nvSpPr>
        <p:spPr>
          <a:xfrm>
            <a:off x="8201160" y="3070080"/>
            <a:ext cx="104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10"/>
          <p:cNvSpPr/>
          <p:nvPr/>
        </p:nvSpPr>
        <p:spPr>
          <a:xfrm>
            <a:off x="7624800" y="1301760"/>
            <a:ext cx="104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11"/>
          <p:cNvSpPr/>
          <p:nvPr/>
        </p:nvSpPr>
        <p:spPr>
          <a:xfrm>
            <a:off x="7381800" y="2359080"/>
            <a:ext cx="58680" cy="5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8" name="Object 2"/>
              <p:cNvSpPr txBox="1"/>
              <p:nvPr/>
            </p:nvSpPr>
            <p:spPr>
              <a:xfrm>
                <a:off x="1130400" y="1020600"/>
                <a:ext cx="366552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9" name="Object 3"/>
              <p:cNvSpPr txBox="1"/>
              <p:nvPr/>
            </p:nvSpPr>
            <p:spPr>
              <a:xfrm>
                <a:off x="1130400" y="3213000"/>
                <a:ext cx="23778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0" name="Object 4"/>
              <p:cNvSpPr txBox="1"/>
              <p:nvPr/>
            </p:nvSpPr>
            <p:spPr>
              <a:xfrm>
                <a:off x="1052640" y="4122720"/>
                <a:ext cx="507024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1" name="Object 5"/>
              <p:cNvSpPr txBox="1"/>
              <p:nvPr/>
            </p:nvSpPr>
            <p:spPr>
              <a:xfrm>
                <a:off x="6102360" y="4149720"/>
                <a:ext cx="37861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</m:e>
                        </m:d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  <m:sup/>
                          <m:e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|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2" name="Object 6"/>
              <p:cNvSpPr txBox="1"/>
              <p:nvPr/>
            </p:nvSpPr>
            <p:spPr>
              <a:xfrm>
                <a:off x="3079800" y="5589720"/>
                <a:ext cx="1189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603" name="AutoShape 27"/>
          <p:cNvCxnSpPr>
            <a:stCxn id="1604" idx="1"/>
          </p:cNvCxnSpPr>
          <p:nvPr/>
        </p:nvCxnSpPr>
        <p:spPr>
          <a:xfrm flipH="1">
            <a:off x="4268520" y="5793840"/>
            <a:ext cx="1620000" cy="6444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604" name="Rectangle 28"/>
          <p:cNvSpPr/>
          <p:nvPr/>
        </p:nvSpPr>
        <p:spPr>
          <a:xfrm>
            <a:off x="5888160" y="5686560"/>
            <a:ext cx="23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5" name="AutoShape 31"/>
          <p:cNvCxnSpPr>
            <a:stCxn id="1606" idx="2"/>
          </p:cNvCxnSpPr>
          <p:nvPr/>
        </p:nvCxnSpPr>
        <p:spPr>
          <a:xfrm>
            <a:off x="1881000" y="4844880"/>
            <a:ext cx="1199160" cy="101376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606" name="Rectangle 32"/>
          <p:cNvSpPr/>
          <p:nvPr/>
        </p:nvSpPr>
        <p:spPr>
          <a:xfrm>
            <a:off x="1763640" y="462924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3"/>
          <p:cNvSpPr/>
          <p:nvPr/>
        </p:nvSpPr>
        <p:spPr>
          <a:xfrm>
            <a:off x="662040" y="1197000"/>
            <a:ext cx="85802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8" name="Object 7"/>
              <p:cNvSpPr txBox="1"/>
              <p:nvPr/>
            </p:nvSpPr>
            <p:spPr>
              <a:xfrm>
                <a:off x="1130400" y="2205000"/>
                <a:ext cx="40561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9" name="Text Box 35"/>
          <p:cNvSpPr/>
          <p:nvPr/>
        </p:nvSpPr>
        <p:spPr>
          <a:xfrm>
            <a:off x="2453400" y="386064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BAY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0" name="Group 37"/>
          <p:cNvGrpSpPr/>
          <p:nvPr/>
        </p:nvGrpSpPr>
        <p:grpSpPr>
          <a:xfrm>
            <a:off x="6161040" y="5294160"/>
            <a:ext cx="3298680" cy="1144800"/>
            <a:chOff x="6161040" y="5294160"/>
            <a:chExt cx="3298680" cy="1144800"/>
          </a:xfrm>
        </p:grpSpPr>
        <mc:AlternateContent>
          <mc:Choice xmlns:a14="http://schemas.microsoft.com/office/drawing/2010/main" Requires="a14">
            <p:sp>
              <p:nvSpPr>
                <p:cNvPr id="1611" name="Object 8"/>
                <p:cNvSpPr txBox="1"/>
                <p:nvPr/>
              </p:nvSpPr>
              <p:spPr>
                <a:xfrm>
                  <a:off x="6161040" y="5419800"/>
                  <a:ext cx="3298680" cy="101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/>
                        <m:den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sSup>
                                <m:e>
                                  <m:r>
                                    <m:t xml:space="preserve">h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sub>
                            <m:sup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</m:t>
                              </m:r>
                            </m:e>
                          </m:nary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2" name="Object 9"/>
                <p:cNvSpPr txBox="1"/>
                <p:nvPr/>
              </p:nvSpPr>
              <p:spPr>
                <a:xfrm>
                  <a:off x="7570440" y="5373720"/>
                  <a:ext cx="17157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3" name="Object 10"/>
                <p:cNvSpPr txBox="1"/>
                <p:nvPr/>
              </p:nvSpPr>
              <p:spPr>
                <a:xfrm>
                  <a:off x="6941520" y="5851440"/>
                  <a:ext cx="60120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4" name="Object 11"/>
                <p:cNvSpPr txBox="1"/>
                <p:nvPr/>
              </p:nvSpPr>
              <p:spPr>
                <a:xfrm>
                  <a:off x="7565040" y="5877000"/>
                  <a:ext cx="17157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Ν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Σ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5" name="Object 12"/>
                <p:cNvSpPr txBox="1"/>
                <p:nvPr/>
              </p:nvSpPr>
              <p:spPr>
                <a:xfrm>
                  <a:off x="6942960" y="5294160"/>
                  <a:ext cx="623880" cy="51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π</m:t>
                          </m:r>
                        </m:e>
                        <m:sub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6" name="Text Box 38"/>
          <p:cNvSpPr/>
          <p:nvPr/>
        </p:nvSpPr>
        <p:spPr>
          <a:xfrm>
            <a:off x="2083320" y="6237360"/>
            <a:ext cx="34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for each i, for each 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6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Applications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Back to the MoGs - the M-players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9" name="Picture 4" descr="Punti_Iniziale"/>
          <p:cNvPicPr/>
          <p:nvPr/>
        </p:nvPicPr>
        <p:blipFill>
          <a:blip r:embed="rId1"/>
          <a:stretch/>
        </p:blipFill>
        <p:spPr>
          <a:xfrm>
            <a:off x="6124680" y="1011240"/>
            <a:ext cx="3587760" cy="2705040"/>
          </a:xfrm>
          <a:prstGeom prst="rect">
            <a:avLst/>
          </a:prstGeom>
          <a:ln w="0">
            <a:noFill/>
          </a:ln>
        </p:spPr>
      </p:pic>
      <p:sp>
        <p:nvSpPr>
          <p:cNvPr id="1620" name="Oval 5"/>
          <p:cNvSpPr/>
          <p:nvPr/>
        </p:nvSpPr>
        <p:spPr>
          <a:xfrm rot="1762800">
            <a:off x="6584760" y="2001960"/>
            <a:ext cx="1385640" cy="814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Oval 6"/>
          <p:cNvSpPr/>
          <p:nvPr/>
        </p:nvSpPr>
        <p:spPr>
          <a:xfrm rot="21014400">
            <a:off x="7337160" y="2467080"/>
            <a:ext cx="1385640" cy="814320"/>
          </a:xfrm>
          <a:prstGeom prst="ellipse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Oval 7"/>
          <p:cNvSpPr/>
          <p:nvPr/>
        </p:nvSpPr>
        <p:spPr>
          <a:xfrm rot="19652400">
            <a:off x="7858080" y="1711440"/>
            <a:ext cx="1386000" cy="814320"/>
          </a:xfrm>
          <a:prstGeom prst="ellipse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8"/>
          <p:cNvSpPr/>
          <p:nvPr/>
        </p:nvSpPr>
        <p:spPr>
          <a:xfrm>
            <a:off x="6585120" y="1420920"/>
            <a:ext cx="104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9"/>
          <p:cNvSpPr/>
          <p:nvPr/>
        </p:nvSpPr>
        <p:spPr>
          <a:xfrm>
            <a:off x="8201160" y="3070080"/>
            <a:ext cx="104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0066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6600"/>
                </a:solidFill>
                <a:latin typeface="Arial"/>
                <a:ea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0"/>
          <p:cNvSpPr/>
          <p:nvPr/>
        </p:nvSpPr>
        <p:spPr>
          <a:xfrm>
            <a:off x="7624800" y="1301760"/>
            <a:ext cx="1041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r>
              <a:rPr b="0" lang="el-GR" sz="2800" spc="-1" strike="noStrike">
                <a:solidFill>
                  <a:srgbClr val="010199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10199"/>
                </a:solidFill>
                <a:latin typeface="Arial"/>
                <a:ea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11"/>
          <p:cNvSpPr/>
          <p:nvPr/>
        </p:nvSpPr>
        <p:spPr>
          <a:xfrm>
            <a:off x="7381800" y="2359080"/>
            <a:ext cx="58680" cy="57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0"/>
          <p:cNvSpPr/>
          <p:nvPr/>
        </p:nvSpPr>
        <p:spPr>
          <a:xfrm>
            <a:off x="1763640" y="4629240"/>
            <a:ext cx="23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1"/>
          <p:cNvSpPr/>
          <p:nvPr/>
        </p:nvSpPr>
        <p:spPr>
          <a:xfrm>
            <a:off x="662040" y="1197000"/>
            <a:ext cx="85802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9" name="Object 2"/>
              <p:cNvSpPr txBox="1"/>
              <p:nvPr/>
            </p:nvSpPr>
            <p:spPr>
              <a:xfrm>
                <a:off x="1131840" y="1052640"/>
                <a:ext cx="4835520" cy="89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  <m:sup/>
                              <m:e>
                                <m:r>
                                  <m:t xml:space="preserve">Q</m:t>
                                </m:r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e>
                            </m:nary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0" name="Object 3"/>
              <p:cNvSpPr txBox="1"/>
              <p:nvPr/>
            </p:nvSpPr>
            <p:spPr>
              <a:xfrm>
                <a:off x="1058760" y="2620800"/>
                <a:ext cx="4476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Q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1" name="Object 4"/>
              <p:cNvSpPr txBox="1"/>
              <p:nvPr/>
            </p:nvSpPr>
            <p:spPr>
              <a:xfrm>
                <a:off x="2084400" y="4135320"/>
                <a:ext cx="59500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2" name="Object 5"/>
              <p:cNvSpPr txBox="1"/>
              <p:nvPr/>
            </p:nvSpPr>
            <p:spPr>
              <a:xfrm>
                <a:off x="785880" y="4130640"/>
                <a:ext cx="11034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3" name="Object 6"/>
              <p:cNvSpPr txBox="1"/>
              <p:nvPr/>
            </p:nvSpPr>
            <p:spPr>
              <a:xfrm>
                <a:off x="131760" y="5246640"/>
                <a:ext cx="8938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4" name="Object 7"/>
              <p:cNvSpPr txBox="1"/>
              <p:nvPr/>
            </p:nvSpPr>
            <p:spPr>
              <a:xfrm>
                <a:off x="4030560" y="5992920"/>
                <a:ext cx="89532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5" name="Object 8"/>
              <p:cNvSpPr txBox="1"/>
              <p:nvPr/>
            </p:nvSpPr>
            <p:spPr>
              <a:xfrm>
                <a:off x="1093680" y="5268960"/>
                <a:ext cx="45640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6" name="Object 9"/>
              <p:cNvSpPr txBox="1"/>
              <p:nvPr/>
            </p:nvSpPr>
            <p:spPr>
              <a:xfrm>
                <a:off x="4719600" y="5981760"/>
                <a:ext cx="454968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7" name="Oval 41"/>
          <p:cNvSpPr/>
          <p:nvPr/>
        </p:nvSpPr>
        <p:spPr>
          <a:xfrm>
            <a:off x="3246480" y="2530440"/>
            <a:ext cx="2184480" cy="934920"/>
          </a:xfrm>
          <a:prstGeom prst="ellipse">
            <a:avLst/>
          </a:prstGeom>
          <a:solidFill>
            <a:srgbClr val="00c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Oval 42"/>
          <p:cNvSpPr/>
          <p:nvPr/>
        </p:nvSpPr>
        <p:spPr>
          <a:xfrm>
            <a:off x="4216320" y="4008600"/>
            <a:ext cx="4137120" cy="1079280"/>
          </a:xfrm>
          <a:prstGeom prst="ellipse">
            <a:avLst/>
          </a:prstGeom>
          <a:solidFill>
            <a:srgbClr val="00c6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Oval 43"/>
          <p:cNvSpPr/>
          <p:nvPr/>
        </p:nvSpPr>
        <p:spPr>
          <a:xfrm>
            <a:off x="3392640" y="5316480"/>
            <a:ext cx="2574720" cy="649440"/>
          </a:xfrm>
          <a:prstGeom prst="ellipse">
            <a:avLst/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Oval 44"/>
          <p:cNvSpPr/>
          <p:nvPr/>
        </p:nvSpPr>
        <p:spPr>
          <a:xfrm>
            <a:off x="7248600" y="6102360"/>
            <a:ext cx="2027160" cy="576360"/>
          </a:xfrm>
          <a:prstGeom prst="ellipse">
            <a:avLst/>
          </a:prstGeom>
          <a:solidFill>
            <a:srgbClr val="00ccff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AutoShape 45"/>
          <p:cNvSpPr/>
          <p:nvPr/>
        </p:nvSpPr>
        <p:spPr>
          <a:xfrm rot="16200000">
            <a:off x="5692680" y="3809880"/>
            <a:ext cx="180720" cy="1873080"/>
          </a:xfrm>
          <a:custGeom>
            <a:avLst/>
            <a:gdLst>
              <a:gd name="textAreaLeft" fmla="*/ 115560 w 180720"/>
              <a:gd name="textAreaRight" fmla="*/ 181080 w 180720"/>
              <a:gd name="textAreaTop" fmla="*/ 45000 h 1873080"/>
              <a:gd name="textAreaBottom" fmla="*/ 18280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AutoShape 46"/>
          <p:cNvSpPr/>
          <p:nvPr/>
        </p:nvSpPr>
        <p:spPr>
          <a:xfrm rot="16200000">
            <a:off x="7444440" y="4007520"/>
            <a:ext cx="108000" cy="1405080"/>
          </a:xfrm>
          <a:custGeom>
            <a:avLst/>
            <a:gdLst>
              <a:gd name="textAreaLeft" fmla="*/ 69120 w 108000"/>
              <a:gd name="textAreaRight" fmla="*/ 108360 w 108000"/>
              <a:gd name="textAreaTop" fmla="*/ 33840 h 1405080"/>
              <a:gd name="textAreaBottom" fmla="*/ 1371240 h 14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1"/>
                  <a:pt x="10800" y="1662"/>
                </a:cubicBezTo>
                <a:lnTo>
                  <a:pt x="10800" y="9138"/>
                </a:lnTo>
                <a:cubicBezTo>
                  <a:pt x="10800" y="9969"/>
                  <a:pt x="5400" y="10800"/>
                  <a:pt x="0" y="10800"/>
                </a:cubicBezTo>
                <a:cubicBezTo>
                  <a:pt x="5400" y="10800"/>
                  <a:pt x="10800" y="11631"/>
                  <a:pt x="10800" y="12462"/>
                </a:cubicBezTo>
                <a:lnTo>
                  <a:pt x="10800" y="19938"/>
                </a:lnTo>
                <a:cubicBezTo>
                  <a:pt x="10800" y="2076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3" name="AutoShape 47"/>
          <p:cNvCxnSpPr>
            <a:stCxn id="1641" idx="1"/>
            <a:endCxn id="1639" idx="0"/>
          </p:cNvCxnSpPr>
          <p:nvPr/>
        </p:nvCxnSpPr>
        <p:spPr>
          <a:xfrm flipH="1">
            <a:off x="4681080" y="4851360"/>
            <a:ext cx="1100880" cy="4658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644" name="AutoShape 48"/>
          <p:cNvCxnSpPr>
            <a:stCxn id="1642" idx="1"/>
            <a:endCxn id="1640" idx="0"/>
          </p:cNvCxnSpPr>
          <p:nvPr/>
        </p:nvCxnSpPr>
        <p:spPr>
          <a:xfrm>
            <a:off x="7497720" y="4778280"/>
            <a:ext cx="766080" cy="132480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645" name="AutoShape 49"/>
          <p:cNvCxnSpPr>
            <a:stCxn id="1637" idx="4"/>
            <a:endCxn id="1638" idx="1"/>
          </p:cNvCxnSpPr>
          <p:nvPr/>
        </p:nvCxnSpPr>
        <p:spPr>
          <a:xfrm>
            <a:off x="4338360" y="3465360"/>
            <a:ext cx="484920" cy="70272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646" name="Text Box 50"/>
          <p:cNvSpPr/>
          <p:nvPr/>
        </p:nvSpPr>
        <p:spPr>
          <a:xfrm>
            <a:off x="6438960" y="5300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Line 51"/>
          <p:cNvSpPr/>
          <p:nvPr/>
        </p:nvSpPr>
        <p:spPr>
          <a:xfrm>
            <a:off x="870120" y="166860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Line 52"/>
          <p:cNvSpPr/>
          <p:nvPr/>
        </p:nvSpPr>
        <p:spPr>
          <a:xfrm>
            <a:off x="879480" y="3151080"/>
            <a:ext cx="0" cy="115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9" name="Object 8"/>
              <p:cNvSpPr txBox="1"/>
              <p:nvPr/>
            </p:nvSpPr>
            <p:spPr>
              <a:xfrm>
                <a:off x="169920" y="125280"/>
                <a:ext cx="6842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0" name="Line 51"/>
          <p:cNvSpPr/>
          <p:nvPr/>
        </p:nvSpPr>
        <p:spPr>
          <a:xfrm>
            <a:off x="870120" y="1838160"/>
            <a:ext cx="0" cy="11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1" name="Oggetto 3"/>
              <p:cNvSpPr txBox="1"/>
              <p:nvPr/>
            </p:nvSpPr>
            <p:spPr>
              <a:xfrm>
                <a:off x="1862280" y="1119240"/>
                <a:ext cx="77468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icorda!    --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2" name="Object 8"/>
              <p:cNvSpPr txBox="1"/>
              <p:nvPr/>
            </p:nvSpPr>
            <p:spPr>
              <a:xfrm>
                <a:off x="378000" y="1838160"/>
                <a:ext cx="635940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Ν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3" name="Object 8"/>
              <p:cNvSpPr txBox="1"/>
              <p:nvPr/>
            </p:nvSpPr>
            <p:spPr>
              <a:xfrm>
                <a:off x="122400" y="2879640"/>
                <a:ext cx="560700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4" name="Object 8"/>
              <p:cNvSpPr txBox="1"/>
              <p:nvPr/>
            </p:nvSpPr>
            <p:spPr>
              <a:xfrm>
                <a:off x="117360" y="3921120"/>
                <a:ext cx="8004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5" name="Ovale 7"/>
          <p:cNvSpPr/>
          <p:nvPr/>
        </p:nvSpPr>
        <p:spPr>
          <a:xfrm>
            <a:off x="3456000" y="1838160"/>
            <a:ext cx="806400" cy="1276560"/>
          </a:xfrm>
          <a:prstGeom prst="ellipse">
            <a:avLst/>
          </a:prstGeom>
          <a:solidFill>
            <a:srgbClr val="00b05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6" name="Object 8"/>
              <p:cNvSpPr txBox="1"/>
              <p:nvPr/>
            </p:nvSpPr>
            <p:spPr>
              <a:xfrm>
                <a:off x="2738520" y="4759200"/>
                <a:ext cx="409392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7" name="Oval 43"/>
          <p:cNvSpPr/>
          <p:nvPr/>
        </p:nvSpPr>
        <p:spPr>
          <a:xfrm>
            <a:off x="3859200" y="243000"/>
            <a:ext cx="3322800" cy="804600"/>
          </a:xfrm>
          <a:prstGeom prst="ellipse">
            <a:avLst/>
          </a:prstGeom>
          <a:solidFill>
            <a:srgbClr val="ff00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58" name="Object 8"/>
              <p:cNvSpPr txBox="1"/>
              <p:nvPr/>
            </p:nvSpPr>
            <p:spPr>
              <a:xfrm>
                <a:off x="2797200" y="217440"/>
                <a:ext cx="40942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9" name="Object 8"/>
              <p:cNvSpPr txBox="1"/>
              <p:nvPr/>
            </p:nvSpPr>
            <p:spPr>
              <a:xfrm>
                <a:off x="1571760" y="2463840"/>
                <a:ext cx="661356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t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|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θ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0" name="Object 8"/>
              <p:cNvSpPr txBox="1"/>
              <p:nvPr/>
            </p:nvSpPr>
            <p:spPr>
              <a:xfrm>
                <a:off x="5719680" y="5284800"/>
                <a:ext cx="292572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|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1" name="Oggetto 1"/>
              <p:cNvSpPr txBox="1"/>
              <p:nvPr/>
            </p:nvSpPr>
            <p:spPr>
              <a:xfrm>
                <a:off x="1403280" y="5478480"/>
                <a:ext cx="25304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algorithm - </a:t>
            </a:r>
            <a:br>
              <a:rPr sz="2800"/>
            </a:br>
            <a:r>
              <a:rPr b="0" lang="it-IT" sz="2800" spc="-1" strike="noStrike">
                <a:solidFill>
                  <a:srgbClr val="800000"/>
                </a:solidFill>
                <a:latin typeface="Tahoma"/>
              </a:rPr>
              <a:t>The core of the EM in practice</a:t>
            </a:r>
            <a:endParaRPr b="0" lang="en-US" sz="28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62040" y="1196640"/>
            <a:ext cx="85802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ITIAL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et an init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Q(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alculating for each possible value of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EP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 F(Q,P) with respect to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l-GR" sz="2400" spc="-1" strike="noStrike" baseline="30000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, obt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ITERATION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Loop until convergenc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5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4" name="Object 2"/>
              <p:cNvSpPr txBox="1"/>
              <p:nvPr/>
            </p:nvSpPr>
            <p:spPr>
              <a:xfrm>
                <a:off x="2925720" y="2490840"/>
                <a:ext cx="3743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←</m:t>
                    </m:r>
                    <m:r>
                      <m:t xml:space="preserve">P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|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θ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5" name="Oval 8"/>
          <p:cNvSpPr/>
          <p:nvPr/>
        </p:nvSpPr>
        <p:spPr>
          <a:xfrm>
            <a:off x="2612880" y="2332080"/>
            <a:ext cx="4602240" cy="865080"/>
          </a:xfrm>
          <a:prstGeom prst="ellipse">
            <a:avLst/>
          </a:prstGeom>
          <a:solidFill>
            <a:srgbClr val="ff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Text Box 9"/>
          <p:cNvSpPr/>
          <p:nvPr/>
        </p:nvSpPr>
        <p:spPr>
          <a:xfrm>
            <a:off x="7439760" y="2421000"/>
            <a:ext cx="16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EASY TO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OMPUTE !!!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Object 1"/>
              <p:cNvSpPr txBox="1"/>
              <p:nvPr/>
            </p:nvSpPr>
            <p:spPr>
              <a:xfrm>
                <a:off x="5211720" y="1119240"/>
                <a:ext cx="24638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8" name="Object 11"/>
              <p:cNvSpPr txBox="1"/>
              <p:nvPr/>
            </p:nvSpPr>
            <p:spPr>
              <a:xfrm>
                <a:off x="3351240" y="4781520"/>
                <a:ext cx="320508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The m-players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dea: introduce hidden variables which knowledge semplifies the computation of the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dden variables are related with the visible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sion of the hidden quantities is not an automatic process, and relies on the scient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, the EM well apply when we have to deal with mix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Remarks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dea: introduce hidden variables which knowledge semplifies the computation of the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hidden variables are related with the visible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sion of the hidden quantities is not an automatic process, and relies on the scienti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genera, the EM well apply when we have to deal with mix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5DB7-4A0F-4F53-B4F4-E60CA0D199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26600" y="192240"/>
            <a:ext cx="917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tima dei parametri – Probabilità a priori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440" y="988920"/>
            <a:ext cx="84200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pponiamo di ave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insieme di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ati di training in cui ad ogni pattern è assegnata un’etichetta d’identità (ossia conosco per certo a quale sta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artiene il patter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esi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problema di learning dei parametri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supervision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è il numero di campioni con etichett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8" name="Object 5"/>
              <p:cNvSpPr txBox="1"/>
              <p:nvPr/>
            </p:nvSpPr>
            <p:spPr>
              <a:xfrm>
                <a:off x="3274920" y="3348000"/>
                <a:ext cx="16765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3" name="Picture 5" descr=""/>
          <p:cNvPicPr/>
          <p:nvPr/>
        </p:nvPicPr>
        <p:blipFill>
          <a:blip r:embed="rId1"/>
          <a:srcRect l="22240" t="15539" r="4517" b="5710"/>
          <a:stretch/>
        </p:blipFill>
        <p:spPr>
          <a:xfrm>
            <a:off x="193680" y="404640"/>
            <a:ext cx="8929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ahoma"/>
              </a:rPr>
              <a:t>Material</a:t>
            </a:r>
            <a:endParaRPr b="0" lang="en-US" sz="3200" spc="-1" strike="noStrike">
              <a:solidFill>
                <a:srgbClr val="800000"/>
              </a:solidFill>
              <a:latin typeface="Tahom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95000" y="1483920"/>
            <a:ext cx="8915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endan J. Frey and Nebojsa Jojic. 2005. A Comparison of Algorithms for Inference and Learning in Probabilistic Graphical Models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EEE Trans. Pattern Anal. Mach. Intell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7, 9 (September 2005), 1392-1416. DOI=10.1109/TPAMI.2005.169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x.doi.org/10.1109/TPAMI.2005.1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entle Tutorial of the EM Algorithm and its Application to Parameter Estimation for Gaussian Mixture and Hidden Markov Models (1998) by Jeff Bilm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2274-FEF7-496D-B65A-67CF5B612D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3600" y="228600"/>
            <a:ext cx="917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Stima dei parametri – Class conditional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56760" y="1158480"/>
            <a:ext cx="9326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niamo di av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t di campioni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...,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racciati indipendentemente in accordo alla densità p(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iamo che p(x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bbia forma parametrica conosciu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roblema di stima dei parametri consiste nello stimare i parametri che definiscono p(x|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semplificare il problema, assumiamo inoltre ch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mpioni appartenenti al set 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non danno informazioni relative ai parametri di p(x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e 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Date Placeholder 3"/>
          <p:cNvSpPr/>
          <p:nvPr/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o Cristan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Footer Placeholder 4"/>
          <p:cNvSpPr/>
          <p:nvPr/>
        </p:nvSpPr>
        <p:spPr>
          <a:xfrm>
            <a:off x="2600280" y="6248520"/>
            <a:ext cx="475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oria e Tecniche del Riconoscimen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099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7D7F-EC4D-46EF-9084-350D0DB205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241200" y="178920"/>
            <a:ext cx="9452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Times New Roman"/>
              </a:rPr>
              <a:t>Stima dei parametri – Due approcci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440" y="954000"/>
            <a:ext cx="88074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ficatamente, il problema può essere formulato c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o un set di training D={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....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x|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è determinata d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che è un vettore rappresentante i parametr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.e.,                      se                                 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gliamo trovare il miglio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ando il set di train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istono due approc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ximum-likeliho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m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ametrica Baye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9" name="Object 4"/>
              <p:cNvSpPr txBox="1"/>
              <p:nvPr/>
            </p:nvSpPr>
            <p:spPr>
              <a:xfrm>
                <a:off x="2662200" y="3281400"/>
                <a:ext cx="1573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0" name="Object 5"/>
              <p:cNvSpPr txBox="1"/>
              <p:nvPr/>
            </p:nvSpPr>
            <p:spPr>
              <a:xfrm>
                <a:off x="4762440" y="3255840"/>
                <a:ext cx="29224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7T12:54:12Z</dcterms:created>
  <dc:creator>swan</dc:creator>
  <dc:description>Rivista d Bice -18-4-01 </dc:description>
  <dc:language>en-US</dc:language>
  <cp:lastModifiedBy>Marco Cristani</cp:lastModifiedBy>
  <cp:lastPrinted>2001-05-02T10:47:20Z</cp:lastPrinted>
  <dcterms:modified xsi:type="dcterms:W3CDTF">2014-12-01T11:37:32Z</dcterms:modified>
  <cp:revision>429</cp:revision>
  <dc:subject/>
  <dc:title>Classificazione</dc:title>
</cp:coreProperties>
</file>