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973-FD21-4CB2-B0B0-B16C5FF1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D2C-2F2B-46A6-B093-A1A08AFA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D74-61D2-4703-B6E1-F04E3C64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ECA-E99B-4A9E-BC4D-A6BE5072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257-C61C-4C5C-924A-E9BE8647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BDD-86C2-43AA-913D-A2F6EFF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B4B-A4C0-412F-B74B-F7D3AE0E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F83-0C5E-4DCD-9518-F9EABA13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4C7-0D17-48C5-A70D-40D23C7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A9F-6F88-48CD-98BF-8390DD5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781-AE4F-4FA6-8BDF-D7ECC4EF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224-C6D8-4941-9157-87D35037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556E-AC50-4C90-BF7D-937C74F34B0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ERVIZI PUBBLICI LOC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i di te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ferimenti all’It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RASPORTI LOCALI</a:t>
            </a:r>
            <a:br>
              <a:rPr sz="32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Legge Bassanini”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Decreto Burla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2720" y="2201760"/>
            <a:ext cx="7270920" cy="425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Separaz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lle funzioni di programmazione e controllo dalla gestione dell’im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Regionalizzazion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l serv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grazione Gomma e f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ffidamenti ai gestori tramite g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servizio necessariamente sussidiato per motivi di 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tutela ambient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a riduzione della congestione del  traffico pri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subsidy-ca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grado di copertura dei costi con tariffe: ≥ 35% dei costi oper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564000" y="4308480"/>
                <a:ext cx="3816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MODALITA’ DI AFFIDAMENTO DEI SPL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rt. 113 TUE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Affidamento con gara multidimensionale ad evidenza pubblic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Affidamento diretto a SPA mista, con scelta del socio privato con g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Affidamento diretto a società in-house (controllo dell’ente locale analogo a quello esercitato sui propri serviz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ntaggi e svantaggi delle tre solu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benefici della concorrenza vs. controllo pubbl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prietà e gestione delle reti in caso di separazione dall’erog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prietà della infrastruttura all’ente locale e gestione delle reti affidata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età interamente pubblica in-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età individuata con gara ad evidenza pub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prietà a società in house e gestione alla stessa (monopolio verticalmente integra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servizi pubblici loca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caratteristiche sotto il profilo econo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99800"/>
            <a:ext cx="7773840" cy="46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Area delimitata di diffusione dei benef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Beni pubblici impuri soggetti a congest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La sfera dell’efficienza e dell’ef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Beni meritori e soggetti a redistribuzione di ge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Le economie di scala e le economie di dimen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3840" cy="13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SPL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natura economic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ni pubblici locali impuri, soggetti a con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inzione al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-outpu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roduzione delle unità del servizio, così come vengono utilizzate dall’utente (viaggiatori/KM, quintali rifiuti rimos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-outpu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nsumo effettivo o “fruizione” che influenza direttamente il benessere individuale (mobilità urbana, pulizia delle strade e tutela dell’ambiente urb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so produttivo di un S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02560" cy="453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Comic Sans MS"/>
              </a:rPr>
              <a:t>Funzione di cost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Comic Sans MS"/>
              </a:rPr>
              <a:t>Indice di x-efficienz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Comic Sans MS"/>
              </a:rPr>
              <a:t>Efficienza dimensional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/Y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9320" y="2590920"/>
                <a:ext cx="4940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;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95280" y="3645000"/>
                <a:ext cx="3340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w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5410080"/>
                <a:ext cx="2616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229720" y="537372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massa critica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PL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uolo nel sistema economico loca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400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 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sumi delle famigli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«utenze civili e domestiche»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gomento della funzione di utilità individuale (soddisfacimento preferenze e bisogni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G), per tutti i consumatori h; G=G(m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 2. 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input per le impres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«utenze industriali»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gomento della funzione di produzione dei beni privati di n imprese in un’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ternalit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ositive o negative che indirettamente producono sull’ambiente d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j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f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G), l=1,…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PL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cessi di agglomerazione urban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PL si inseriscono nel contesto di articolazione urbana e territoriale in cui la Governance locale asseconda lo sviluppo di «aree metropolitane», caratterizzate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vati livelli di concentrazione di popolazione ed alti tassi di urbanizzazio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tazione di strutture e funzioni comples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nse interdipendenze fra le funzioni interne all’area con proiezioni che travalicano i confini istituzionali (mobilità, pendolarismo e sviluppo turist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cate caratterizzazioni di tipo sociale e cult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«Public economics» e analisi dei S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io di corrispondenza (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x-benefit approac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ffetti di spillover, congestione e clubs ottimali e la fornitura di S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imizzazione dei costi di trasporto, di transazione e di in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conomie di scala e di dimensione («ambiti ottimali») e «federalismo funzionale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overnance locale ed efficienza dei SPL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vs. famiglie e imprese dell’area ser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47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 prezzi, la qualità e gli effetti esterni dei S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gomenti delle funzioni di spesa dei consumatori (bilanci delle famiglie) e di costo delle imprese locali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put-efficiency e innov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riduzione dei prezzi, un aumento della qualità e delle esternalità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Efficienza spa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bassamento della frontiera di costo dell’intera area e aumento delle possibilità di prod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PL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lassificazioni e definizioni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52720"/>
            <a:ext cx="7989840" cy="4400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lassificazione S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rt. 113 e 113 bis del 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“rilevanza economica” (distribuzione del Gas e dell’Energia, trasporto pubblico locale e ferroviario regionale, idrico integrato, gestione rifiuti)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li altri (a rilevanza sociale, ex L.142/9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“indispensabili” (Anagrafe, Scuola materna, Nettezza urbana, viabilità e illuminazione pubblica e parchi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a “domanda individuale” (asili nido, giardini zoologici, mense scolastiche, mattatoi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distinzione è controversa sotto il profilo economico ed è quindi “aper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icienza dei SPL e sistema economico lo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78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celta efficient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m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 (i.e. Price-C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Households Cost of living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99"/>
                </a:solidFill>
                <a:latin typeface="Arial"/>
              </a:rPr>
              <a:t>Indice di sostenibilità</a:t>
            </a:r>
            <a:r>
              <a:rPr b="0" i="1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Spesa per SPL su reddito disponibile della famiglia rappresentativa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Costi per le imprese di un settore industriale (distretto, …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i di equilibrio in un mercato oligopolistic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70120" y="5556240"/>
                <a:ext cx="2730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ttri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i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orto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1138320"/>
            <a:ext cx="4680000" cy="4243320"/>
          </a:xfrm>
          <a:prstGeom prst="rect">
            <a:avLst/>
          </a:prstGeom>
          <a:solidFill>
            <a:srgbClr val="ffff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Accesso liberalizzato (no barriere amministr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Condivisione delle reti/infrastrutture essenz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Concorrenza nel e per il mer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Disciplina concorrenziale ex-ante ed ex-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Tutela consumatori+tutela concorr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Contendibilità del controllo delle imprese privatizz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Regolazione pro-concorr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1052640"/>
            <a:ext cx="290520" cy="4535280"/>
          </a:xfrm>
          <a:custGeom>
            <a:avLst/>
            <a:gdLst>
              <a:gd name="textAreaLeft" fmla="*/ 185760 w 290520"/>
              <a:gd name="textAreaRight" fmla="*/ 290880 w 290520"/>
              <a:gd name="textAreaTop" fmla="*/ 118080 h 4535280"/>
              <a:gd name="textAreaBottom" fmla="*/ 4417200 h 45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299736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TTI di REGOLAMENTAZIONE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solidFill>
            <a:srgbClr val="f4faa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Contratti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. Cost-plus: T=a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. Fixed-price: T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. Incentivanti: T=a+bC; 0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Contratti di regolamen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. ROR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[Ricavi-Costi operativi]/Cap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. Price-CAP: PI=RPI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. INTERMEDI: PI=RPI-X+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cesso di liberalizzazione del SP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namica tariffaria (numero indice) nel processo di liberalizzazione dei SPL 1995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P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gg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99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999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003 200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lettricità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. 52/99 “Bersani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8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8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L. 146/00 “Letta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97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Rifiut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D. 22/97 “Ronchi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4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8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cqu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L. 36/96 “Galli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3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3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P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. Lgs. 422/97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“Burlando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RVIZIO IDRICO INTEGRA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Legge Gall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Separ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elle funzioni di programmazione e controllo dalla gestione dell’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orzi di comun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utorità di Ambit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iani di Am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finizione degl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ffidamento ad un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unico gesto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er 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Nuovo metodo tariffar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on copertura di tutti i costi del servizio (tariffa media nazionale (2003): € 0.9, Min: Milano, 0.47 e Max: Livorno, 1.40, all’incirca come Barcell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IFIUT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ecreto Ronch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stituzione di Amb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ffidamento a gestori u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TARSU </a:t>
            </a:r>
            <a:r>
              <a:rPr b="0" lang="it-IT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TIA/R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iettivo ambientale (“chi inquina pag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iettivo economico (trasparenza e legame costi/rica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assaggio è di fatto in “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tand b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” in molte reg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ecreto Let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attività d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import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trasporto e dispaccia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istribu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vendi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gas naturale sono “potenzialmente” 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LIB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pertura dell’utenza (sono tutti idonei dal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bligo di unbundling contabile per tutte le attività del se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golatore: Autorità per l’energia elettrica e il gas (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AEEG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EEG determina le tariffe nei segmenti che precedono la vendita che è in regime di concorrenza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Price-Cap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ELETTRICITA’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“Decreto Bersan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golatore: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AEEG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er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zionalizzazione e semplificazione della struttura tariffaria (utenti residenziali e n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Principio di rispondenza dei cost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una tariffa per ogni fase della filiera, no cross-subsi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cedimento d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riconoscimento dei costi e trasferimentio in tarif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ccanismo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Price-Ca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he vincola i ricavi delle azi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1844640"/>
            <a:ext cx="720720" cy="71640"/>
          </a:xfrm>
          <a:prstGeom prst="rightArrow">
            <a:avLst>
              <a:gd name="adj1" fmla="val 50000"/>
              <a:gd name="adj2" fmla="val 2515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4:18Z</dcterms:created>
  <dc:creator>Petretto</dc:creator>
  <dc:description/>
  <dc:language>en-US</dc:language>
  <cp:lastModifiedBy>Petretto Alessandro</cp:lastModifiedBy>
  <dcterms:modified xsi:type="dcterms:W3CDTF">2006-10-04T12:36:27Z</dcterms:modified>
  <cp:revision>17</cp:revision>
  <dc:subject/>
  <dc:title>I SERVIZI PUBBLICI LOCALI</dc:title>
</cp:coreProperties>
</file>