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6432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3A65-EC13-4DF0-B1C3-CF20FE7D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743-DD61-47C0-8558-ECBF01E9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A28-115C-44A7-8E4B-88FA9113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90C-AA93-4845-B5C5-F658FCE0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BB6-302C-4056-BBC2-F57A0E3E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6BF-6105-4B62-9C53-27CF5910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BB9-991D-46CD-B379-458A44B9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F53-6EEE-4023-A98C-CB944191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75E-8840-43DB-9F5B-D463DE28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71D-C843-43B4-BBB3-D4743B15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5AA-26DD-4D21-B3A2-61992204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F46-0C28-443E-A443-E850582A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DCA1-E08D-43D0-B69C-FE0AB003E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Il decentrament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in Ital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21504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pesa delle Amministrazioni pubblic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 funzio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zi gener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ine pubblico e sicurez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fari economi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zione dell’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itazioni e assetto del terri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ività ricreative, culturali e di cu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ru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zione soci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36232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373392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4100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47480" y="2286000"/>
            <a:ext cx="330336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i pubblici tradi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0760" y="5257800"/>
            <a:ext cx="116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6320" y="3657600"/>
            <a:ext cx="2658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iluppo e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55080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55080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55080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55080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5080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55080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situazione pre-decent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58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Finanza derivat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accentramento prelievo, finanziamento tramite trasferimenti spesso di tipo vincol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Motivazio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: aspetti redistributivi e di efficienza (forti critiche alla gestione dei tributi locali prima della riforma tributaria, centralizzazione Il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inizio anni ’90 i trasferimenti erariali Ror sono il 97% del totale delle entrate locali, quasi tutti vincol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Problemi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crisi finanziaria, scarsa capacità di gestione autonoma del bilancio, finanziamenti ex-post a carico del bilancio dello Stato (decreto Stammati, fiscalizzazione disavanzi finanziari), limitati effetti redistributivi, trasferimenti discrezionali, prevalenza “spesa storica” nei criteri di finanziamento,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fly paper effect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mitato aumento spesa autonomie locale sul totale (2 punti su AT, 30 punti su A centrali) in una situazione che ha visto riduzione spesa pubblica complessiva (interessi) e aumento spesa previdenziale su altre spe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umento concentrato soprattutto sulla componente sviluppo e territorio, meno su componente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eni pubblici tradizionali saldamente nelle mani Stato cent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 quanto si è decentrato? Le cifre del decentr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dipendenti pubblici loc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1093680"/>
            <a:ext cx="640080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pendenti pubblici loc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eve aumento in percentuale: l’accresciuto ruolo delle autonomie locali è avvenuto con dipendenti pubblici costant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 la dinamica retributiva più elevata che a livello locale (contrattazione integrativ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 quanto si è decentrato? Le cifre del decentr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 EN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55080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 ent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ù marcato decentramento sul lato tributario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si la metà delle entrate delle autonomie locali deriva da risorse fiscal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 la quota dei risorse tributarie locali è aumentata di 10 punti sul tota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 quanto sono effettivamente tributi prop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76320"/>
            <a:ext cx="81532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228600" y="316080"/>
            <a:ext cx="8534520" cy="5897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05120" y="12193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l decentramento sul territo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spesa pro-capite (delle attuali regioni) è più o meno uniforme sul territorio (lievemente più alta al Sud, maggiore quella in conto capitale, minore quella corrente, soprattutto sanità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 in media i tributi propri sono doppi al Nord che al Sud, con un divario che è di 4 volte tra la regione più ricca e quella più pov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li obiettivi (tecnici) del decentrame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ponsabilizzare autonomie locali sul proprio bilanc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utonomia a livello tribu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pacità di programmazio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gliorare la rappresentanza degli interessi local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ndere più responsabile finanziariamente il ceto politico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i sono anche ragioni politiche (redistribuzione tra aree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l Decentramento secondo il Tito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 dimensioni finanzia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1036800"/>
            <a:ext cx="838224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81160" y="387360"/>
            <a:ext cx="538632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nfronti internazion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 questo decentramento sarebbe eccessivo in un contesto Europe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struttura delle funzioni allocate alle autonomia locali in Italia sarebbe “fuori linea” rispetto agli altri Paesi europ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li anni ’90, molti Paesi Europei hanno decentralizzato m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1530360"/>
            <a:ext cx="86104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e farlo: la tecnica del decentramen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ATE : processo a casc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stituzione trasferimenti vincolati con trasferimenti senza vincolo di destinazione;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stituzione trasferimenti con compartecipazioni a tributi eraria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stituzioni compartecipazioni con tributi propr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SA: delega funzioni e ampliamento competenze con legge ordinari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zione di leggi tese a rendere direttamente responsabile l’ente locale di eventuali disavanz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e farlo: le modifiche legislative a vari livel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LITICA: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odifica leggi elettoral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sistema semi-presidenziale (elezioni Sindaco, Presidenti Regioni, Province), personalizzazione: rapporto eletto /cittadini  in cerca di maggiore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ountabil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ITUZIONE: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odifica leggi costituzional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er ridefinire e stabilizzare i rapporti tra livelli di gov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tappe principali del decentr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0 , previsione autonomia tributaria Comun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2,  introduzione Ici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3, regionalizzazione contributi sanita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3, elezione diretta del Sindaco e del Presidente Provi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, abolizione trasferimenti vincolati regioni (eccetto FSN), compartecipazione accisa benzine, tributo sui rifiuti, fondo perequati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7-8, Leggi Bassanini sul decentramento amministrativo e decreti delegat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, abolizione contributi regionali, introduzione Irap, introduzione addizionale regionale sull’Irpe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, introduzione addizionale comunale e provinciale sull’Irpe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, Legge Costituzionale per l’elezione diretta Presidente Giunta Regionale e autonomia statutar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, decreto leg.56, abolizione trasferimenti erariali FSN, introduzione compartecipazione IV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 Revisione Titolo V costituzion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 legge la Log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ù di recente: le difficoltà del decentrame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ai definiti i principi generali: crescita contenzioso Stato-Regioni (+ 500% dopo il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pplicazione del 117? Solo in parte, con sentenze della Corte Costitu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pplicazione del 119? NO, anzi passi indietro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03 Blocco delle addizionali Irpef e I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03 Introduzione Alta Commissione di Studi sul federalismo fiscale, Rapporto fin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05 Blocco riparto 56/2000 e previsione sua sostit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05 approvazione legge di riforma Costituzionale sulla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06 Referendum che non accoglie la riforma costituzionale sulla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 quanto si è decentrato? Le cifre del decentr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SP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017720"/>
            <a:ext cx="64008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0T16:27:06Z</dcterms:created>
  <dc:creator>UCSC MILANO</dc:creator>
  <dc:description/>
  <dc:language>en-US</dc:language>
  <cp:lastModifiedBy>Petretto Alessandro</cp:lastModifiedBy>
  <dcterms:modified xsi:type="dcterms:W3CDTF">2006-10-04T14:01:45Z</dcterms:modified>
  <cp:revision>62</cp:revision>
  <dc:subject/>
  <dc:title>La spesa delle Amministrazioni pubbliche  per funzione  </dc:title>
</cp:coreProperties>
</file>