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FOTO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9BEE-EEBD-4D35-B413-D7ADB125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3CD3-A893-4E99-9E25-05034605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78A7-5BB8-4CE5-9E78-0E989091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7621-5A41-4B11-9AFD-C3884388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EC11-FC36-443D-BAD1-240B81C6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13B-B40B-4FB1-BF5D-0E6B74A3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437B-D8DA-40A2-896A-F34404A5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DC4D-A425-47A1-90DF-41890C98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7408-5AAC-4098-AB73-B39F03EC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8B30-C8F2-4EC9-B39D-F3BD682B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9975-93A3-4531-8142-18C0F396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9AD5-7F7D-477B-8E38-2F8449D8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3934-1ADE-4E2C-8E13-1AAF7CBC4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FOTO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FOTO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FOTO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FOTO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FOTO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FOTO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FOTO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FOTO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784692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a Finanza pubblica per livelli di governo, federalismo fiscale e finanza loc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369120" cy="213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P.A. in Ita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ragioni del decentramento, la finanza per diversi livelli di governo e la perequ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eorema del decentramento di O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04000" cy="475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*=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Elettore medi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immetria informativa: E(D)= valore atteso=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 flipV="1">
            <a:off x="1523880" y="2800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1523880" y="4857840"/>
            <a:ext cx="4775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1523880" y="3886200"/>
            <a:ext cx="447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4368960" y="3314880"/>
            <a:ext cx="132048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3352680" y="3314880"/>
            <a:ext cx="1320840" cy="125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2946240" y="388620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3962520" y="388620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4978440" y="388620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2730600" y="4998960"/>
            <a:ext cx="44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3841560" y="49989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4863960" y="4998960"/>
            <a:ext cx="44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 flipV="1">
            <a:off x="3962520" y="262908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 flipH="1" flipV="1">
            <a:off x="3759120" y="262872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2031840" y="3257640"/>
            <a:ext cx="2133720" cy="14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2121480" y="2941560"/>
            <a:ext cx="4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4458240" y="2827440"/>
            <a:ext cx="4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4146480" y="3646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4045320" y="26748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4959000" y="3589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2826720" y="35892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3537000" y="4560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1405800" y="5627520"/>
            <a:ext cx="33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GC=perdita di benessere di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FE=perdita di benessere di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1098360" y="3741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piegazioni ideologiche, politiche e organizzative del decentrament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3840" cy="4465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gioni ideolog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Principio di sussidiar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gioni polit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tecipazione e democraz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ponsabilizzazione politica degli amministra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composizione sociale articol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velli locali, “cattura” e collu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gioni organizz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centramento e divisione del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centramento, sperimentazione e innovazion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4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4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4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4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4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4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4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4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4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4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4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mensioni ottimali dei livelli di governo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teoria dei c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504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membro aggiuntivo di un club diminuisce il costo pro-capite del servizio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minuisce il beneficio pro-capite per effetto della congestion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equilibrio (economie di dimension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1547640" y="4334040"/>
            <a:ext cx="5977080" cy="1801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crificio marginale (in termini di congestione) derivante dall’aumento di un membro del club per il numero dei membri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eneficio  marginale di un’unità di servizio addizionale per il numero delle unità comples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me di finanziamento degli enti decentrat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PlaceHolder 2"/>
          <p:cNvSpPr>
            <a:spLocks noGrp="1"/>
          </p:cNvSpPr>
          <p:nvPr>
            <p:ph/>
          </p:nvPr>
        </p:nvSpPr>
        <p:spPr>
          <a:xfrm>
            <a:off x="711000" y="1714680"/>
            <a:ext cx="7677000" cy="4883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riffe e T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o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·   auton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·   sovrimposte di imposte erariali : (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+</a:t>
            </a:r>
            <a:r>
              <a:rPr b="1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·   addizionali di imposte erariali : (1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1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B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·   compartecipazioni: </a:t>
            </a:r>
            <a:r>
              <a:rPr b="1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B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sferimenti da enti di livello superi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prietà delle imposte local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·   contenere la concorrenza fi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·   contenere l’esportazione fi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·   beneficio o contropres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·   base imponibile distribuita uniform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4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4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4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4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4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4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4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4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4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4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tivazioni dei trasferim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02560" cy="4969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nsufficienza delle risorse locali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ausa di  concorrenza fisca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namica dei costi di produzione (produttività e effetti demografic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vincoli dal centro o istituzionali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rnalità ed effetti di traboccamento oltre i confini amministrativ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nalità redistributive e standard minimi dei servizi (perequativi)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4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4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4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pologia ed effetti dei trasferim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543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Non condizion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lump s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pecifici a destinazione vincol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tegrativ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matching open-ended grants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tegrativi con tet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matching closed-ended gra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VANTAGGI e SVANTAGG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elle tipologie di grants (autonomia vs.efficacia degli incentiv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4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4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4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4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4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4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hemi di trasferimento per la perequazione delle risorse degli enti decentrat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02560" cy="447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delli di Perequ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Performance (differenza tra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bbisogno standar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ttito effettiv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Capacità fiscale (differenza tra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bbisogno standar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ttito potenzial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Potenziale fiscale (pareggiare l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tazioni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risorse complessive (proprie e trasferite) agli enti che decidono di attuare lo stesso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forzo fiscal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4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4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"/>
          <p:cNvSpPr/>
          <p:nvPr/>
        </p:nvSpPr>
        <p:spPr>
          <a:xfrm>
            <a:off x="1476360" y="1168560"/>
            <a:ext cx="6603840" cy="50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se imponibile lo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*= base standard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aliquota fissata dall’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*=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iquota standard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gettito dell’imposta (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*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ed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spesa effet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fabbisogno effet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trasfer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Tr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dotazione complessi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*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dotazione standard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4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li della spesa storica e della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406404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DELLO DELLA SPESA STO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T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S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Tr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G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responsabilità finanziari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“piè di lista”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ì  </a:t>
            </a:r>
            <a:r>
              <a:rPr b="1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PlaceHolder 3"/>
          <p:cNvSpPr>
            <a:spLocks noGrp="1"/>
          </p:cNvSpPr>
          <p:nvPr>
            <p:ph/>
          </p:nvPr>
        </p:nvSpPr>
        <p:spPr>
          <a:xfrm>
            <a:off x="4673160" y="1773360"/>
            <a:ext cx="4219560" cy="4751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LO DELLA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tazione standar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*= t*B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*-T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*B*-t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T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Tr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A*=t*B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 stato non finanzia le inefficienze nella sp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tazione standard differenziata: A*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...x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alisi dei determinant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ici di fabbisogno relativo: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A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= m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n c’è incentivo allo sforzo fiscale autonomo: -t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4368960" y="1557360"/>
            <a:ext cx="0" cy="428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609480" y="155736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4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4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4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4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4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4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4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4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4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4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LO DELLA CAPACITA’ FI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3840" cy="482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A*-t*B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*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imato a livello centrale, come spesa standard delle funzioni attrib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T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Tr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A*-t*B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*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t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ersione “canades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*=t*B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t*B*-t*B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*-B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T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Tr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t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t*B*-t*B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*B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t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4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4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4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4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209680"/>
            <a:ext cx="914400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nità istituzionali per livelli di governo e numero di addet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320" y="2286000"/>
            <a:ext cx="89913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LO della Capacità fiscale (con basi modificabili) e MODELLO del “POTENZIA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3840" cy="51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”vera” base imponibile (potenziale)=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E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evasione o elusione (deduzioni conces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t*B*-t*B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t*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*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B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=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*B*-t*B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t*E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t*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*-B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t*E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entiv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-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lo del Potenz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t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B*-B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T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Tr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t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entivo allo “sforz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scale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 +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4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4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4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4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2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42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2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perequazione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(D.Lgs. 56/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/>
          </p:nvPr>
        </p:nvSpPr>
        <p:spPr>
          <a:xfrm>
            <a:off x="634680" y="1844280"/>
            <a:ext cx="7753320" cy="475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Il gettito della COMPIVA è ripartito in bas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(i) la POP della regione i sul tota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(ii) il criterio della Capacità fiscale (differenza tra base imponibile standard e base imponibile effettiva per aliquota standard) con un correttivo del grado di perequ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(iii) il criterio del Fabbisogno sanitario (differenza tra fabbisogno sanitario standard della regione e fabbisogno standard nazionale med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(iv) il criterio del Fabbisogno non-sanitario (spesa standardizzata regionale meno quella nazionale) con il correttivo dimensional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4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4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4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41" name=""/>
              <p:cNvSpPr txBox="1"/>
              <p:nvPr/>
            </p:nvSpPr>
            <p:spPr>
              <a:xfrm>
                <a:off x="179280" y="1138320"/>
                <a:ext cx="8785440" cy="34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VA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[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VA</m:t>
                            </m:r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−</m:t>
                        </m:r>
                        <m:r>
                          <m:t xml:space="preserve">βt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A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GSAN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V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VA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42" name=""/>
          <p:cNvSpPr/>
          <p:nvPr/>
        </p:nvSpPr>
        <p:spPr>
          <a:xfrm>
            <a:off x="592200" y="5084640"/>
            <a:ext cx="6349320" cy="13424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IV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&lt;IVA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 riceve un trasferimento, T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&gt;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IV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&gt;IVA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T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viene in corrispondenza ridotto IV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3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257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Comma 1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Potestà legislativa esercitata da Stato e Region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Comma 2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egislazione esclusiva allo Stato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materie riguardanti beni pubblici con diffusione dei benefici sul territorio nazionale o beni privati di INTERESSE NAZIONA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Comma 3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egislazione concorrent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materie riguardanti beni pubblici con diffusione dei benefici sul territorio regionale, ma con i limiti posti alla devoluzione dall’INTERESSE NAZIONALE (diritti civili e sociali e obbiettivi generali 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Comma 4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Spetta alle Regioni la potestà legislativa (</a:t>
            </a:r>
            <a:r>
              <a:rPr b="1" i="1" lang="en-US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egislazione esclusiva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n riferimento ad ogni materia non espressamente riservata alla legislazione dello stato. Sono materie che riguardano beni con diffusione dei benefici regionale o local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0" y="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OLO V, ART. 117: L’ASSEGNAZIONE DELLA COMPETENZA LEGISL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4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076960" cy="5562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a ester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mmigrazi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……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Difesa e forze armat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Moneta, sistema finanziario e Debito pubbl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Ordine pubblico e sicurezza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Tutela della concorrenz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tributar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……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Tutela dell’ambiente, dell’ecosistema e dei beni cultural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Previdenza socia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Livelli essenziali delle prestazioni concernenti i diritti civili e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sociali ..uniformità sul territorio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Perequazione delle risorse finanziar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0" y="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ETENZA ESCLUSIVA  STA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4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7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8076960" cy="5181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ommercio con l’este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Tutela e sicurezza del lavo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Istruzi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Professioni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icerca scientifica e tecnologi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Tutela della salu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Governo del territor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Produzione e distribuzione nazionale (sic!) dell’energ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Previdenza complementare e integra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Armonizzazione dei bilanci pubblici e coordinamento dell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finanza pubblica e del sistema tributar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redito a carattere regiona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0" y="0"/>
            <a:ext cx="91440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OMPETENZA CONCORREN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4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610480" cy="5791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grico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igia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ccia e pes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mercio e merc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dilizia ed urbani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ergia, distribuzione reg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oste regionali e loc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truzione e formazione profess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niere, cave e torbi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sei e biblioteche region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olitiche del lavoro e dell’occup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lizia locale e urb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ti e aeroporti civili di rilievo reg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ti regionali di traspo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sporto pubblico lo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ervizi sociali, assistenza e diritto allo 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ENZA ESCLUSIVA REG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4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4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076960" cy="4952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Le funzioni amministrative sono attribuite ai Comuni salvo che, per assicurarne l’esercizio unitario, siano conferite a ….</a:t>
            </a:r>
            <a:r>
              <a:rPr b="1" i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enti di livello superiore..fino allo Stato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 principi di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- Sussidiarit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- Differenziazione </a:t>
            </a:r>
            <a:r>
              <a:rPr b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Th. del decentr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- Adeguatezza (gli </a:t>
            </a:r>
            <a:r>
              <a:rPr b="1" i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spillover effects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l problema della dissociazione tra responsabilItà legislativa e amministrativa (che comporta i costi)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-  le funzioni proprie 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- quelle conferite (programmazione e gestione)- La “procedura Bassanini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0" y="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. 118: IL DECENTRAMENTO DELLE FUNZIONI AMMINIST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4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3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305920" cy="5257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“…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.I Comuni, le Province, le Città metropolitane e le Regioni hanno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risorse autonom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. Stabiliscono e applicano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tributi ed entrate propri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in armonia con la Costituzione e secondo i principi di coordinamento della finanza pubblica e del sistema tributario. Dispongono di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tecipazioni al gettito di tributi erariali riferito al loro territorio"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La legge dello Stato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stituisce un fondo perequativo senza vincoli di destinazione, per i territori con minor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à fiscale per abitant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Le risorse derivanti dalle fonti di cui ai commi precedenti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onsentono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ai Comuni, alle Province, alle Città metropolitane e alle Regioni di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finanziare integralmente le funzioni pubbliche loro attribuite……”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Per promuovere lo sviluppo economico…la coesione sociale e la solidarietà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….interventi speciali dello Stato…”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0" y="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. 119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FINANZIAMENTO DELLE FUN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4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t. 119 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utonomia tributaria degli enti decentr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47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Attribuzione della potestà legislativa esclusiva allo stato limitatamente ai tributi erariali e coordinamento della FP (principi fondamentali del Sistema Tributar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Attribuzione della potestà legislativa esclusiva alle regioni per quanto riguarda gli altri tributi (regionali e locali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Anche i Comuni, le Province, le Città metropolitane hanno una non trascurabile autonomia normativa in materia tributa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4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4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4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2480" y="1266840"/>
            <a:ext cx="541044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628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ità istituzionali Amm. Centrale e locale per reg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833480" y="1297080"/>
            <a:ext cx="5253120" cy="5211000"/>
            <a:chOff x="1833480" y="1297080"/>
            <a:chExt cx="5253120" cy="5211000"/>
          </a:xfrm>
        </p:grpSpPr>
        <p:grpSp>
          <p:nvGrpSpPr>
            <p:cNvPr id="49" name=""/>
            <p:cNvGrpSpPr/>
            <p:nvPr/>
          </p:nvGrpSpPr>
          <p:grpSpPr>
            <a:xfrm>
              <a:off x="1833480" y="1297080"/>
              <a:ext cx="5253120" cy="826920"/>
              <a:chOff x="1833480" y="1297080"/>
              <a:chExt cx="5253120" cy="826920"/>
            </a:xfrm>
          </p:grpSpPr>
          <p:sp>
            <p:nvSpPr>
              <p:cNvPr id="50" name=""/>
              <p:cNvSpPr/>
              <p:nvPr/>
            </p:nvSpPr>
            <p:spPr>
              <a:xfrm>
                <a:off x="2074320" y="131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02760" y="131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660400" y="1309680"/>
                <a:ext cx="538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. Centra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197520" y="1309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427920" y="1309680"/>
                <a:ext cx="393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. local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19960" y="1309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18560" y="1317600"/>
                <a:ext cx="398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vi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716000" y="131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031360" y="1317600"/>
                <a:ext cx="35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un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382720" y="131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640480" y="1317600"/>
                <a:ext cx="19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S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833440" y="131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046920" y="1317600"/>
                <a:ext cx="148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193800" y="131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454080" y="1317600"/>
                <a:ext cx="455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niversità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906600" y="131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833480" y="1297080"/>
                <a:ext cx="158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833480" y="1297080"/>
                <a:ext cx="158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49320" y="1297080"/>
                <a:ext cx="7714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20800" y="1297080"/>
                <a:ext cx="82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833480" y="165276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620800" y="16527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20800" y="16527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33480" y="1312920"/>
                <a:ext cx="1584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620800" y="1312920"/>
                <a:ext cx="828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629080" y="1297080"/>
                <a:ext cx="7603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389400" y="1297080"/>
                <a:ext cx="79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62908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62908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637000" y="165276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38940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38940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629080" y="1312920"/>
                <a:ext cx="792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389400" y="1312920"/>
                <a:ext cx="792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397320" y="1297080"/>
                <a:ext cx="6811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078440" y="1297080"/>
                <a:ext cx="79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39732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9732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405240" y="165276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844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07844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397320" y="1312920"/>
                <a:ext cx="792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078440" y="1312920"/>
                <a:ext cx="792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086360" y="1297080"/>
                <a:ext cx="703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789440" y="1297080"/>
                <a:ext cx="79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08636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08636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94280" y="165276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78944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78944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86360" y="1312920"/>
                <a:ext cx="792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789440" y="1312920"/>
                <a:ext cx="792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797360" y="1297080"/>
                <a:ext cx="6015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98920" y="1297080"/>
                <a:ext cx="82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79736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79736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805280" y="165276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398920" y="16527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398920" y="16527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797360" y="1312920"/>
                <a:ext cx="792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398920" y="1312920"/>
                <a:ext cx="828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407200" y="1297080"/>
                <a:ext cx="595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02280" y="1297080"/>
                <a:ext cx="158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02280" y="1297080"/>
                <a:ext cx="158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07200" y="1652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07200" y="1652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16560" y="165276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002280" y="16527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407200" y="1312920"/>
                <a:ext cx="936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002280" y="1312920"/>
                <a:ext cx="1584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18120" y="1297080"/>
                <a:ext cx="390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08720" y="1297080"/>
                <a:ext cx="158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408720" y="1297080"/>
                <a:ext cx="158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1812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01812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026040" y="165276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408720" y="16527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18120" y="1312920"/>
                <a:ext cx="792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08720" y="1312920"/>
                <a:ext cx="1584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24560" y="1297080"/>
                <a:ext cx="6444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68960" y="1297080"/>
                <a:ext cx="17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068960" y="1297080"/>
                <a:ext cx="17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42456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2456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432480" y="165276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68960" y="16527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424560" y="1312920"/>
                <a:ext cx="792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068960" y="1312920"/>
                <a:ext cx="1764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75400" y="167148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iemon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504520" y="1671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64520" y="166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921400" y="1665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33120" y="1665360"/>
                <a:ext cx="25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.33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89800" y="1665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19280" y="1671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76160" y="1671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031720" y="1671480"/>
                <a:ext cx="25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.20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287320" y="1671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642280" y="16714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54240" y="1671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51400" y="1671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308280" y="1671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657840" y="1671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714360" y="1671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33480" y="166068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620800" y="16606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20800" y="16606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33480" y="186372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620800" y="1863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620800" y="1863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833480" y="166860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620800" y="166860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2908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62908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637000" y="166068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8940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38940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2908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62908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637000" y="186372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38940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38940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29080" y="1668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89400" y="1668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39732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9732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405240" y="166068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07844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07844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39732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9732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405240" y="186372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07844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7844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397320" y="1668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078440" y="1668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08636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08636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094280" y="166068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8944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78944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08636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8636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094280" y="186372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78944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8944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086360" y="1668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789440" y="1668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9736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79736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805280" y="166068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398920" y="16606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398920" y="16606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79736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79736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05280" y="186372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398920" y="1863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98920" y="1863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97360" y="1668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98920" y="166860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407200" y="1660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407200" y="1660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416560" y="166068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02280" y="166068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07200" y="1863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407200" y="1863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416560" y="186372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002280" y="186372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407200" y="1668600"/>
                <a:ext cx="936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02280" y="166860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1812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1812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26040" y="166068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408720" y="166068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01812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01812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6040" y="186372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08720" y="186372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018120" y="1668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408720" y="166860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42456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2456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432480" y="166068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068960" y="166068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2456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42456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32480" y="186372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068960" y="186372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424560" y="1668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068960" y="1668600"/>
                <a:ext cx="176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075040" y="1884240"/>
                <a:ext cx="256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alle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074680" y="2001960"/>
                <a:ext cx="358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’Aost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31440" y="2001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64520" y="187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921400" y="187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632400" y="187632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9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6880" y="187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319280" y="1884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376160" y="1884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031360" y="188424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833480" y="1871640"/>
              <a:ext cx="5253120" cy="598320"/>
              <a:chOff x="1833480" y="1871640"/>
              <a:chExt cx="5253120" cy="598320"/>
            </a:xfrm>
          </p:grpSpPr>
          <p:sp>
            <p:nvSpPr>
              <p:cNvPr id="251" name=""/>
              <p:cNvSpPr/>
              <p:nvPr/>
            </p:nvSpPr>
            <p:spPr>
              <a:xfrm>
                <a:off x="5144400" y="1884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641920" y="1884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698440" y="1884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51400" y="1884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308280" y="1884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57840" y="1884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14360" y="1884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833480" y="187164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620800" y="18716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620800" y="18716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33480" y="211464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620800" y="21146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620800" y="21146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833480" y="1879560"/>
                <a:ext cx="1584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620800" y="1879560"/>
                <a:ext cx="828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62908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62908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637000" y="187164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38940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38940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62908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62908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637000" y="211464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38940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38940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629080" y="1879560"/>
                <a:ext cx="792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89400" y="1879560"/>
                <a:ext cx="792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9732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39732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05240" y="187164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7844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7844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39732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39732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05240" y="211464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07844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07844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397320" y="1879560"/>
                <a:ext cx="792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078440" y="1879560"/>
                <a:ext cx="792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08636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08636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094280" y="187164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8944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8944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08636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08636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094280" y="211464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8944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78944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086360" y="1879560"/>
                <a:ext cx="792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89440" y="1879560"/>
                <a:ext cx="792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9736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9736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05280" y="187164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398920" y="18716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398920" y="18716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9736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9736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05280" y="211464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98920" y="21146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98920" y="21146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97360" y="1879560"/>
                <a:ext cx="792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398920" y="1879560"/>
                <a:ext cx="828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07200" y="1871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07200" y="1871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16560" y="187164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02280" y="18716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407200" y="2114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407200" y="2114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16560" y="211464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002280" y="21146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407200" y="1879560"/>
                <a:ext cx="93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002280" y="1879560"/>
                <a:ext cx="1584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01812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1812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26040" y="187164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408720" y="18716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1812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01812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026040" y="211464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408720" y="21146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18120" y="1879560"/>
                <a:ext cx="792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408720" y="1879560"/>
                <a:ext cx="1584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42456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2456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432480" y="187164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068960" y="18716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42456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42456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432480" y="211464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68960" y="21146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424560" y="1879560"/>
                <a:ext cx="792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068960" y="1879560"/>
                <a:ext cx="1764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6480" y="2135160"/>
                <a:ext cx="480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ombard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555280" y="2135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864160" y="212724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78280" y="2127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633120" y="2127240"/>
                <a:ext cx="25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.7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89800" y="2127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320000" y="21351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33400" y="2135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31720" y="2135160"/>
                <a:ext cx="25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.54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287320" y="2135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42280" y="21351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54240" y="2135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52120" y="21351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365160" y="2135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57840" y="2135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714360" y="2135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33480" y="212256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620800" y="21225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620800" y="21225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833480" y="232740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620800" y="232740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620800" y="232740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833480" y="2130480"/>
                <a:ext cx="1584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20800" y="2130480"/>
                <a:ext cx="828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2908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2908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7000" y="212256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38940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38940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2908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62908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637000" y="232740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38940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38940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629080" y="21304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389400" y="21304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39732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39732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405240" y="212256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07844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07844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39732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39732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405240" y="232740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07844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07844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397320" y="21304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78440" y="21304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8636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8636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94280" y="212256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8944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8944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8636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08636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094280" y="232740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8944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8944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086360" y="21304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89440" y="21304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9736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9736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05280" y="212256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8920" y="21225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98920" y="21225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9736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9736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805280" y="232740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398920" y="232740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398920" y="232740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97360" y="21304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398920" y="2130480"/>
                <a:ext cx="828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407200" y="2122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407200" y="2122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416560" y="212256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002280" y="21225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407200" y="2327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407200" y="2327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16560" y="232740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002280" y="232740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07200" y="2130480"/>
                <a:ext cx="936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002280" y="2130480"/>
                <a:ext cx="1584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01812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01812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026040" y="212256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08720" y="21225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1812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1812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026040" y="232740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408720" y="232740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018120" y="21304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408720" y="2130480"/>
                <a:ext cx="1584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42456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42456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432480" y="212256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068960" y="21225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42456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42456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432480" y="232740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068960" y="232740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24560" y="21304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068960" y="2130480"/>
                <a:ext cx="1764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074320" y="2347920"/>
                <a:ext cx="369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olzan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442600" y="2347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864520" y="2340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921400" y="2340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632760" y="23400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3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1833480" y="2335320"/>
              <a:ext cx="5253120" cy="556920"/>
              <a:chOff x="1833480" y="2335320"/>
              <a:chExt cx="5253120" cy="556920"/>
            </a:xfrm>
          </p:grpSpPr>
          <p:sp>
            <p:nvSpPr>
              <p:cNvPr id="452" name=""/>
              <p:cNvSpPr/>
              <p:nvPr/>
            </p:nvSpPr>
            <p:spPr>
              <a:xfrm>
                <a:off x="3804120" y="2340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19280" y="234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376160" y="2347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031360" y="23479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1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201640" y="2347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641920" y="234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698440" y="2347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51400" y="234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308280" y="2347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657840" y="234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714360" y="2347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833480" y="233532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620800" y="23353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620800" y="23353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833480" y="253836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620800" y="25383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620800" y="25383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33480" y="234324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620800" y="234324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62908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62908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637000" y="233532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38940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38940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62908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62908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637000" y="253836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38940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38940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629080" y="23432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389400" y="23432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39732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39732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405240" y="233532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07844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07844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39732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39732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405240" y="253836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07844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07844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397320" y="23432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078440" y="23432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08636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08636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94280" y="233532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78944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78944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08636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08636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094280" y="253836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78944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78944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086360" y="23432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789440" y="23432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79736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79736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805280" y="233532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98920" y="23353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398920" y="23353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79736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79736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805280" y="253836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398920" y="25383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398920" y="25383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797360" y="23432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398920" y="234324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07200" y="2335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407200" y="2335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416560" y="233532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02280" y="233532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07200" y="2538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407200" y="2538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16560" y="253836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002280" y="2538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07200" y="2343240"/>
                <a:ext cx="936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002280" y="234324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01812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01812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026040" y="233532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408720" y="233532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01812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1812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26040" y="253836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08720" y="2538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18120" y="23432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408720" y="234324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42456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42456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432480" y="233532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068960" y="233532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2456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42456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432480" y="253836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068960" y="2538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424560" y="23432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68960" y="2343240"/>
                <a:ext cx="176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074320" y="2558880"/>
                <a:ext cx="294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ent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368080" y="2558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864520" y="2552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921400" y="2552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632760" y="25527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6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804120" y="2552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319280" y="2558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376160" y="2558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031360" y="25588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2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201640" y="2558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641920" y="2558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698440" y="2558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51400" y="2558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308280" y="2558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657840" y="2558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714360" y="2558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33480" y="254628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620800" y="25462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620800" y="25462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833480" y="2749680"/>
                <a:ext cx="787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620800" y="274968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620800" y="274968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833480" y="255420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620800" y="255420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62908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62908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637000" y="254628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38940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38940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62908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62908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637000" y="2749680"/>
                <a:ext cx="752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38940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38940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629080" y="255420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389400" y="255420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39732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39732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05240" y="254628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7844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07844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39732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9732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405240" y="2749680"/>
                <a:ext cx="673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7844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07844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397320" y="255420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078440" y="255420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08636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08636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094280" y="254628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78944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78944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08636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08636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94280" y="2749680"/>
                <a:ext cx="695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8944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8944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086360" y="255420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89440" y="255420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9736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79736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805280" y="254628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398920" y="25462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398920" y="25462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79736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79736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05280" y="2749680"/>
                <a:ext cx="593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8920" y="274968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398920" y="274968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797360" y="255420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398920" y="255420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407200" y="2546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407200" y="2546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416560" y="254628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002280" y="254628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407200" y="2749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07200" y="2749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416560" y="2749680"/>
                <a:ext cx="585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002280" y="274968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407200" y="2554200"/>
                <a:ext cx="936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002280" y="255420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01812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01812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026040" y="254628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408720" y="254628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01812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01812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026040" y="2749680"/>
                <a:ext cx="382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408720" y="274968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018120" y="255420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408720" y="255420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42456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42456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432480" y="254628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068960" y="254628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42456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42456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432480" y="2749680"/>
                <a:ext cx="6364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68960" y="274968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24560" y="255420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068960" y="2554200"/>
                <a:ext cx="176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074680" y="2770200"/>
                <a:ext cx="12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1833480" y="2759040"/>
              <a:ext cx="5253120" cy="423720"/>
              <a:chOff x="1833480" y="2759040"/>
              <a:chExt cx="5253120" cy="423720"/>
            </a:xfrm>
          </p:grpSpPr>
          <p:sp>
            <p:nvSpPr>
              <p:cNvPr id="653" name=""/>
              <p:cNvSpPr/>
              <p:nvPr/>
            </p:nvSpPr>
            <p:spPr>
              <a:xfrm>
                <a:off x="2176920" y="27702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800" spc="-1" strike="noStrike">
                    <a:solidFill>
                      <a:srgbClr val="000000"/>
                    </a:solidFill>
                    <a:latin typeface="Arial"/>
                  </a:rPr>
                  <a:t>net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397960" y="2770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864520" y="2763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921400" y="2763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632760" y="27637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69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04120" y="2763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319280" y="2770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376160" y="2770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031360" y="27702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8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201640" y="2770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642280" y="27702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754240" y="2770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251400" y="2770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308280" y="2770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657840" y="2770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14360" y="2770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833480" y="275904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620800" y="27590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620800" y="27590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833480" y="296244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620800" y="29624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620800" y="29624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833480" y="276696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620800" y="276696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62908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62908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637000" y="275904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38940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38940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62908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62908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637000" y="296244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38940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38940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629080" y="27669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389400" y="27669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39732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39732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405240" y="275904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07844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07844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39732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39732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405240" y="296244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7844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07844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397320" y="27669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078440" y="27669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08636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08636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094280" y="275904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78944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78944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08636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08636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094280" y="296244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78944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78944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086360" y="27669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789440" y="27669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79736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79736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805280" y="275904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398920" y="27590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398920" y="27590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79736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79736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805280" y="296244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398920" y="29624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398920" y="29624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797360" y="27669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398920" y="276696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407200" y="2759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407200" y="2759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416560" y="275904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002280" y="27590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407200" y="2962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407200" y="2962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416560" y="296244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02280" y="29624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407200" y="2766960"/>
                <a:ext cx="936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002280" y="276696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01812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01812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026040" y="275904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408720" y="27590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01812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01812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26040" y="296244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408720" y="29624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018120" y="27669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408720" y="276696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42456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42456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432480" y="275904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068960" y="27590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42456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42456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432480" y="296244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068960" y="29624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424560" y="27669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068960" y="2766960"/>
                <a:ext cx="176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075040" y="2981160"/>
                <a:ext cx="22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riul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296440" y="298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864520" y="2975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921400" y="2975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632760" y="297504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7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04120" y="2975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319280" y="298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376160" y="298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031360" y="29811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201640" y="298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641920" y="298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698440" y="298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251400" y="298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308280" y="298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657840" y="298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714360" y="298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833480" y="297036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620800" y="29703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620800" y="29703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833480" y="317484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620800" y="31748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620800" y="31748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833480" y="2978280"/>
                <a:ext cx="1584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620800" y="2978280"/>
                <a:ext cx="828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62908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62908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637000" y="297036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8940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8940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62908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62908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637000" y="317484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38940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38940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629080" y="29782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389400" y="29782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39732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39732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405240" y="297036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07844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07844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39732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39732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405240" y="317484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07844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7844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397320" y="29782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078440" y="29782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08636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08636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094280" y="297036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78944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78944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08636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08636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094280" y="317484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78944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78944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086360" y="29782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789440" y="29782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9736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79736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805280" y="297036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398920" y="29703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398920" y="29703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79736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79736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805280" y="317484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398920" y="31748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398920" y="31748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797360" y="29782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398920" y="2978280"/>
                <a:ext cx="828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407200" y="2970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407200" y="2970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416560" y="297036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002280" y="2970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407200" y="3174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407200" y="3174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16560" y="317484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00228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407200" y="2978280"/>
                <a:ext cx="936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02280" y="2978280"/>
                <a:ext cx="1584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01812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01812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026040" y="297036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408720" y="2970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1812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01812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026040" y="317484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40872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018120" y="29782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408720" y="2978280"/>
                <a:ext cx="1584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42456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42456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432480" y="297036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68960" y="2970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456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2456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1833480" y="2978280"/>
              <a:ext cx="5253120" cy="626760"/>
              <a:chOff x="1833480" y="2978280"/>
              <a:chExt cx="5253120" cy="626760"/>
            </a:xfrm>
          </p:grpSpPr>
          <p:sp>
            <p:nvSpPr>
              <p:cNvPr id="854" name=""/>
              <p:cNvSpPr/>
              <p:nvPr/>
            </p:nvSpPr>
            <p:spPr>
              <a:xfrm>
                <a:off x="6432480" y="317484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06896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424560" y="29782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068960" y="2978280"/>
                <a:ext cx="1764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076120" y="3195720"/>
                <a:ext cx="30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gur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380680" y="319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864520" y="3187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921400" y="3187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32760" y="3187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89640" y="31878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8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804120" y="3187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319280" y="319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376160" y="319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031360" y="31957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3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201640" y="319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641920" y="319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698440" y="319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251400" y="319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308280" y="319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657840" y="319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714360" y="319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833480" y="3182760"/>
                <a:ext cx="7873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620800" y="31827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620800" y="31827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833480" y="338616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620800" y="33861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620800" y="33861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833480" y="319104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620800" y="319104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62908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62908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637000" y="3182760"/>
                <a:ext cx="7524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38940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38940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62908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62908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637000" y="338616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38940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38940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629080" y="31910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389400" y="31910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39732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39732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405240" y="3182760"/>
                <a:ext cx="6732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07844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07844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39732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39732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405240" y="338616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07844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07844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397320" y="31910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078440" y="31910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08636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08636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094280" y="3182760"/>
                <a:ext cx="695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78944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78944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08636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08636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094280" y="338616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8944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78944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086360" y="31910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789440" y="31910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79736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79736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805280" y="3182760"/>
                <a:ext cx="5936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398920" y="31827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398920" y="31827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79736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79736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805280" y="338616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398920" y="33861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398920" y="33861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797360" y="31910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398920" y="319104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407200" y="31827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407200" y="31827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416560" y="3182760"/>
                <a:ext cx="585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002280" y="3182760"/>
                <a:ext cx="158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407200" y="3386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407200" y="3386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416560" y="338616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002280" y="33861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407200" y="3191040"/>
                <a:ext cx="936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002280" y="319104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01812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01812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026040" y="3182760"/>
                <a:ext cx="3826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408720" y="3182760"/>
                <a:ext cx="158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01812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01812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026040" y="338616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408720" y="33861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018120" y="31910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408720" y="319104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42456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42456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432480" y="3182760"/>
                <a:ext cx="6364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068960" y="3182760"/>
                <a:ext cx="176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42456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42456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432480" y="338616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068960" y="33861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424560" y="31910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068960" y="3191040"/>
                <a:ext cx="176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074680" y="3406680"/>
                <a:ext cx="279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mil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351880" y="3406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864520" y="339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921400" y="3398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632760" y="33987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42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804120" y="3398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19280" y="3406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76160" y="3406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31360" y="34066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4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201640" y="3406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642280" y="34066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754240" y="3406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251400" y="3406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308280" y="3406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57840" y="3406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714360" y="3406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833480" y="339408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620800" y="33940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620800" y="33940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833480" y="359712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620800" y="35971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620800" y="35971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833480" y="340200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620800" y="340200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62908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62908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637000" y="339408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38940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38940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62908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62908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637000" y="359712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38940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38940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629080" y="34020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389400" y="34020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39732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39732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405240" y="339408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07844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07844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39732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39732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405240" y="359712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07844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07844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397320" y="34020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078440" y="34020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08636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08636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094280" y="339408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78944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78944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08636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08636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094280" y="359712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78944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78944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086360" y="34020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789440" y="34020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79736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79736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805280" y="339408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398920" y="33940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398920" y="33940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79736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79736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05280" y="359712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98920" y="35971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98920" y="35971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797360" y="34020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398920" y="340200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07200" y="3394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07200" y="3394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16560" y="339408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002280" y="339408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407200" y="3597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407200" y="3597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416560" y="359712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002280" y="359712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407200" y="3402000"/>
                <a:ext cx="936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002280" y="340200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01812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01812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026040" y="339408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408720" y="339408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01812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01812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026040" y="359712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408720" y="359712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018120" y="34020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408720" y="340200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42456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1833480" y="3394080"/>
              <a:ext cx="5253120" cy="636480"/>
              <a:chOff x="1833480" y="3394080"/>
              <a:chExt cx="5253120" cy="636480"/>
            </a:xfrm>
          </p:grpSpPr>
          <p:sp>
            <p:nvSpPr>
              <p:cNvPr id="1055" name=""/>
              <p:cNvSpPr/>
              <p:nvPr/>
            </p:nvSpPr>
            <p:spPr>
              <a:xfrm>
                <a:off x="642456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432480" y="339408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068960" y="339408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42456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42456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432480" y="359712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068960" y="359712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424560" y="34020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068960" y="3402000"/>
                <a:ext cx="176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074680" y="3618000"/>
                <a:ext cx="392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oscan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466360" y="3618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864520" y="3611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21400" y="3611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632760" y="36115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8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804120" y="3611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320000" y="36180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433400" y="3618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031360" y="36180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8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201640" y="3618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642280" y="36180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754240" y="3618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251400" y="3618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308280" y="3618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657840" y="3618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714360" y="3618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833480" y="3605040"/>
                <a:ext cx="7873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20800" y="360504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20800" y="360504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33480" y="3808440"/>
                <a:ext cx="787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620800" y="380844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620800" y="380844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833480" y="361332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620800" y="361332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62908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62908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37000" y="3605040"/>
                <a:ext cx="7524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38940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8940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62908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62908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637000" y="3808440"/>
                <a:ext cx="752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38940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38940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629080" y="361332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389400" y="361332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39732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39732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405240" y="3605040"/>
                <a:ext cx="6732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07844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07844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39732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39732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405240" y="3808440"/>
                <a:ext cx="673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07844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07844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397320" y="361332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078440" y="361332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08636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08636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094280" y="3605040"/>
                <a:ext cx="695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78944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78944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08636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08636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094280" y="3808440"/>
                <a:ext cx="695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78944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78944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086360" y="361332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789440" y="361332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79736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79736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805280" y="3605040"/>
                <a:ext cx="5936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398920" y="360504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398920" y="360504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79736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79736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805280" y="3808440"/>
                <a:ext cx="593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398920" y="380844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398920" y="380844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797360" y="361332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398920" y="361332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07200" y="360504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407200" y="360504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416560" y="3605040"/>
                <a:ext cx="585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002280" y="3605040"/>
                <a:ext cx="158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407200" y="3808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407200" y="3808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416560" y="3808440"/>
                <a:ext cx="585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002280" y="3808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407200" y="3613320"/>
                <a:ext cx="936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002280" y="361332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01812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01812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026040" y="3605040"/>
                <a:ext cx="3826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408720" y="3605040"/>
                <a:ext cx="158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01812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01812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026040" y="3808440"/>
                <a:ext cx="382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408720" y="3808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018120" y="361332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408720" y="361332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42456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42456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432480" y="3605040"/>
                <a:ext cx="6364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068960" y="3605040"/>
                <a:ext cx="176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456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456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432480" y="3808440"/>
                <a:ext cx="6364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068960" y="3808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424560" y="361332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068960" y="3613320"/>
                <a:ext cx="176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075760" y="3828960"/>
                <a:ext cx="328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mbr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2403000" y="3828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864520" y="3822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921400" y="3822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632760" y="382284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2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804120" y="3822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319280" y="3828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376160" y="3828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031360" y="38289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144400" y="3828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641920" y="3828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698440" y="3828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251400" y="3828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308280" y="3828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657840" y="3828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714360" y="3828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833480" y="381780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2620800" y="381780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620800" y="381780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833480" y="4021200"/>
                <a:ext cx="787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620800" y="402120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620800" y="402120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833480" y="382572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620800" y="382572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62908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62908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637000" y="381780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38940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38940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62908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62908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637000" y="4021200"/>
                <a:ext cx="752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38940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38940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629080" y="382572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389400" y="382572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39732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39732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405240" y="381780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7844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7844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39732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39732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405240" y="4021200"/>
                <a:ext cx="673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07844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07844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397320" y="382572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078440" y="382572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08636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08636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094280" y="381780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78944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78944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08636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08636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094280" y="4021200"/>
                <a:ext cx="695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78944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78944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086360" y="382572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789440" y="382572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79736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479736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805280" y="381780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398920" y="381780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398920" y="381780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79736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79736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805280" y="4021200"/>
                <a:ext cx="593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398920" y="402120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398920" y="402120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797360" y="382572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398920" y="382572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407200" y="3817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407200" y="3817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416560" y="381780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002280" y="381780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407200" y="4021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407200" y="4021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416560" y="4021200"/>
                <a:ext cx="585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002280" y="40212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407200" y="3825720"/>
                <a:ext cx="936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002280" y="382572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01812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01812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026040" y="381780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408720" y="381780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01812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01812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026040" y="4021200"/>
                <a:ext cx="382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1833480" y="3817800"/>
              <a:ext cx="5253120" cy="635040"/>
              <a:chOff x="1833480" y="3817800"/>
              <a:chExt cx="5253120" cy="635040"/>
            </a:xfrm>
          </p:grpSpPr>
          <p:sp>
            <p:nvSpPr>
              <p:cNvPr id="1256" name=""/>
              <p:cNvSpPr/>
              <p:nvPr/>
            </p:nvSpPr>
            <p:spPr>
              <a:xfrm>
                <a:off x="6408720" y="40212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018120" y="382572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408720" y="382572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42456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42456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432480" y="381780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068960" y="381780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42456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42456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432480" y="4021200"/>
                <a:ext cx="6364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068960" y="402120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424560" y="382572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068960" y="3825720"/>
                <a:ext cx="176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074320" y="4041720"/>
                <a:ext cx="340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arch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412360" y="404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864520" y="40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921400" y="4035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632760" y="40356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0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804120" y="4035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319280" y="404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376160" y="404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031360" y="40417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4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201640" y="404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642280" y="404172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754240" y="404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251400" y="404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308280" y="404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657840" y="404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714360" y="404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833480" y="403056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620800" y="40305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620800" y="40305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833480" y="423396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620800" y="42339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620800" y="42339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833480" y="403848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620800" y="403848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62908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262908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637000" y="403056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38940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38940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62908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62908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637000" y="423396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38940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38940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629080" y="40384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389400" y="40384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39732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39732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405240" y="403056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407844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407844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39732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39732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3405240" y="423396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407844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07844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397320" y="40384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078440" y="40384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08636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08636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094280" y="403056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78944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78944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08636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08636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094280" y="423396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78944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78944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086360" y="40384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789440" y="40384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79736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79736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805280" y="403056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398920" y="40305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398920" y="40305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79736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479736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4805280" y="423396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398920" y="42339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398920" y="42339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797360" y="40384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398920" y="403848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407200" y="4030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407200" y="4030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416560" y="403056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002280" y="40305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407200" y="4233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407200" y="4233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416560" y="423396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002280" y="42339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407200" y="4038480"/>
                <a:ext cx="936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002280" y="403848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01812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01812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026040" y="403056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408720" y="40305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01812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01812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026040" y="423396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408720" y="42339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018120" y="40384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408720" y="403848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42456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42456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432480" y="403056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068960" y="40305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42456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42456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32480" y="423396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068960" y="42339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424560" y="40384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068960" y="4038480"/>
                <a:ext cx="176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074680" y="425448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azi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318760" y="425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864520" y="42465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2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3035520" y="4246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632760" y="42465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46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804120" y="4246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319280" y="425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376160" y="425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031360" y="42544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7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201640" y="425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642280" y="42544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754240" y="425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251400" y="425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308280" y="425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657840" y="425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714360" y="425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1833480" y="424188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620800" y="42418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620800" y="42418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1833480" y="444492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620800" y="44449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620800" y="44449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1833480" y="424980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620800" y="424980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62908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62908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637000" y="424188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338940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338940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62908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262908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637000" y="444492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338940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38940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2629080" y="42498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3389400" y="42498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39732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39732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405240" y="424188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07844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07844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39732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39732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405240" y="444492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07844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07844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397320" y="42498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078440" y="42498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08636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08636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094280" y="424188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78944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78944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08636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08636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4094280" y="444492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78944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78944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086360" y="42498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789440" y="42498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79736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479736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805280" y="424188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398920" y="42418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398920" y="42418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79736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479736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4805280" y="444492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98920" y="44449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98920" y="44449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797360" y="42498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98920" y="424980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407200" y="4241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407200" y="4241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416560" y="424188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002280" y="424188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407200" y="4444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407200" y="4444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416560" y="444492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002280" y="444492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407200" y="4249800"/>
                <a:ext cx="936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002280" y="424980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01812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01812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026040" y="424188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"/>
            <p:cNvGrpSpPr/>
            <p:nvPr/>
          </p:nvGrpSpPr>
          <p:grpSpPr>
            <a:xfrm>
              <a:off x="1833480" y="4241880"/>
              <a:ext cx="5253120" cy="635040"/>
              <a:chOff x="1833480" y="4241880"/>
              <a:chExt cx="5253120" cy="635040"/>
            </a:xfrm>
          </p:grpSpPr>
          <p:sp>
            <p:nvSpPr>
              <p:cNvPr id="1457" name=""/>
              <p:cNvSpPr/>
              <p:nvPr/>
            </p:nvSpPr>
            <p:spPr>
              <a:xfrm>
                <a:off x="6408720" y="424188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01812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01812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026040" y="444492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408720" y="444492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018120" y="42498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6408720" y="424980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42456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42456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432480" y="424188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068960" y="424188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42456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42456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6432480" y="444492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068960" y="444492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6424560" y="42498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068960" y="4249800"/>
                <a:ext cx="176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073600" y="4465800"/>
                <a:ext cx="37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bruzz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447280" y="4465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864520" y="4459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921400" y="4459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632760" y="44593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5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804120" y="4459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319280" y="446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376160" y="4465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031360" y="44658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0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201640" y="4465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641920" y="446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698440" y="4465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251400" y="446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308280" y="4465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657840" y="446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714360" y="4465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833480" y="445284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2620800" y="44528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620800" y="44528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833480" y="465624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620800" y="46562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620800" y="46562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833480" y="446076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620800" y="446076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62908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62908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637000" y="445284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38940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38940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62908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62908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637000" y="465624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38940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38940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629080" y="44607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389400" y="44607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39732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39732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405240" y="445284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407844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407844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39732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39732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405240" y="465624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07844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07844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397320" y="44607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078440" y="44607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408636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08636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4094280" y="445284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78944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78944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08636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08636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094280" y="465624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78944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78944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086360" y="44607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4789440" y="44607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79736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79736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805280" y="445284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398920" y="44528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398920" y="44528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79736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79736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805280" y="465624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398920" y="46562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398920" y="46562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797360" y="44607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398920" y="446076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407200" y="4452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407200" y="4452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416560" y="445284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002280" y="4452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407200" y="4656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07200" y="4656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16560" y="465624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002280" y="46562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407200" y="4460760"/>
                <a:ext cx="936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002280" y="446076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01812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01812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6026040" y="445284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408720" y="4452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01812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601812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026040" y="465624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408720" y="46562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018120" y="44607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408720" y="446076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42456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42456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432480" y="445284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068960" y="4452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42456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42456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432480" y="465624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068960" y="46562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424560" y="44607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068960" y="4460760"/>
                <a:ext cx="176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600" y="4676760"/>
                <a:ext cx="296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oli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368080" y="46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864520" y="4670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921400" y="467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632760" y="46702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6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804120" y="467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319280" y="46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376160" y="46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031360" y="46767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3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5201640" y="46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5641920" y="46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5698440" y="46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251400" y="46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6308280" y="46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6657840" y="46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714360" y="46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833480" y="466416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620800" y="46641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620800" y="46641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1833480" y="486900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620800" y="486900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620800" y="486900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1833480" y="4672080"/>
                <a:ext cx="1584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2620800" y="4672080"/>
                <a:ext cx="828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262908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262908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2637000" y="466416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38940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38940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262908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262908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2637000" y="486900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38940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38940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629080" y="46720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389400" y="46720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39732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39732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405240" y="466416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07844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07844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9732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39732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405240" y="486900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07844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407844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397320" y="46720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4078440" y="46720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08636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08636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4094280" y="466416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478944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478944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408636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408636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4094280" y="486900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78944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78944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4086360" y="46720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4789440" y="46720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479736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479736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805280" y="466416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398920" y="46641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398920" y="46641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479736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479736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4805280" y="486900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398920" y="486900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398920" y="486900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4797360" y="46720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5398920" y="4672080"/>
                <a:ext cx="828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407200" y="4664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407200" y="4664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5416560" y="466416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6002280" y="46641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407200" y="4869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407200" y="4869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416560" y="486900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6002280" y="486900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407200" y="4672080"/>
                <a:ext cx="936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7" name=""/>
            <p:cNvGrpSpPr/>
            <p:nvPr/>
          </p:nvGrpSpPr>
          <p:grpSpPr>
            <a:xfrm>
              <a:off x="1833480" y="4664160"/>
              <a:ext cx="5253120" cy="636480"/>
              <a:chOff x="1833480" y="4664160"/>
              <a:chExt cx="5253120" cy="636480"/>
            </a:xfrm>
          </p:grpSpPr>
          <p:sp>
            <p:nvSpPr>
              <p:cNvPr id="1658" name=""/>
              <p:cNvSpPr/>
              <p:nvPr/>
            </p:nvSpPr>
            <p:spPr>
              <a:xfrm>
                <a:off x="6002280" y="4672080"/>
                <a:ext cx="1584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01812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01812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026040" y="466416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408720" y="46641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01812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01812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026040" y="486900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408720" y="486900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018120" y="46720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408720" y="4672080"/>
                <a:ext cx="1584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42456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642456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6432480" y="466416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068960" y="46641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642456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642456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6432480" y="486900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068960" y="486900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424560" y="46720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7068960" y="4672080"/>
                <a:ext cx="1764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076120" y="4889520"/>
                <a:ext cx="464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ampan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539440" y="4889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864520" y="4883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921400" y="4883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632760" y="488304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64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3804120" y="4883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4319280" y="4889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4376160" y="4889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031360" y="48895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5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201640" y="4889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5642280" y="488952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754240" y="4889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6252120" y="488952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6365160" y="4889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6657840" y="4889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714360" y="4889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833480" y="4876920"/>
                <a:ext cx="787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620800" y="487692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620800" y="487692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833480" y="508176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620800" y="50817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620800" y="50817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833480" y="488628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20800" y="488628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62908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62908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637000" y="4876920"/>
                <a:ext cx="752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8940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38940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2908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2908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637000" y="508176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38940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8940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629080" y="48862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389400" y="48862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39732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39732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405240" y="4876920"/>
                <a:ext cx="673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07844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07844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39732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39732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405240" y="508176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407844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407844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397320" y="48862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4078440" y="48862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408636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408636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4094280" y="4876920"/>
                <a:ext cx="695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78944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78944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08636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08636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4094280" y="508176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78944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944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086360" y="48862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789440" y="48862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79736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79736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805280" y="4876920"/>
                <a:ext cx="593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5398920" y="487692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5398920" y="487692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79736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79736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805280" y="508176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5398920" y="50817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5398920" y="50817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797360" y="48862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5398920" y="488628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5407200" y="48769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5407200" y="48769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5416560" y="4876920"/>
                <a:ext cx="585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002280" y="48769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5407200" y="5081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5407200" y="5081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416560" y="508176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6002280" y="50817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407200" y="4886280"/>
                <a:ext cx="936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002280" y="488628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01812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601812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026040" y="4876920"/>
                <a:ext cx="382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408720" y="48769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01812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01812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026040" y="508176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6408720" y="50817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018120" y="48862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408720" y="488628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42456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42456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6432480" y="4876920"/>
                <a:ext cx="6364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068960" y="48769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642456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642456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432480" y="508176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068960" y="50817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6424560" y="48862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7068960" y="4886280"/>
                <a:ext cx="176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2075760" y="5100480"/>
                <a:ext cx="284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ugl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2358360" y="5100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2864520" y="509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2921400" y="5094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632760" y="50943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2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804120" y="5094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319280" y="5100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376160" y="5100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031360" y="51004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5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201640" y="5100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642280" y="51004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754240" y="5100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251400" y="5100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308280" y="5100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657840" y="5100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6714360" y="5100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1833480" y="508968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2620800" y="50896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2620800" y="50896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1833480" y="529272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620800" y="5292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20800" y="5292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833480" y="509760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20800" y="509760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62908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62908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637000" y="508968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338940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338940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62908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262908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2637000" y="529272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38940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38940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2629080" y="5097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389400" y="5097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39732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39732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405240" y="508968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07844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07844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339732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339732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405240" y="529272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07844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07844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3397320" y="5097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078440" y="5097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08636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08636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094280" y="508968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78944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8944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08636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08636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094280" y="529272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78944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78944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086360" y="5097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789440" y="5097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79736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79736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05280" y="508968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5398920" y="50896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5398920" y="50896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79736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79736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805280" y="529272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398920" y="5292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5398920" y="5292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797360" y="5097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398920" y="509760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407200" y="5089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5407200" y="5089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416560" y="508968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002280" y="508968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5407200" y="5292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1833480" y="5089680"/>
              <a:ext cx="5253120" cy="634680"/>
              <a:chOff x="1833480" y="5089680"/>
              <a:chExt cx="5253120" cy="634680"/>
            </a:xfrm>
          </p:grpSpPr>
          <p:sp>
            <p:nvSpPr>
              <p:cNvPr id="1859" name=""/>
              <p:cNvSpPr/>
              <p:nvPr/>
            </p:nvSpPr>
            <p:spPr>
              <a:xfrm>
                <a:off x="5407200" y="5292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416560" y="529272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6002280" y="529272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407200" y="5097600"/>
                <a:ext cx="936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6002280" y="509760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601812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01812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6026040" y="508968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408720" y="508968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01812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601812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026040" y="529272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408720" y="529272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6018120" y="5097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6408720" y="509760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42456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642456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432480" y="508968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068960" y="508968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642456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42456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6432480" y="529272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068960" y="529272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6424560" y="5097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068960" y="5097600"/>
                <a:ext cx="176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2075040" y="5313240"/>
                <a:ext cx="439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asilicat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2510640" y="5313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2864520" y="530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921400" y="5305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3632760" y="53053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6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804120" y="5305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319280" y="5313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376160" y="5313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031360" y="531324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3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201640" y="5313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641920" y="5313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698440" y="5313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251400" y="5313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308280" y="5313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657840" y="5313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6714360" y="5313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833480" y="530064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620800" y="53006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620800" y="53006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833480" y="550404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2620800" y="55040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2620800" y="55040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833480" y="530856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2620800" y="530856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262908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262908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2637000" y="530064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338940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338940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262908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62908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2637000" y="550404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38940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38940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2629080" y="53085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3389400" y="53085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339732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339732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3405240" y="530064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407844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407844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39732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339732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3405240" y="550404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07844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07844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3397320" y="53085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078440" y="53085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408636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08636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094280" y="530064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78944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78944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08636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08636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094280" y="550404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78944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78944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086360" y="53085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789440" y="53085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79736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79736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805280" y="530064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398920" y="53006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398920" y="53006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79736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79736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805280" y="550404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398920" y="55040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398920" y="55040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797360" y="53085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398920" y="530856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407200" y="5300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5407200" y="5300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416560" y="530064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6002280" y="53006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407200" y="5504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5407200" y="5504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416560" y="550404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002280" y="55040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5407200" y="5308560"/>
                <a:ext cx="936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002280" y="530856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01812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01812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026040" y="530064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408720" y="53006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01812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601812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6026040" y="550404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6408720" y="55040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6018120" y="53085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6408720" y="530856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642456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642456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6432480" y="530064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068960" y="53006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642456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642456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6432480" y="550404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068960" y="55040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6424560" y="53085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068960" y="5308560"/>
                <a:ext cx="176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076120" y="5524560"/>
                <a:ext cx="37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alabr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453760" y="552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864520" y="5518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921400" y="5518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632760" y="55180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47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804120" y="5518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319280" y="552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4376160" y="552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031360" y="55245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0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201640" y="552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642280" y="55245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5754240" y="552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6251400" y="552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6308280" y="552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6657840" y="552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6714360" y="552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833480" y="551196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620800" y="55119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620800" y="55119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833480" y="571644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2620800" y="57164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620800" y="57164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833480" y="5519880"/>
                <a:ext cx="1584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0800" y="5519880"/>
                <a:ext cx="828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62908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62908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637000" y="551196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38940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38940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62908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62908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2637000" y="571644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38940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38940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629080" y="55198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389400" y="55198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39732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39732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405240" y="551196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07844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07844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39732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39732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405240" y="571644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407844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407844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397320" y="55198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4078440" y="55198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408636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408636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4094280" y="551196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478944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478944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408636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408636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4094280" y="571644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478944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478944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4086360" y="55198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4789440" y="55198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479736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79736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4805280" y="551196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398920" y="55119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398920" y="55119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479736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479736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4805280" y="571644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398920" y="57164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5398920" y="57164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797360" y="55198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398920" y="5519880"/>
                <a:ext cx="828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5407200" y="5511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9" name=""/>
            <p:cNvGrpSpPr/>
            <p:nvPr/>
          </p:nvGrpSpPr>
          <p:grpSpPr>
            <a:xfrm>
              <a:off x="1833480" y="5511960"/>
              <a:ext cx="5253120" cy="636480"/>
              <a:chOff x="1833480" y="5511960"/>
              <a:chExt cx="5253120" cy="636480"/>
            </a:xfrm>
          </p:grpSpPr>
          <p:sp>
            <p:nvSpPr>
              <p:cNvPr id="2060" name=""/>
              <p:cNvSpPr/>
              <p:nvPr/>
            </p:nvSpPr>
            <p:spPr>
              <a:xfrm>
                <a:off x="5407200" y="5511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416560" y="551196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002280" y="55119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407200" y="5716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407200" y="5716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416560" y="571644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002280" y="57164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407200" y="5519880"/>
                <a:ext cx="936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002280" y="5519880"/>
                <a:ext cx="1584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601812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01812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026040" y="551196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6408720" y="55119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01812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01812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026040" y="571644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408720" y="57164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6018120" y="55198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408720" y="5519880"/>
                <a:ext cx="1584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642456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642456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6432480" y="551196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7068960" y="55119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642456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642456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6432480" y="571644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7068960" y="57164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6424560" y="55198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7068960" y="5519880"/>
                <a:ext cx="1764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074320" y="5737320"/>
                <a:ext cx="268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cil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341080" y="573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864520" y="573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921400" y="5730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632760" y="573084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45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804120" y="5730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4319280" y="573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4376160" y="573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031360" y="57373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9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201640" y="573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641920" y="573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698440" y="573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6252120" y="573732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6365160" y="573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657840" y="573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714360" y="573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1833480" y="5724360"/>
                <a:ext cx="7873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620800" y="57243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620800" y="57243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1833480" y="592776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620800" y="59277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620800" y="59277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1833480" y="573264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620800" y="573264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262908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62908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637000" y="5724360"/>
                <a:ext cx="7524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38940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38940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62908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62908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637000" y="592776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338940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338940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629080" y="57326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389400" y="57326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39732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39732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405240" y="5724360"/>
                <a:ext cx="6732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407844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407844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39732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39732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405240" y="592776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407844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407844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397320" y="57326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4078440" y="57326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408636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408636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4094280" y="5724360"/>
                <a:ext cx="695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478944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478944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408636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408636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4094280" y="592776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78944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478944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4086360" y="57326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4789440" y="57326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479736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479736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4805280" y="5724360"/>
                <a:ext cx="5936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398920" y="57243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398920" y="57243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479736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479736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4805280" y="592776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5398920" y="59277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5398920" y="59277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4797360" y="57326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5398920" y="573264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5407200" y="57243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5407200" y="57243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5416560" y="5724360"/>
                <a:ext cx="585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002280" y="5724360"/>
                <a:ext cx="158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407200" y="592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407200" y="592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416560" y="592776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002280" y="59277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5407200" y="5732640"/>
                <a:ext cx="936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6002280" y="573264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601812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601812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6026040" y="5724360"/>
                <a:ext cx="3826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6408720" y="5724360"/>
                <a:ext cx="158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601812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601812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6026040" y="592776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6408720" y="59277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6018120" y="57326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6408720" y="573264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642456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642456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6432480" y="5724360"/>
                <a:ext cx="6364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7068960" y="5724360"/>
                <a:ext cx="176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642456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642456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6432480" y="592776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7068960" y="59277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424560" y="57326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7068960" y="5732640"/>
                <a:ext cx="176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2075760" y="5948280"/>
                <a:ext cx="441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ardegn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2515680" y="594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2864520" y="5942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2921400" y="5942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632760" y="59421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44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804120" y="5942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4319280" y="594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4376160" y="594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031360" y="59482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7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201640" y="594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41920" y="594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98440" y="594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6251400" y="594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6308280" y="594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6657840" y="594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6714360" y="594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1833480" y="5935680"/>
                <a:ext cx="787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2620800" y="593568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2620800" y="593568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1833480" y="614052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2620800" y="61405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2620800" y="61405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1833480" y="594504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2620800" y="594504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262908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262908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2637000" y="5935680"/>
                <a:ext cx="752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338940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338940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262908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262908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2637000" y="614052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338940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8940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2629080" y="594504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89400" y="594504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339732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339732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405240" y="5935680"/>
                <a:ext cx="673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07844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407844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339732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339732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3405240" y="614052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07844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07844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3397320" y="594504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4078440" y="594504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08636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408636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4094280" y="5935680"/>
                <a:ext cx="695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478944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478944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408636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408636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4094280" y="614052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78944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478944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4086360" y="594504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789440" y="594504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479736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479736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4805280" y="5935680"/>
                <a:ext cx="593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5398920" y="593568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5398920" y="593568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479736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479736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4805280" y="614052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5398920" y="61405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0" name=""/>
            <p:cNvSpPr/>
            <p:nvPr/>
          </p:nvSpPr>
          <p:spPr>
            <a:xfrm>
              <a:off x="5398920" y="6140520"/>
              <a:ext cx="8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797360" y="5945040"/>
              <a:ext cx="7920" cy="19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398920" y="5945040"/>
              <a:ext cx="8280" cy="19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407200" y="593568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407200" y="593568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416560" y="5935680"/>
              <a:ext cx="585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002280" y="593568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407200" y="614052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407200" y="614052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416560" y="6140520"/>
              <a:ext cx="585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002280" y="614052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407200" y="5945040"/>
              <a:ext cx="9360" cy="19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002280" y="5945040"/>
              <a:ext cx="15840" cy="19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018120" y="593568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018120" y="593568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026040" y="5935680"/>
              <a:ext cx="3826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408720" y="593568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018120" y="61405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018120" y="61405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026040" y="6140520"/>
              <a:ext cx="382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408720" y="614052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018120" y="5945040"/>
              <a:ext cx="7920" cy="19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408720" y="5945040"/>
              <a:ext cx="15840" cy="19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424560" y="593568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424560" y="593568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6432480" y="5935680"/>
              <a:ext cx="6364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068960" y="5935680"/>
              <a:ext cx="17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424560" y="61405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424560" y="61405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6432480" y="6140520"/>
              <a:ext cx="6364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068960" y="614052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6424560" y="5945040"/>
              <a:ext cx="7920" cy="19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068960" y="5945040"/>
              <a:ext cx="17640" cy="19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2075040" y="6153120"/>
              <a:ext cx="32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TAL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403720" y="6153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864520" y="61531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8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3035520" y="6153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3633120" y="61531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9.5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889800" y="6153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321800" y="61531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492800" y="6153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033160" y="61531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.1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289840" y="6153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644080" y="61531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813640" y="6153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253920" y="61531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424920" y="6153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660000" y="61531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774120" y="6153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833480" y="6148440"/>
              <a:ext cx="787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620800" y="6148440"/>
              <a:ext cx="8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620800" y="6148440"/>
              <a:ext cx="8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833480" y="6351480"/>
              <a:ext cx="15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833480" y="6351480"/>
              <a:ext cx="15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849320" y="6351480"/>
              <a:ext cx="7714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620800" y="6351480"/>
              <a:ext cx="8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833480" y="6156360"/>
              <a:ext cx="1584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620800" y="6156360"/>
              <a:ext cx="828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62908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62908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637000" y="6148440"/>
              <a:ext cx="7524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38940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338940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629080" y="6351480"/>
              <a:ext cx="7603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389400" y="63514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29080" y="6156360"/>
              <a:ext cx="792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389400" y="6156360"/>
              <a:ext cx="792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339732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339732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405240" y="6148440"/>
              <a:ext cx="6732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07844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07844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397320" y="6351480"/>
              <a:ext cx="681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078440" y="63514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397320" y="6156360"/>
              <a:ext cx="792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078440" y="6156360"/>
              <a:ext cx="792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08636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08636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094280" y="6148440"/>
              <a:ext cx="6951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78944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78944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086360" y="6351480"/>
              <a:ext cx="7030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789440" y="63514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086360" y="6156360"/>
              <a:ext cx="792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789440" y="6156360"/>
              <a:ext cx="792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79736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79736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805280" y="6148440"/>
              <a:ext cx="593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398920" y="6148440"/>
              <a:ext cx="8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398920" y="6148440"/>
              <a:ext cx="8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797360" y="6351480"/>
              <a:ext cx="60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398920" y="6351480"/>
              <a:ext cx="8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797360" y="6156360"/>
              <a:ext cx="792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398920" y="6156360"/>
              <a:ext cx="828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407200" y="61484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407200" y="61484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416560" y="6148440"/>
              <a:ext cx="585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002280" y="614844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407200" y="6351480"/>
              <a:ext cx="5950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6002280" y="6351480"/>
              <a:ext cx="15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6002280" y="6351480"/>
              <a:ext cx="15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407200" y="6156360"/>
              <a:ext cx="936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002280" y="6156360"/>
              <a:ext cx="1584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01812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01812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026040" y="6148440"/>
              <a:ext cx="382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408720" y="614844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018120" y="6351480"/>
              <a:ext cx="3906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408720" y="6351480"/>
              <a:ext cx="15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6408720" y="6351480"/>
              <a:ext cx="15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6018120" y="6156360"/>
              <a:ext cx="792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6408720" y="6156360"/>
              <a:ext cx="1584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642456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42456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432480" y="6148440"/>
              <a:ext cx="6364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068960" y="614844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424560" y="6351480"/>
              <a:ext cx="6444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068960" y="6351480"/>
              <a:ext cx="176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068960" y="6351480"/>
              <a:ext cx="176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424560" y="6156360"/>
              <a:ext cx="792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068960" y="6156360"/>
              <a:ext cx="1764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1872000" y="6370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648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Sono livelli di spesa in qualche modo </a:t>
            </a:r>
            <a:r>
              <a:rPr b="1" i="1" lang="it-IT" sz="1900" spc="-1" strike="noStrike">
                <a:solidFill>
                  <a:srgbClr val="000000"/>
                </a:solidFill>
                <a:latin typeface="Arial"/>
              </a:rPr>
              <a:t>standardizzati e normalizzati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, se pur riferiti alle specificità del territorio regionale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Le spese necessarie per l’esercizio di funzioni </a:t>
            </a:r>
            <a:r>
              <a:rPr b="1" i="1" lang="it-IT" sz="1900" spc="-1" strike="noStrike">
                <a:solidFill>
                  <a:srgbClr val="000000"/>
                </a:solidFill>
                <a:latin typeface="Arial"/>
              </a:rPr>
              <a:t>per le quali sono stati determinati i livelli essenziali da parte dello stato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 sono ricomprese nei livelli di spesa riconosciuti a ciascun territorio 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i="1" lang="it-IT" sz="1900" spc="-1" strike="noStrike">
                <a:solidFill>
                  <a:srgbClr val="000000"/>
                </a:solidFill>
                <a:latin typeface="Arial"/>
              </a:rPr>
              <a:t>tutto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 è indistintamente finanziato per ciascun territorio regionale nei termini specificati dal 11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Livelli superiori o inferiori possono essere conseguiti in virtù dell’autonomia di spesa e dovranno essere finanziati adeguando, in virtù dell’autonomia di entrata, le </a:t>
            </a:r>
            <a:r>
              <a:rPr b="1" i="1" lang="it-IT" sz="1900" spc="-1" strike="noStrike">
                <a:solidFill>
                  <a:srgbClr val="000000"/>
                </a:solidFill>
                <a:latin typeface="Arial"/>
              </a:rPr>
              <a:t>aliquote effettive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 dei tributi propr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NOZIONE DI SPESE NECESSARIE (“RICONOSCIUTE”) PER L’ESERCIZIO DELLE FUNZIONI NOR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9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Gettito potenzial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dei tributi propri, delle addizionali e delle compartecipazioni, della Regione e degli enti del sistema regionale delle autonomi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gettito potenzial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è dato dal prodotto di aliquote standard e di basi imponibili locali, se pur in qualche modo standardizz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a capacità fiscale è ovviamente correlata agli indicatori macroeconomici - in particolare al PIL- del territorio regional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NOZIONE DI CAPACITÀ FISC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 TERRITORIO REG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4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ordinamento nella riforma del Titolo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02560" cy="447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lo Stato l’individuazione dei principi generali e la disciplina del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istema tributario sta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le Regioni la disciplina del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istema tributario regional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e l’individuazione dei principi di imposizione lo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stema binario (due  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art. 23 (la riserva di legge) è garantito dalla legislazione nazionale e reg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4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4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4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4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4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l coordinamento del sistema tributario è materia concor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02560" cy="4400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lo stato fissa i principi fondamentali del sistema tributario e della struttura finanziaria per livelli di governo, in particolare progettando e realizzando i sistemi di perequazione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le regioni possono istituire tributi propri e “concordare” l’istituzione di tributi propri degli enti locali (nel rispetto di principi fondamentali posti previamente dallo stat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il potere di coordinamento delle regioni si svolge all’interno del territorio regionale con riferimento agli enti loca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4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4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4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rdinamento nella teoria dell’economia pubb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Coordinamento total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soluzione cooperativa (definizione di politiche a livello centrale con funzione del benessere “benevolente”) che annulla le esternalità fisc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Coordinamento parzial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(Federalismo fiscale) 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Soluzione non-cooperativa (con esternalità fiscali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overno centrale (“leader” )  gioca per primo “Stackelberg” e le regioni sono “follow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Governi benevolenti vs. Governi Leviat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4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4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4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4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PlaceHolder 1"/>
          <p:cNvSpPr>
            <a:spLocks noGrp="1"/>
          </p:cNvSpPr>
          <p:nvPr>
            <p:ph type="title"/>
          </p:nvPr>
        </p:nvSpPr>
        <p:spPr>
          <a:xfrm>
            <a:off x="685440" y="350640"/>
            <a:ext cx="7823160" cy="140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. 119: la perequazion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l territorio “regionale”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zione 1: estensione del 56/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PlaceHolder 2"/>
          <p:cNvSpPr>
            <a:spLocks noGrp="1"/>
          </p:cNvSpPr>
          <p:nvPr>
            <p:ph/>
          </p:nvPr>
        </p:nvSpPr>
        <p:spPr>
          <a:xfrm>
            <a:off x="685800" y="2284200"/>
            <a:ext cx="7773840" cy="431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gime differenziato tra materie di competenza esclusiva (CE) e materie di competenza concorrente e i diritti fondamentali (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’“Autosufficienza” finanziaria (Comma 4, finanziamento delle funzioni normali…) vale per l’aggregato delle Reg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clusivo criterio della Capacità fiscale e perequazione parz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 aggiunge il criterio del fabbisogno (bisogni accertati attraverso standard), in virtù anche del Comma 5 (diritti della persona e squilibri territorial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4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4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4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4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. 119: la perequazione sul territorio “regionale”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zione 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’“Autosufficienza” (Comma 4) deve valere per ogni singola reg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a Perequazione dovrà essere basata sul criterio della capacità fiscale di tipo non-canadese: differenza tra spesa standard (fabbisogno) e entrate proprie standard + compartecip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Comma 5 vale solo per interventi straordinari e per la spesa in conto capit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4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4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4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"/>
          <p:cNvSpPr/>
          <p:nvPr/>
        </p:nvSpPr>
        <p:spPr>
          <a:xfrm>
            <a:off x="0" y="2666880"/>
            <a:ext cx="91440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sonale per ripartizione geografica e livelli di gov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487520" y="3892680"/>
            <a:ext cx="7920" cy="37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5668920" y="3892680"/>
            <a:ext cx="9720" cy="37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8991720" y="3892680"/>
            <a:ext cx="7920" cy="37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487520" y="42656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5668920" y="42656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8991720" y="42656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1487520" y="4275000"/>
            <a:ext cx="792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5668920" y="4275000"/>
            <a:ext cx="972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8991720" y="4275000"/>
            <a:ext cx="792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52280" y="44593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60200" y="4459320"/>
            <a:ext cx="13273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487520" y="44593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1495440" y="4459320"/>
            <a:ext cx="901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397240" y="4459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2406600" y="4459320"/>
            <a:ext cx="6796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086280" y="4459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3095640" y="4459320"/>
            <a:ext cx="90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4005360" y="4459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4014720" y="4459320"/>
            <a:ext cx="7779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4792680" y="4459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4802040" y="4459320"/>
            <a:ext cx="866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5668920" y="4459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5678640" y="4459320"/>
            <a:ext cx="90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588000" y="4459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6597720" y="4459320"/>
            <a:ext cx="903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7500960" y="4459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7510320" y="4459320"/>
            <a:ext cx="55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8069400" y="4459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8078760" y="4459320"/>
            <a:ext cx="9129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8991720" y="44593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487520" y="4468680"/>
            <a:ext cx="7920" cy="18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1487520" y="465624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5668920" y="4468680"/>
            <a:ext cx="9720" cy="18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5668920" y="465624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8991720" y="4468680"/>
            <a:ext cx="7920" cy="18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8991720" y="465624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8991720" y="465624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1487520" y="274320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5668920" y="274320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8991720" y="274320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8991720" y="274320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487520" y="2751120"/>
            <a:ext cx="7920" cy="18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668920" y="2751120"/>
            <a:ext cx="9720" cy="18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8991720" y="2751120"/>
            <a:ext cx="7920" cy="18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52280" y="29383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160200" y="2938320"/>
            <a:ext cx="1327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1487520" y="29383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1495440" y="2938320"/>
            <a:ext cx="9018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2397240" y="29383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2406600" y="2938320"/>
            <a:ext cx="6796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3086280" y="29383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3095640" y="2938320"/>
            <a:ext cx="90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005360" y="29383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4014720" y="2938320"/>
            <a:ext cx="7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792680" y="29383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4802040" y="2938320"/>
            <a:ext cx="8668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5668920" y="29383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5678640" y="2938320"/>
            <a:ext cx="90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6588000" y="29383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6597720" y="2938320"/>
            <a:ext cx="9032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7500960" y="29383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7510320" y="2938320"/>
            <a:ext cx="55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8069400" y="29383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8078760" y="2938320"/>
            <a:ext cx="912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8991720" y="29383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1487520" y="2948040"/>
            <a:ext cx="792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5668920" y="2948040"/>
            <a:ext cx="972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8991720" y="2948040"/>
            <a:ext cx="792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152280" y="35053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160200" y="3505320"/>
            <a:ext cx="13273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1487520" y="35053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1495440" y="3505320"/>
            <a:ext cx="901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2397240" y="3505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2406600" y="3505320"/>
            <a:ext cx="6796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3086280" y="3505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3095640" y="3505320"/>
            <a:ext cx="90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4005360" y="3505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4014720" y="3505320"/>
            <a:ext cx="7779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4792680" y="3505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4802040" y="3505320"/>
            <a:ext cx="866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5668920" y="3505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5678640" y="3505320"/>
            <a:ext cx="90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6588000" y="3505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6597720" y="3505320"/>
            <a:ext cx="903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7500960" y="3505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7510320" y="3505320"/>
            <a:ext cx="55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8069400" y="3505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8078760" y="3505320"/>
            <a:ext cx="9129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8991720" y="35053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1487520" y="3514680"/>
            <a:ext cx="7920" cy="37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5668920" y="3514680"/>
            <a:ext cx="9720" cy="37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8991720" y="3514680"/>
            <a:ext cx="7920" cy="37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52280" y="38847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160200" y="3884760"/>
            <a:ext cx="13273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487520" y="38847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1495440" y="3884760"/>
            <a:ext cx="9018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397240" y="388476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2406600" y="3884760"/>
            <a:ext cx="679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3086280" y="388476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095640" y="3884760"/>
            <a:ext cx="90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4005360" y="388476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4014720" y="3884760"/>
            <a:ext cx="777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4792680" y="388476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4802040" y="3884760"/>
            <a:ext cx="8668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5668920" y="388476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5678640" y="3884760"/>
            <a:ext cx="90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588000" y="388476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6597720" y="3884760"/>
            <a:ext cx="9032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7500960" y="388476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7510320" y="3884760"/>
            <a:ext cx="5590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8069400" y="388476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8078760" y="3884760"/>
            <a:ext cx="912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8991720" y="38847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7" name=""/>
          <p:cNvGrpSpPr/>
          <p:nvPr/>
        </p:nvGrpSpPr>
        <p:grpSpPr>
          <a:xfrm>
            <a:off x="152280" y="2743200"/>
            <a:ext cx="8839440" cy="2135880"/>
            <a:chOff x="152280" y="2743200"/>
            <a:chExt cx="8839440" cy="2135880"/>
          </a:xfrm>
        </p:grpSpPr>
        <p:sp>
          <p:nvSpPr>
            <p:cNvPr id="2498" name=""/>
            <p:cNvSpPr/>
            <p:nvPr/>
          </p:nvSpPr>
          <p:spPr>
            <a:xfrm>
              <a:off x="253800" y="2757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587600" y="2757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498760" y="275760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971800" y="2757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3189240" y="2757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4108320" y="2757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4894920" y="2757600"/>
              <a:ext cx="69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575320" y="2757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772240" y="2757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691320" y="2757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602480" y="2757600"/>
              <a:ext cx="34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942320" y="2757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8172360" y="2757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52280" y="27432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52280" y="27432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60200" y="2743200"/>
              <a:ext cx="1327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495440" y="2743200"/>
              <a:ext cx="9018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406600" y="2743200"/>
              <a:ext cx="679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3086280" y="274320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3095640" y="2743200"/>
              <a:ext cx="90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4005360" y="274320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4014720" y="2743200"/>
              <a:ext cx="777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4792680" y="274320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802040" y="2743200"/>
              <a:ext cx="8668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678640" y="2743200"/>
              <a:ext cx="90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588000" y="274320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597720" y="2743200"/>
              <a:ext cx="903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7500960" y="274320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7510320" y="2743200"/>
              <a:ext cx="5590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8069400" y="274320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8078760" y="2743200"/>
              <a:ext cx="91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52280" y="2751120"/>
              <a:ext cx="7920" cy="18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3086280" y="2751120"/>
              <a:ext cx="9360" cy="18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4005360" y="2751120"/>
              <a:ext cx="9360" cy="18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792680" y="2751120"/>
              <a:ext cx="9360" cy="18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588000" y="2751120"/>
              <a:ext cx="9720" cy="18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500960" y="2751120"/>
              <a:ext cx="9360" cy="18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8069400" y="2751120"/>
              <a:ext cx="9360" cy="18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53800" y="2954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588680" y="2954160"/>
              <a:ext cx="45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ta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2038320" y="2954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498400" y="295416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43120" y="2954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3191040" y="29541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rsonal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191400" y="3139920"/>
              <a:ext cx="69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r 1000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190320" y="3324240"/>
              <a:ext cx="53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bitan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713040" y="332424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4109400" y="2954160"/>
              <a:ext cx="45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ta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4559400" y="2954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893840" y="295416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038560" y="2954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774040" y="29541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rsonal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774400" y="3139920"/>
              <a:ext cx="69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r 1000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773320" y="3324240"/>
              <a:ext cx="53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bitan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296040" y="332424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692400" y="2954160"/>
              <a:ext cx="45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ta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142040" y="2954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602120" y="295416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746840" y="2954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8174160" y="29541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rsonal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8174520" y="3139920"/>
              <a:ext cx="69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r 1000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8173440" y="3324240"/>
              <a:ext cx="53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bitan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8696160" y="332424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52280" y="2948040"/>
              <a:ext cx="7920" cy="55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3086280" y="2948040"/>
              <a:ext cx="9360" cy="55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4005360" y="2948040"/>
              <a:ext cx="9360" cy="55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792680" y="2948040"/>
              <a:ext cx="9360" cy="55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588000" y="2948040"/>
              <a:ext cx="9720" cy="55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500960" y="2948040"/>
              <a:ext cx="9360" cy="55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8069400" y="2948040"/>
              <a:ext cx="9360" cy="55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256680" y="3521160"/>
              <a:ext cx="1207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mministrazioni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255240" y="3705120"/>
              <a:ext cx="53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ntral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76160" y="37051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589040" y="35211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90.75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2173320" y="3521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2499480" y="352116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9,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2814480" y="3521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3189960" y="352116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6,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3506760" y="3521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110120" y="35211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93.59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4694040" y="3521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894920" y="352116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0,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211720" y="3521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772960" y="352116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5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089760" y="3521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692760" y="35211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04.72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7277040" y="3521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603200" y="352116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0,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918560" y="3521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8173080" y="352116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9,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8489880" y="3521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52280" y="3514680"/>
              <a:ext cx="7920" cy="37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3086280" y="3514680"/>
              <a:ext cx="9360" cy="37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005360" y="3514680"/>
              <a:ext cx="9360" cy="37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792680" y="3514680"/>
              <a:ext cx="9360" cy="37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588000" y="3514680"/>
              <a:ext cx="9720" cy="37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500960" y="3514680"/>
              <a:ext cx="9360" cy="37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8069400" y="3514680"/>
              <a:ext cx="9360" cy="37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56680" y="3900600"/>
              <a:ext cx="1207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mministrazioni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54520" y="4087800"/>
              <a:ext cx="375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ocal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23880" y="40878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589040" y="390060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83.33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173320" y="3900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499480" y="39006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9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814480" y="3900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3189960" y="39006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6,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506760" y="3900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110120" y="390060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02.15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694040" y="3900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894920" y="39006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7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211720" y="3900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772960" y="39006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7,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6089760" y="3900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6692760" y="390060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03.8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7277040" y="3900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603200" y="39006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8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7918560" y="3900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8173080" y="39006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4,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8489880" y="3900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152280" y="3892680"/>
              <a:ext cx="792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086280" y="3892680"/>
              <a:ext cx="936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005360" y="3892680"/>
              <a:ext cx="936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792680" y="3892680"/>
              <a:ext cx="936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588000" y="3892680"/>
              <a:ext cx="972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500960" y="3892680"/>
              <a:ext cx="936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8069400" y="3892680"/>
              <a:ext cx="936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56320" y="4281480"/>
              <a:ext cx="1152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nti Previdenz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1386000" y="4281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1588680" y="428148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.85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082600" y="4281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499120" y="42814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724120" y="4281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189600" y="42814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416400" y="4281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4109760" y="428148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.89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4603680" y="4281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894560" y="42814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,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5121360" y="4281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5772600" y="42814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,9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999040" y="4281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692760" y="428148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7.19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186680" y="4281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602840" y="42814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,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827840" y="4281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8172720" y="42814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8399520" y="4281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52280" y="426564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60200" y="4265640"/>
              <a:ext cx="13273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495440" y="4265640"/>
              <a:ext cx="9018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406600" y="4265640"/>
              <a:ext cx="6796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086280" y="426564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095640" y="4265640"/>
              <a:ext cx="90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4005360" y="426564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014720" y="4265640"/>
              <a:ext cx="7779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792680" y="426564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802040" y="4265640"/>
              <a:ext cx="866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678640" y="4265640"/>
              <a:ext cx="90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588000" y="426564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597720" y="4265640"/>
              <a:ext cx="903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500960" y="426564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510320" y="4265640"/>
              <a:ext cx="559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8069400" y="426564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8078760" y="4265640"/>
              <a:ext cx="9129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152280" y="4275000"/>
              <a:ext cx="7920" cy="18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3086280" y="4275000"/>
              <a:ext cx="9360" cy="18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005360" y="4275000"/>
              <a:ext cx="9360" cy="18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792680" y="4275000"/>
              <a:ext cx="9360" cy="18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588000" y="4275000"/>
              <a:ext cx="9720" cy="18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7500960" y="4275000"/>
              <a:ext cx="9360" cy="18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8069400" y="4275000"/>
              <a:ext cx="9360" cy="18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255240" y="446400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OTA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896760" y="44640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1589760" y="446400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.394.7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306520" y="44640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499120" y="4464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770200" y="44640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189960" y="44640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4,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3506760" y="44640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110120" y="446400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16.64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694040" y="44640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894560" y="4464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165640" y="44640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772960" y="44640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4,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089760" y="44640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693480" y="446400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.325.80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410240" y="44640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602840" y="4464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873920" y="44640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8173080" y="44640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64.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8489880" y="44640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152280" y="4468680"/>
              <a:ext cx="7920" cy="18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152280" y="46562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52280" y="46562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160200" y="4656240"/>
              <a:ext cx="1327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1495440" y="4656240"/>
              <a:ext cx="9018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2406600" y="4656240"/>
              <a:ext cx="679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086280" y="4468680"/>
              <a:ext cx="9360" cy="18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086280" y="46562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095640" y="4656240"/>
              <a:ext cx="90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005360" y="4468680"/>
              <a:ext cx="9360" cy="18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005360" y="46562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014720" y="4656240"/>
              <a:ext cx="777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792680" y="4468680"/>
              <a:ext cx="9360" cy="18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792680" y="46562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802040" y="4656240"/>
              <a:ext cx="8668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5678640" y="4656240"/>
              <a:ext cx="90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588000" y="4468680"/>
              <a:ext cx="9720" cy="18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6588000" y="465624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597720" y="4656240"/>
              <a:ext cx="903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7500960" y="4468680"/>
              <a:ext cx="9360" cy="18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7500960" y="46562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7510320" y="4656240"/>
              <a:ext cx="5590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8069400" y="4468680"/>
              <a:ext cx="9360" cy="18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8069400" y="46562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8078760" y="4656240"/>
              <a:ext cx="91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53800" y="4665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523880" y="2743200"/>
              <a:ext cx="0" cy="1905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362320" y="2743200"/>
              <a:ext cx="0" cy="1905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"/>
          <p:cNvSpPr/>
          <p:nvPr/>
        </p:nvSpPr>
        <p:spPr>
          <a:xfrm>
            <a:off x="1981080" y="1371600"/>
            <a:ext cx="419112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sonale Amm. Centrale e locale per regioni per 1000 abitanti resid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2928960" y="64882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2928960" y="64882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2928960" y="6703920"/>
            <a:ext cx="792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2928960" y="6497640"/>
            <a:ext cx="7920" cy="20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3679920" y="64882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3679920" y="64882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3679920" y="6703920"/>
            <a:ext cx="93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3679920" y="6497640"/>
            <a:ext cx="9360" cy="20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4538520" y="64882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4538520" y="64882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4538520" y="6703920"/>
            <a:ext cx="792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4538520" y="6497640"/>
            <a:ext cx="7920" cy="20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0" name=""/>
          <p:cNvGrpSpPr/>
          <p:nvPr/>
        </p:nvGrpSpPr>
        <p:grpSpPr>
          <a:xfrm>
            <a:off x="2062080" y="1409760"/>
            <a:ext cx="3987720" cy="5450760"/>
            <a:chOff x="2062080" y="1409760"/>
            <a:chExt cx="3987720" cy="5450760"/>
          </a:xfrm>
        </p:grpSpPr>
        <p:grpSp>
          <p:nvGrpSpPr>
            <p:cNvPr id="2731" name=""/>
            <p:cNvGrpSpPr/>
            <p:nvPr/>
          </p:nvGrpSpPr>
          <p:grpSpPr>
            <a:xfrm>
              <a:off x="2062080" y="1409760"/>
              <a:ext cx="3987720" cy="1054080"/>
              <a:chOff x="2062080" y="1409760"/>
              <a:chExt cx="3987720" cy="1054080"/>
            </a:xfrm>
          </p:grpSpPr>
          <p:sp>
            <p:nvSpPr>
              <p:cNvPr id="2732" name=""/>
              <p:cNvSpPr/>
              <p:nvPr/>
            </p:nvSpPr>
            <p:spPr>
              <a:xfrm>
                <a:off x="2315520" y="1428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2342520" y="1428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3181320" y="1428840"/>
                <a:ext cx="284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ota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3449160" y="1428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3714840" y="1428840"/>
                <a:ext cx="785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mministrazione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717720" y="1538280"/>
                <a:ext cx="392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entrale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4087080" y="153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4573800" y="1428840"/>
                <a:ext cx="785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mministrazione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4577040" y="1538280"/>
                <a:ext cx="267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oca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4828680" y="153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5435280" y="1428840"/>
                <a:ext cx="235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ti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5433120" y="1538280"/>
                <a:ext cx="511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videnz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912640" y="153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2062080" y="1409760"/>
                <a:ext cx="176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2062080" y="1409760"/>
                <a:ext cx="176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2079720" y="1409760"/>
                <a:ext cx="849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2928960" y="1409760"/>
                <a:ext cx="792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2062080" y="1784520"/>
                <a:ext cx="866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2928960" y="1784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2928960" y="1784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2062080" y="1427040"/>
                <a:ext cx="17640" cy="357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2928960" y="1427040"/>
                <a:ext cx="7920" cy="357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2936880" y="1409760"/>
                <a:ext cx="7430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3679920" y="1409760"/>
                <a:ext cx="936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2936880" y="1784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2936880" y="1784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2946240" y="1784520"/>
                <a:ext cx="733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3679920" y="1784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3679920" y="1784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2936880" y="1427040"/>
                <a:ext cx="9360" cy="357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679920" y="1427040"/>
                <a:ext cx="9360" cy="357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3689280" y="1409760"/>
                <a:ext cx="849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4538520" y="1409760"/>
                <a:ext cx="792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3689280" y="1784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3689280" y="1784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3697200" y="178452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4538520" y="1784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4538520" y="1784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3689280" y="1427040"/>
                <a:ext cx="7920" cy="357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538520" y="1427040"/>
                <a:ext cx="7920" cy="357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546440" y="1409760"/>
                <a:ext cx="8510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5397480" y="1409760"/>
                <a:ext cx="792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546440" y="1784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4546440" y="1784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4556160" y="178452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397480" y="1784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397480" y="1784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546440" y="1427040"/>
                <a:ext cx="9720" cy="357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397480" y="1427040"/>
                <a:ext cx="7920" cy="357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405400" y="1409760"/>
                <a:ext cx="62712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032520" y="1409760"/>
                <a:ext cx="1728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032520" y="1409760"/>
                <a:ext cx="1728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405400" y="1784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405400" y="1784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415120" y="1784520"/>
                <a:ext cx="617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6032520" y="1784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405400" y="1427040"/>
                <a:ext cx="9720" cy="357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32520" y="1427040"/>
                <a:ext cx="17280" cy="357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2313720" y="1803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iemon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2720520" y="1803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3181320" y="18032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4,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3368160" y="1803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3931920" y="18032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7,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4118760" y="1803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4790880" y="18032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5,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4977720" y="1803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5649840" y="18032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,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5784120" y="1803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2062080" y="179388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2928960" y="1793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2928960" y="1793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2062080" y="200808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2928960" y="2008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2928960" y="2008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2062080" y="1801800"/>
                <a:ext cx="1764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2928960" y="180180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2936880" y="1793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2936880" y="1793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2946240" y="179388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3679920" y="1793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3679920" y="1793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2936880" y="2008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2936880" y="2008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2946240" y="200808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3679920" y="2008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3679920" y="2008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2936880" y="180180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3679920" y="180180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3689280" y="1793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3689280" y="1793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697200" y="179388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4538520" y="1793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4538520" y="1793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3689280" y="2008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3689280" y="2008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3697200" y="200808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4538520" y="2008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4538520" y="2008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3689280" y="180180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4538520" y="180180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4546440" y="17938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546440" y="17938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4556160" y="179388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5397480" y="1793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5397480" y="1793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546440" y="20080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4546440" y="20080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4556160" y="200808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5397480" y="2008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5397480" y="2008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4546440" y="180180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5397480" y="180180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5405400" y="17938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5405400" y="17938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5415120" y="179388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6032520" y="179388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5405400" y="20080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5405400" y="20080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5415120" y="200808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6032520" y="200808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5405400" y="180180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6032520" y="1801800"/>
                <a:ext cx="1728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2312640" y="2025720"/>
                <a:ext cx="614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alle D’Aost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2888640" y="202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3181320" y="20257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5,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3368160" y="202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3931920" y="20257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6,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118760" y="202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4790880" y="20257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7,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4977720" y="202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5649840" y="20257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5784120" y="202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2062080" y="2016000"/>
                <a:ext cx="8668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2928960" y="2016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2928960" y="2016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2062080" y="2232000"/>
                <a:ext cx="8668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2928960" y="2232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2928960" y="2232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2062080" y="2025720"/>
                <a:ext cx="1764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2928960" y="202572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2936880" y="20160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2936880" y="20160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2946240" y="2016000"/>
                <a:ext cx="7336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3679920" y="20160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3679920" y="20160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2936880" y="22320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2936880" y="22320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2946240" y="2232000"/>
                <a:ext cx="7336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3679920" y="22320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3679920" y="22320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2936880" y="202572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3679920" y="202572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3689280" y="2016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3689280" y="2016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697200" y="201600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4538520" y="2016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4538520" y="2016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3689280" y="2232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3689280" y="2232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3697200" y="223200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4538520" y="2232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4538520" y="2232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689280" y="202572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538520" y="202572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546440" y="20160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546440" y="20160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4556160" y="201600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397480" y="2016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397480" y="2016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546440" y="22320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546440" y="22320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556160" y="223200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397480" y="2232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5397480" y="2232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546440" y="202572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5397480" y="202572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405400" y="20160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405400" y="20160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415120" y="2016000"/>
                <a:ext cx="617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6032520" y="201600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5405400" y="22320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5405400" y="22320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5415120" y="2232000"/>
                <a:ext cx="617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6032520" y="223200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5405400" y="202572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6032520" y="2025720"/>
                <a:ext cx="1728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2313720" y="2251080"/>
                <a:ext cx="480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ombard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2768040" y="2251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3181320" y="225108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6,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3368160" y="2251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3931920" y="225108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4,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118760" y="2251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4790880" y="225108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1,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4977720" y="2251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649840" y="22510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,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5784120" y="2251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2062080" y="224172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2928960" y="2241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2928960" y="2241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2062080" y="245592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2" name=""/>
            <p:cNvGrpSpPr/>
            <p:nvPr/>
          </p:nvGrpSpPr>
          <p:grpSpPr>
            <a:xfrm>
              <a:off x="2062080" y="2241720"/>
              <a:ext cx="3987720" cy="893520"/>
              <a:chOff x="2062080" y="2241720"/>
              <a:chExt cx="3987720" cy="893520"/>
            </a:xfrm>
          </p:grpSpPr>
          <p:sp>
            <p:nvSpPr>
              <p:cNvPr id="2933" name=""/>
              <p:cNvSpPr/>
              <p:nvPr/>
            </p:nvSpPr>
            <p:spPr>
              <a:xfrm>
                <a:off x="2928960" y="2455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2928960" y="2455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2062080" y="2249640"/>
                <a:ext cx="1764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2928960" y="224964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2936880" y="2241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2936880" y="2241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2946240" y="224172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3679920" y="2241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3679920" y="2241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2936880" y="2455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2936880" y="2455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946240" y="245592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3679920" y="2455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3679920" y="2455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2936880" y="224964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3679920" y="224964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3689280" y="2241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3689280" y="2241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3697200" y="22417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538520" y="2241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538520" y="2241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3689280" y="2455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3689280" y="2455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3697200" y="24559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4538520" y="2455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4538520" y="2455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3689280" y="224964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4538520" y="224964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4546440" y="2241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4546440" y="2241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4556160" y="22417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5397480" y="2241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397480" y="2241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4546440" y="24559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4546440" y="24559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4556160" y="24559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5397480" y="2455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5397480" y="2455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4546440" y="224964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397480" y="224964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405400" y="2241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5405400" y="2241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5415120" y="224172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6032520" y="224172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5405400" y="24559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5405400" y="24559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5415120" y="245592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6032520" y="245592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5405400" y="224964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6032520" y="2249640"/>
                <a:ext cx="1728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2313000" y="2475000"/>
                <a:ext cx="369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olzan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2660040" y="2475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3181320" y="24750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3,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3368160" y="2475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3933360" y="2475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790880" y="24750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3,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4977720" y="2475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650920" y="2475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2062080" y="2463840"/>
                <a:ext cx="866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2928960" y="2463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928960" y="2463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2062080" y="267984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2928960" y="2679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2928960" y="2679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2062080" y="2473200"/>
                <a:ext cx="1764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2928960" y="2473200"/>
                <a:ext cx="79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2936880" y="2463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2936880" y="2463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2946240" y="2463840"/>
                <a:ext cx="733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3679920" y="2463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3679920" y="2463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2936880" y="2679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936880" y="2679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2946240" y="267984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3679920" y="2679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3679920" y="2679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2936880" y="2473200"/>
                <a:ext cx="936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3679920" y="2473200"/>
                <a:ext cx="936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689280" y="2463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689280" y="2463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697200" y="246384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538520" y="2463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538520" y="2463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3689280" y="2679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3689280" y="2679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3697200" y="267984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538520" y="2679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538520" y="2679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689280" y="2473200"/>
                <a:ext cx="79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4538520" y="2473200"/>
                <a:ext cx="79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4546440" y="2463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546440" y="2463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556160" y="246384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397480" y="2463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397480" y="2463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546440" y="267984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546440" y="267984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556160" y="267984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5397480" y="2679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5397480" y="2679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4546440" y="2473200"/>
                <a:ext cx="97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5397480" y="2473200"/>
                <a:ext cx="79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5405400" y="2463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5405400" y="2463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415120" y="2463840"/>
                <a:ext cx="617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6032520" y="24638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5405400" y="267984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5405400" y="267984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5415120" y="267984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6032520" y="2679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5405400" y="2473200"/>
                <a:ext cx="97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6032520" y="2473200"/>
                <a:ext cx="1728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2314800" y="2697120"/>
                <a:ext cx="294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ent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2591640" y="2697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3181320" y="26971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0,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3368160" y="2697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3933360" y="2697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4790880" y="26971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0,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977720" y="2697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5650920" y="2697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062080" y="268776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2928960" y="268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2928960" y="268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2062080" y="2901960"/>
                <a:ext cx="866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928960" y="29019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928960" y="29019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062080" y="2695680"/>
                <a:ext cx="1764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2928960" y="26956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2936880" y="268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2936880" y="268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946240" y="268776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679920" y="268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3679920" y="268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2936880" y="29019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36880" y="29019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46240" y="2901960"/>
                <a:ext cx="733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679920" y="29019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3679920" y="29019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2936880" y="269568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3679920" y="269568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689280" y="268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689280" y="268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3697200" y="26877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4538520" y="268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4538520" y="268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3689280" y="29019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3689280" y="29019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3697200" y="290196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4538520" y="29019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4538520" y="29019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3689280" y="26956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4538520" y="26956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4546440" y="26877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4546440" y="26877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4556160" y="26877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5397480" y="268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397480" y="268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4546440" y="29019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4546440" y="29019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4556160" y="290196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397480" y="29019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397480" y="29019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4546440" y="269568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397480" y="26956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405400" y="26877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405400" y="26877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415120" y="268776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6032520" y="26877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405400" y="29019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405400" y="29019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415120" y="2901960"/>
                <a:ext cx="617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032520" y="290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5405400" y="269568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6032520" y="2695680"/>
                <a:ext cx="1728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2313720" y="2921040"/>
                <a:ext cx="323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enet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2618640" y="2921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3181320" y="29210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,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3368160" y="2921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3931920" y="29210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7,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4118760" y="2921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4790880" y="29210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3,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4977720" y="2921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5649840" y="29210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,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5784120" y="2921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2062080" y="291132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2928960" y="2911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2928960" y="2911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2062080" y="312732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2928960" y="3127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2928960" y="3127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2062080" y="2919240"/>
                <a:ext cx="1764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2928960" y="291924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2936880" y="2911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2936880" y="2911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2946240" y="291132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3679920" y="2911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3679920" y="2911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2936880" y="3127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2936880" y="3127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2946240" y="312732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3" name=""/>
            <p:cNvGrpSpPr/>
            <p:nvPr/>
          </p:nvGrpSpPr>
          <p:grpSpPr>
            <a:xfrm>
              <a:off x="2062080" y="2911320"/>
              <a:ext cx="3987720" cy="893880"/>
              <a:chOff x="2062080" y="2911320"/>
              <a:chExt cx="3987720" cy="893880"/>
            </a:xfrm>
          </p:grpSpPr>
          <p:sp>
            <p:nvSpPr>
              <p:cNvPr id="3134" name=""/>
              <p:cNvSpPr/>
              <p:nvPr/>
            </p:nvSpPr>
            <p:spPr>
              <a:xfrm>
                <a:off x="3679920" y="3127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3679920" y="3127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2936880" y="2919240"/>
                <a:ext cx="936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3679920" y="2919240"/>
                <a:ext cx="936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3689280" y="2911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3689280" y="2911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3697200" y="29113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4538520" y="2911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4538520" y="2911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3689280" y="3127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3689280" y="3127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3697200" y="31273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4538520" y="3127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4538520" y="3127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3689280" y="291924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4538520" y="291924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4546440" y="29113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4546440" y="29113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4556160" y="29113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5397480" y="2911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5397480" y="2911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4546440" y="31273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4546440" y="31273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556160" y="31273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5397480" y="3127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5397480" y="3127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4546440" y="2919240"/>
                <a:ext cx="97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5397480" y="291924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5405400" y="29113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5405400" y="29113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5415120" y="291132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032520" y="291132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405400" y="31273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5405400" y="31273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5415120" y="312732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032520" y="312732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405400" y="2919240"/>
                <a:ext cx="97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6032520" y="2919240"/>
                <a:ext cx="1728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2315520" y="3144960"/>
                <a:ext cx="22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riul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2521800" y="3144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3181320" y="314496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2,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3368160" y="3144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3931920" y="314496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7,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4118760" y="3144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4790880" y="314496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4,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4977720" y="3144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5649840" y="314496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5784120" y="3144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2062080" y="3135240"/>
                <a:ext cx="8668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2928960" y="3135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2928960" y="3135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2062080" y="3349800"/>
                <a:ext cx="866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2928960" y="33498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2928960" y="33498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2062080" y="3144960"/>
                <a:ext cx="1764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2928960" y="3144960"/>
                <a:ext cx="79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2936880" y="3135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2936880" y="3135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2946240" y="3135240"/>
                <a:ext cx="7336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3679920" y="3135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3679920" y="3135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2936880" y="33498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2936880" y="33498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2946240" y="3349800"/>
                <a:ext cx="733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3679920" y="33498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3679920" y="33498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2936880" y="3144960"/>
                <a:ext cx="936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3679920" y="3144960"/>
                <a:ext cx="936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3689280" y="3135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3689280" y="3135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3697200" y="313524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4538520" y="3135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4538520" y="3135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3689280" y="33498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3689280" y="33498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3697200" y="334980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4538520" y="33498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4538520" y="33498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3689280" y="3144960"/>
                <a:ext cx="79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4538520" y="3144960"/>
                <a:ext cx="79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4546440" y="3135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4546440" y="3135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4556160" y="313524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5397480" y="3135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5397480" y="3135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4546440" y="33498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4546440" y="33498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4556160" y="334980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5397480" y="33498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5397480" y="33498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4546440" y="3144960"/>
                <a:ext cx="97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5397480" y="3144960"/>
                <a:ext cx="79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5405400" y="3135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5405400" y="3135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5415120" y="3135240"/>
                <a:ext cx="617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6032520" y="31352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5405400" y="33498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5405400" y="33498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5415120" y="3349800"/>
                <a:ext cx="617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6032520" y="334980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5405400" y="3144960"/>
                <a:ext cx="97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032520" y="3144960"/>
                <a:ext cx="1728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2314800" y="3368520"/>
                <a:ext cx="30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gur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2601360" y="3368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3181320" y="33685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0,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3368160" y="3368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3931920" y="33685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7,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4118760" y="3368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4790880" y="33685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2,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4977720" y="3368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5649840" y="33685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5784120" y="3368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2062080" y="335916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2928960" y="3359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2928960" y="3359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2062080" y="357336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2928960" y="3573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2928960" y="3573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2062080" y="3367080"/>
                <a:ext cx="1764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2928960" y="33670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2936880" y="3359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2936880" y="3359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2946240" y="335916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3679920" y="3359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3679920" y="3359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2936880" y="3573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2936880" y="3573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2946240" y="357336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3679920" y="3573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3679920" y="3573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2936880" y="336708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3679920" y="336708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3689280" y="3359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3689280" y="3359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3697200" y="33591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4538520" y="3359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4538520" y="3359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3689280" y="3573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3689280" y="3573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3697200" y="35733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4538520" y="3573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4538520" y="3573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3689280" y="33670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4538520" y="33670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4546440" y="33591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4546440" y="33591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4556160" y="33591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5397480" y="3359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5397480" y="3359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4546440" y="35733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4546440" y="35733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4556160" y="35733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5397480" y="3573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5397480" y="3573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4546440" y="336708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5397480" y="33670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5405400" y="33591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5405400" y="33591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5415120" y="335916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6032520" y="33591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5405400" y="35733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5405400" y="35733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5415120" y="357336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6032520" y="3573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5405400" y="336708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6032520" y="3367080"/>
                <a:ext cx="1728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2314440" y="3592440"/>
                <a:ext cx="279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mil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2575800" y="3592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3181320" y="35924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7,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3368160" y="3592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3931920" y="35924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7,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4118760" y="3592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4790880" y="35924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,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4977720" y="3592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649840" y="35924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784120" y="3592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2062080" y="3581280"/>
                <a:ext cx="8668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2928960" y="35812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2928960" y="35812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2062080" y="379728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2928960" y="3797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2928960" y="3797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2062080" y="3591000"/>
                <a:ext cx="1764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2928960" y="359100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2936880" y="35812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2936880" y="35812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2946240" y="3581280"/>
                <a:ext cx="7336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3679920" y="35812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3679920" y="35812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2936880" y="3797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2936880" y="3797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2946240" y="379728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3679920" y="3797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3679920" y="3797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2936880" y="359100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3679920" y="359100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3689280" y="35812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3689280" y="35812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3697200" y="358128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4538520" y="35812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4" name=""/>
            <p:cNvGrpSpPr/>
            <p:nvPr/>
          </p:nvGrpSpPr>
          <p:grpSpPr>
            <a:xfrm>
              <a:off x="2062080" y="3581280"/>
              <a:ext cx="3987720" cy="895320"/>
              <a:chOff x="2062080" y="3581280"/>
              <a:chExt cx="3987720" cy="895320"/>
            </a:xfrm>
          </p:grpSpPr>
          <p:sp>
            <p:nvSpPr>
              <p:cNvPr id="3335" name=""/>
              <p:cNvSpPr/>
              <p:nvPr/>
            </p:nvSpPr>
            <p:spPr>
              <a:xfrm>
                <a:off x="4538520" y="35812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3689280" y="3797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3689280" y="3797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3697200" y="379728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4538520" y="3797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4538520" y="3797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3689280" y="359100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4538520" y="359100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4546440" y="35812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4546440" y="35812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4556160" y="358128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5397480" y="35812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5397480" y="35812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4546440" y="37972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4546440" y="37972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4556160" y="379728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5397480" y="3797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5397480" y="3797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4546440" y="359100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5397480" y="359100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5405400" y="35812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5405400" y="35812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5415120" y="3581280"/>
                <a:ext cx="617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6032520" y="35812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5405400" y="37972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5405400" y="37972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5415120" y="379728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6032520" y="379728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5405400" y="359100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6032520" y="3591000"/>
                <a:ext cx="1728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2313360" y="3814920"/>
                <a:ext cx="392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oscan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2680560" y="3814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3181320" y="38149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3,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3368160" y="3814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3931920" y="38149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2,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4118760" y="3814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4790880" y="38149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0,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4977720" y="3814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5649840" y="38149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5784120" y="3814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2062080" y="380520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2928960" y="38052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2928960" y="38052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2062080" y="4021200"/>
                <a:ext cx="866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292896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292896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2062080" y="3813120"/>
                <a:ext cx="1764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2928960" y="381312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2936880" y="3805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2936880" y="3805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2946240" y="380520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3679920" y="3805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3679920" y="3805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2936880" y="4021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2936880" y="4021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2946240" y="4021200"/>
                <a:ext cx="733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3679920" y="4021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3679920" y="4021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2936880" y="3813120"/>
                <a:ext cx="936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3679920" y="3813120"/>
                <a:ext cx="936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3689280" y="38052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3689280" y="38052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3697200" y="380520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4538520" y="38052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4538520" y="38052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368928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368928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3697200" y="402120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453852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53852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3689280" y="381312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538520" y="381312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4546440" y="38052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4546440" y="38052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4556160" y="380520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5397480" y="38052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5397480" y="38052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4546440" y="4021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4546440" y="4021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4556160" y="402120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539748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539748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4546440" y="3813120"/>
                <a:ext cx="97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5397480" y="381312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405400" y="38052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5405400" y="38052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5415120" y="380520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6032520" y="380520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405400" y="4021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5405400" y="4021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5415120" y="4021200"/>
                <a:ext cx="617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6032520" y="402120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5405400" y="3813120"/>
                <a:ext cx="97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6032520" y="3813120"/>
                <a:ext cx="1728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2314800" y="4040280"/>
                <a:ext cx="328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mbr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2623680" y="404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3181320" y="404028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7,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3368160" y="404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3931920" y="404028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4,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4118760" y="404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4790880" y="404028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1,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4977720" y="404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5649840" y="40402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784120" y="404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2062080" y="403056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292896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292896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2062080" y="424512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2928960" y="4245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2928960" y="4245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2062080" y="4038480"/>
                <a:ext cx="1764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2928960" y="4038480"/>
                <a:ext cx="79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2936880" y="4030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2936880" y="4030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2946240" y="403056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3679920" y="4030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3679920" y="4030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2936880" y="4245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2936880" y="4245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2946240" y="424512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3679920" y="4245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3679920" y="4245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2936880" y="4038480"/>
                <a:ext cx="936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3679920" y="4038480"/>
                <a:ext cx="936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368928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368928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3697200" y="40305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453852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453852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3689280" y="4245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3689280" y="4245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3697200" y="42451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4538520" y="4245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4538520" y="4245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3689280" y="4038480"/>
                <a:ext cx="79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4538520" y="4038480"/>
                <a:ext cx="79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4546440" y="40305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4546440" y="40305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4556160" y="40305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539748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539748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4546440" y="42451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4546440" y="42451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4556160" y="42451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397480" y="4245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397480" y="4245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4546440" y="4038480"/>
                <a:ext cx="97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5397480" y="4038480"/>
                <a:ext cx="79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5405400" y="40305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5405400" y="40305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5415120" y="403056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6032520" y="40305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5405400" y="42451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5405400" y="42451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5415120" y="424512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6032520" y="424512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5405400" y="4038480"/>
                <a:ext cx="97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6032520" y="4038480"/>
                <a:ext cx="1728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2314800" y="4264200"/>
                <a:ext cx="340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arch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2633040" y="4264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3181320" y="42642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0,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3368160" y="4264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3931920" y="42642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2,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4118760" y="4264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4790880" y="42642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7,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4977720" y="4264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649840" y="426420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784120" y="4264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2062080" y="4253040"/>
                <a:ext cx="866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2928960" y="42530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2928960" y="42530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2062080" y="4467240"/>
                <a:ext cx="866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2928960" y="44672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2928960" y="44672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2062080" y="4262400"/>
                <a:ext cx="1764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2928960" y="4262400"/>
                <a:ext cx="79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2936880" y="4253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2936880" y="4253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2946240" y="4253040"/>
                <a:ext cx="733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3679920" y="4253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3679920" y="4253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2936880" y="4467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2936880" y="4467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2946240" y="4467240"/>
                <a:ext cx="733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3679920" y="4467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3679920" y="4467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2936880" y="4262400"/>
                <a:ext cx="936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3679920" y="4262400"/>
                <a:ext cx="936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3689280" y="42530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3689280" y="42530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3697200" y="425304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4538520" y="42530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4538520" y="42530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3689280" y="44672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3689280" y="44672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3697200" y="446724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4538520" y="44672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4538520" y="44672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3689280" y="4262400"/>
                <a:ext cx="79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4538520" y="4262400"/>
                <a:ext cx="79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5" name=""/>
            <p:cNvGrpSpPr/>
            <p:nvPr/>
          </p:nvGrpSpPr>
          <p:grpSpPr>
            <a:xfrm>
              <a:off x="2062080" y="4253040"/>
              <a:ext cx="3987720" cy="895320"/>
              <a:chOff x="2062080" y="4253040"/>
              <a:chExt cx="3987720" cy="895320"/>
            </a:xfrm>
          </p:grpSpPr>
          <p:sp>
            <p:nvSpPr>
              <p:cNvPr id="3536" name=""/>
              <p:cNvSpPr/>
              <p:nvPr/>
            </p:nvSpPr>
            <p:spPr>
              <a:xfrm>
                <a:off x="4546440" y="42530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4546440" y="42530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4556160" y="425304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5397480" y="42530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5397480" y="42530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4546440" y="44672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4546440" y="44672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4556160" y="446724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5397480" y="44672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5397480" y="44672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4546440" y="4262400"/>
                <a:ext cx="97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5397480" y="4262400"/>
                <a:ext cx="79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5405400" y="42530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5405400" y="42530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5415120" y="4253040"/>
                <a:ext cx="617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6032520" y="42530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405400" y="44672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5405400" y="44672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5415120" y="4467240"/>
                <a:ext cx="617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6032520" y="44672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5405400" y="4262400"/>
                <a:ext cx="97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6032520" y="4262400"/>
                <a:ext cx="1728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2313720" y="448632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azi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2542680" y="448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3181320" y="44863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6,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3368160" y="448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3931920" y="44863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8,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4118760" y="448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4790880" y="44863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5,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4977720" y="448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5649840" y="44863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,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5784120" y="448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2062080" y="447660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2928960" y="44766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2928960" y="44766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2062080" y="4691160"/>
                <a:ext cx="866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2928960" y="4691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2928960" y="4691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2062080" y="4484520"/>
                <a:ext cx="1764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2928960" y="4484520"/>
                <a:ext cx="79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2936880" y="4476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2936880" y="4476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2946240" y="447660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3679920" y="4476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3679920" y="4476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2936880" y="4691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2936880" y="4691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2946240" y="4691160"/>
                <a:ext cx="733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3679920" y="4691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3679920" y="4691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2936880" y="4484520"/>
                <a:ext cx="936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3679920" y="4484520"/>
                <a:ext cx="936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3689280" y="44766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3689280" y="44766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3697200" y="447660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4538520" y="44766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4538520" y="44766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3689280" y="4691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3689280" y="4691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3697200" y="469116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4538520" y="4691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4538520" y="4691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3689280" y="4484520"/>
                <a:ext cx="79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4538520" y="4484520"/>
                <a:ext cx="79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4546440" y="44766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4546440" y="44766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4556160" y="447660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5397480" y="44766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5397480" y="44766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4546440" y="46911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4546440" y="46911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4556160" y="469116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5397480" y="4691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5397480" y="4691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4546440" y="4484520"/>
                <a:ext cx="97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5397480" y="4484520"/>
                <a:ext cx="79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5405400" y="44766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5405400" y="44766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5415120" y="447660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6032520" y="447660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5405400" y="46911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5405400" y="46911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5415120" y="4691160"/>
                <a:ext cx="617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6032520" y="46911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5405400" y="4484520"/>
                <a:ext cx="97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6032520" y="4484520"/>
                <a:ext cx="1728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2313360" y="4710240"/>
                <a:ext cx="37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bruzz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2664720" y="4710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3181320" y="47102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3,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3368160" y="4710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3931920" y="47102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6,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4118760" y="4710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4790880" y="47102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6,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4977720" y="4710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5650560" y="47102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5729760" y="4710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5784120" y="4710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2062080" y="470052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2928960" y="470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928960" y="470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2062080" y="491652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2928960" y="4916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2928960" y="4916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2062080" y="4708440"/>
                <a:ext cx="1764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2928960" y="470844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2936880" y="4700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2936880" y="4700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2946240" y="470052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3679920" y="4700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3679920" y="4700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2936880" y="4916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2936880" y="4916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2946240" y="491652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3679920" y="4916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3679920" y="4916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2936880" y="4708440"/>
                <a:ext cx="936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3679920" y="4708440"/>
                <a:ext cx="936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3689280" y="470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3689280" y="470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3697200" y="47005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4538520" y="470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4538520" y="470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3689280" y="4916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3689280" y="4916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3697200" y="49165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4538520" y="4916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4538520" y="4916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3689280" y="470844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4538520" y="470844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4546440" y="47005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4546440" y="47005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4556160" y="47005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5397480" y="470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5397480" y="470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4546440" y="49165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4546440" y="49165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4556160" y="49165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397480" y="4916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5397480" y="4916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4546440" y="4708440"/>
                <a:ext cx="97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5397480" y="470844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5405400" y="47005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5405400" y="47005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5415120" y="470052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6032520" y="470052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5405400" y="49165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5405400" y="49165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5415120" y="491652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6032520" y="491652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5405400" y="4708440"/>
                <a:ext cx="97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6032520" y="4708440"/>
                <a:ext cx="1728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2314800" y="4933800"/>
                <a:ext cx="296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oli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2591640" y="4933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3181320" y="49338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2,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3368160" y="4933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3931920" y="49338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3,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4118760" y="4933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4790880" y="49338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7,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4977720" y="4933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5649840" y="493380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5784120" y="4933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2062080" y="492444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2928960" y="4924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2928960" y="4924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2062080" y="5138640"/>
                <a:ext cx="8668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2928960" y="51386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2928960" y="51386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2062080" y="4932360"/>
                <a:ext cx="1764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2928960" y="493236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2936880" y="4924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2936880" y="4924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2946240" y="492444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3679920" y="4924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3679920" y="4924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2936880" y="51386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2936880" y="51386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2946240" y="5138640"/>
                <a:ext cx="7336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3679920" y="51386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3679920" y="51386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2936880" y="493236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3679920" y="493236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3689280" y="4924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3689280" y="4924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3697200" y="492444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4538520" y="4924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4538520" y="4924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3689280" y="51386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3689280" y="51386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3697200" y="513864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4538520" y="51386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538520" y="51386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3689280" y="493236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538520" y="493236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4546440" y="492444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4546440" y="492444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4556160" y="492444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5397480" y="4924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397480" y="4924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4546440" y="51386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4546440" y="51386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6" name=""/>
            <p:cNvGrpSpPr/>
            <p:nvPr/>
          </p:nvGrpSpPr>
          <p:grpSpPr>
            <a:xfrm>
              <a:off x="2062080" y="4924440"/>
              <a:ext cx="3987720" cy="893880"/>
              <a:chOff x="2062080" y="4924440"/>
              <a:chExt cx="3987720" cy="893880"/>
            </a:xfrm>
          </p:grpSpPr>
          <p:sp>
            <p:nvSpPr>
              <p:cNvPr id="3737" name=""/>
              <p:cNvSpPr/>
              <p:nvPr/>
            </p:nvSpPr>
            <p:spPr>
              <a:xfrm>
                <a:off x="4556160" y="513864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5397480" y="51386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5397480" y="51386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4546440" y="493236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5397480" y="493236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5405400" y="492444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5405400" y="492444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415120" y="492444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6032520" y="49244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5405400" y="51386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5405400" y="51386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5415120" y="5138640"/>
                <a:ext cx="617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6032520" y="5138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5405400" y="493236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6032520" y="4932360"/>
                <a:ext cx="1728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2313360" y="5157720"/>
                <a:ext cx="464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ampan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2752200" y="5157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181320" y="51577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1,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368160" y="5157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3931920" y="51577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7,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4118760" y="5157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4790880" y="51577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2,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4977720" y="5157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5649840" y="51577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,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5784120" y="5157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2062080" y="514836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2928960" y="514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2928960" y="514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2062080" y="536256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2928960" y="536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2928960" y="536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2062080" y="5156280"/>
                <a:ext cx="1764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2928960" y="51562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2936880" y="5148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2936880" y="5148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2946240" y="514836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3679920" y="5148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3679920" y="5148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2936880" y="5362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2936880" y="5362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2946240" y="536256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3679920" y="5362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3679920" y="5362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2936880" y="515628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3679920" y="515628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3689280" y="514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3689280" y="514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3697200" y="51483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4538520" y="514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4538520" y="514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3689280" y="536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3689280" y="536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3697200" y="53625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4538520" y="536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4538520" y="536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3689280" y="51562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4538520" y="51562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4546440" y="51483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4546440" y="51483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4556160" y="51483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5397480" y="514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5397480" y="514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4546440" y="53625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4546440" y="53625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4556160" y="53625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5397480" y="536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5397480" y="536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4546440" y="515628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5397480" y="51562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5405400" y="51483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5405400" y="51483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5415120" y="514836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6032520" y="5148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5405400" y="53625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5405400" y="53625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5415120" y="536256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6032520" y="53625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5405400" y="515628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6032520" y="5156280"/>
                <a:ext cx="1728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2314440" y="5381640"/>
                <a:ext cx="284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ugl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2580480" y="5381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3181320" y="53816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8,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3368160" y="5381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3931920" y="53816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8,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4118760" y="5381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4790880" y="53816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9,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4977720" y="5381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5649840" y="53816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,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5784120" y="5381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2062080" y="5370480"/>
                <a:ext cx="8668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2928960" y="537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2928960" y="537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2062080" y="558648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2928960" y="55864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2928960" y="55864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2062080" y="5380200"/>
                <a:ext cx="1764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2928960" y="538020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2936880" y="537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2936880" y="537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2946240" y="5370480"/>
                <a:ext cx="7336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3679920" y="537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3679920" y="537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2936880" y="5586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2936880" y="5586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946240" y="558648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3679920" y="5586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3679920" y="5586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2936880" y="538020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3679920" y="538020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3689280" y="537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3689280" y="537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3697200" y="537048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4538520" y="537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4538520" y="537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3689280" y="55864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3689280" y="55864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3697200" y="558648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538520" y="55864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4538520" y="55864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3689280" y="538020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4538520" y="538020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546440" y="537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546440" y="537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556160" y="537048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5397480" y="537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5397480" y="537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546440" y="55864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4546440" y="55864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4556160" y="558648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5397480" y="55864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5397480" y="55864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546440" y="538020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5397480" y="538020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5405400" y="537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5405400" y="537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5415120" y="5370480"/>
                <a:ext cx="617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6032520" y="53704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5405400" y="55864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5405400" y="55864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5415120" y="558648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6032520" y="558648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5405400" y="538020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6032520" y="5380200"/>
                <a:ext cx="1728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2313720" y="5603760"/>
                <a:ext cx="439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asilicat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2725200" y="5603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3181320" y="560376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8,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3368160" y="5603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3931920" y="560376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1,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4118760" y="5603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4790880" y="560376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5,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4977720" y="5603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5649840" y="560376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5784120" y="5603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2062080" y="559440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2928960" y="5594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2928960" y="5594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2062080" y="581040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2928960" y="5810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2928960" y="5810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2062080" y="5602320"/>
                <a:ext cx="1764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2928960" y="560232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2936880" y="5594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2936880" y="5594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2946240" y="559440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3679920" y="5594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3679920" y="5594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2936880" y="5810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2936880" y="5810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2946240" y="581040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3679920" y="5810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3679920" y="5810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2936880" y="5602320"/>
                <a:ext cx="936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3679920" y="5602320"/>
                <a:ext cx="936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3689280" y="5594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3689280" y="5594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3697200" y="559440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4538520" y="5594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4538520" y="5594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3689280" y="5810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3689280" y="5810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3697200" y="581040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4538520" y="5810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4538520" y="5810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3689280" y="560232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4538520" y="560232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4546440" y="55944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4546440" y="55944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4556160" y="559440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5397480" y="5594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5397480" y="5594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4546440" y="58104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4546440" y="58104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4556160" y="581040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5397480" y="5810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5397480" y="5810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4546440" y="5602320"/>
                <a:ext cx="97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5397480" y="560232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5405400" y="55944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5405400" y="55944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5415120" y="559440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7" name=""/>
            <p:cNvGrpSpPr/>
            <p:nvPr/>
          </p:nvGrpSpPr>
          <p:grpSpPr>
            <a:xfrm>
              <a:off x="2062080" y="5594400"/>
              <a:ext cx="3987720" cy="1022040"/>
              <a:chOff x="2062080" y="5594400"/>
              <a:chExt cx="3987720" cy="1022040"/>
            </a:xfrm>
          </p:grpSpPr>
          <p:sp>
            <p:nvSpPr>
              <p:cNvPr id="3938" name=""/>
              <p:cNvSpPr/>
              <p:nvPr/>
            </p:nvSpPr>
            <p:spPr>
              <a:xfrm>
                <a:off x="6032520" y="559440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5405400" y="58104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5405400" y="58104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5415120" y="581040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6032520" y="581040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5405400" y="5602320"/>
                <a:ext cx="97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6032520" y="5602320"/>
                <a:ext cx="1728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2314800" y="5829480"/>
                <a:ext cx="37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alabr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2669400" y="5829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3181320" y="582948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9,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3368160" y="5829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3931920" y="582948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2,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4118760" y="5829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4790880" y="582948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5,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4977720" y="5829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5649840" y="58294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5784120" y="5829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2062080" y="5818320"/>
                <a:ext cx="866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2928960" y="58183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2928960" y="58183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2062080" y="603396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2928960" y="60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2928960" y="60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2062080" y="5827680"/>
                <a:ext cx="1764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2928960" y="58276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2936880" y="58183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2936880" y="58183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2946240" y="5818320"/>
                <a:ext cx="733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3679920" y="58183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3679920" y="58183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2936880" y="6033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2936880" y="6033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2946240" y="603396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3679920" y="6033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3679920" y="6033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2936880" y="582768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3679920" y="582768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3689280" y="58183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3689280" y="58183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3697200" y="581832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4538520" y="58183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4538520" y="58183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3689280" y="60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3689280" y="60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3697200" y="60339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4538520" y="60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4538520" y="60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3689280" y="58276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4538520" y="58276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4546440" y="5818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4546440" y="5818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4556160" y="581832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5397480" y="58183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5397480" y="58183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4546440" y="60339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4546440" y="60339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4556160" y="60339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5397480" y="60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5397480" y="60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4546440" y="582768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5397480" y="58276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5405400" y="5818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5405400" y="5818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5415120" y="5818320"/>
                <a:ext cx="617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6032520" y="58183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5405400" y="60339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5405400" y="60339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5415120" y="603396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6032520" y="60339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5405400" y="582768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6032520" y="5827680"/>
                <a:ext cx="1728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2314800" y="6051600"/>
                <a:ext cx="268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cil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2564640" y="6051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3181320" y="60516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7,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3368160" y="6051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3931920" y="60516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8,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4118760" y="6051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4790880" y="60516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8,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4977720" y="6051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5649840" y="605160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,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5784120" y="6051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2062080" y="6041880"/>
                <a:ext cx="8668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2928960" y="60418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2928960" y="60418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2062080" y="6256440"/>
                <a:ext cx="866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2928960" y="6256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2928960" y="6256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2062080" y="6051600"/>
                <a:ext cx="1764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2928960" y="6051600"/>
                <a:ext cx="79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2936880" y="60418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2936880" y="60418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2946240" y="6041880"/>
                <a:ext cx="7336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3679920" y="60418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3679920" y="60418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2936880" y="6256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2936880" y="6256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2946240" y="6256440"/>
                <a:ext cx="733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3679920" y="6256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3679920" y="6256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2936880" y="6051600"/>
                <a:ext cx="936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3679920" y="6051600"/>
                <a:ext cx="936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3689280" y="60418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3689280" y="60418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3697200" y="604188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4538520" y="60418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4538520" y="60418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3689280" y="6256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3689280" y="6256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3697200" y="625644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4538520" y="6256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4538520" y="6256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3689280" y="6051600"/>
                <a:ext cx="79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4538520" y="6051600"/>
                <a:ext cx="79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4546440" y="60418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4546440" y="60418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4556160" y="604188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5397480" y="60418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5397480" y="60418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4546440" y="6256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4546440" y="6256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4556160" y="625644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5397480" y="6256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5397480" y="6256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4546440" y="6051600"/>
                <a:ext cx="97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5397480" y="6051600"/>
                <a:ext cx="79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5405400" y="60418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5405400" y="60418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5415120" y="6041880"/>
                <a:ext cx="617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6032520" y="6041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5405400" y="6256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5405400" y="6256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5415120" y="6256440"/>
                <a:ext cx="617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6032520" y="6256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5405400" y="6051600"/>
                <a:ext cx="97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6032520" y="6051600"/>
                <a:ext cx="1728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2313720" y="6275520"/>
                <a:ext cx="441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ardegn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2728440" y="6275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3181320" y="62755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2,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3368160" y="6275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3931920" y="62755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2,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4118760" y="6275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4790880" y="62755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,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4977720" y="6275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5649840" y="62755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,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5784120" y="6275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2062080" y="626580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2928960" y="6265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2928960" y="6265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2062080" y="6480000"/>
                <a:ext cx="8668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2928960" y="648000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2928960" y="648000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2062080" y="6273720"/>
                <a:ext cx="1764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2928960" y="627372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2936880" y="6265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2936880" y="6265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2946240" y="626580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3679920" y="6265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3679920" y="6265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2936880" y="648000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2936880" y="648000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2946240" y="6480000"/>
                <a:ext cx="7336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3679920" y="648000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3679920" y="648000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2936880" y="627372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3679920" y="627372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3689280" y="6265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3689280" y="6265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3697200" y="626580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4538520" y="6265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4538520" y="6265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3689280" y="648000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3689280" y="648000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3697200" y="6480000"/>
                <a:ext cx="8413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4538520" y="648000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4538520" y="648000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3689280" y="627372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4538520" y="627372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4546440" y="62658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4546440" y="62658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4556160" y="626580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5397480" y="6265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5397480" y="6265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4546440" y="648000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4546440" y="648000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4556160" y="6480000"/>
                <a:ext cx="8413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5397480" y="648000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5397480" y="648000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4546440" y="627372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5397480" y="627372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5405400" y="62658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5405400" y="62658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5415120" y="626580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6032520" y="626580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5405400" y="648000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5405400" y="648000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5415120" y="6480000"/>
                <a:ext cx="6174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6032520" y="6480000"/>
                <a:ext cx="17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5405400" y="627372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6032520" y="6273720"/>
                <a:ext cx="1728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2314080" y="6494400"/>
                <a:ext cx="329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TAL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8" name=""/>
            <p:cNvSpPr/>
            <p:nvPr/>
          </p:nvSpPr>
          <p:spPr>
            <a:xfrm>
              <a:off x="2624400" y="6494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3183480" y="64944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1,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3370680" y="6494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3934440" y="64944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4,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4121280" y="6494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4793040" y="64944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6,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4980240" y="6494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5652360" y="64944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,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5786640" y="6494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2062080" y="6488280"/>
              <a:ext cx="866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2062080" y="6703920"/>
              <a:ext cx="176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2062080" y="6703920"/>
              <a:ext cx="176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2079720" y="6703920"/>
              <a:ext cx="8492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2062080" y="6497640"/>
              <a:ext cx="176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2936880" y="648828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2936880" y="648828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2946240" y="6488280"/>
              <a:ext cx="7336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2936880" y="6703920"/>
              <a:ext cx="7430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2936880" y="6497640"/>
              <a:ext cx="936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3689280" y="648828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3689280" y="648828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3697200" y="6488280"/>
              <a:ext cx="8413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3689280" y="6703920"/>
              <a:ext cx="8492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3689280" y="6497640"/>
              <a:ext cx="792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4546440" y="648828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4546440" y="648828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4556160" y="6488280"/>
              <a:ext cx="8413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5397480" y="648828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5397480" y="648828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4546440" y="6703920"/>
              <a:ext cx="8510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5397480" y="67039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4546440" y="6497640"/>
              <a:ext cx="972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5397480" y="6497640"/>
              <a:ext cx="792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5405400" y="648828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5405400" y="648828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5415120" y="6488280"/>
              <a:ext cx="6174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6032520" y="6488280"/>
              <a:ext cx="17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5405400" y="6703920"/>
              <a:ext cx="627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6032520" y="6703920"/>
              <a:ext cx="17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6032520" y="6703920"/>
              <a:ext cx="17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5405400" y="6497640"/>
              <a:ext cx="972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6032520" y="6497640"/>
              <a:ext cx="1728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2106000" y="6723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AGIONI E FORME DEL DECENTRAMEN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2" name="PlaceHolder 2"/>
          <p:cNvSpPr>
            <a:spLocks noGrp="1"/>
          </p:cNvSpPr>
          <p:nvPr>
            <p:ph/>
          </p:nvPr>
        </p:nvSpPr>
        <p:spPr>
          <a:xfrm>
            <a:off x="711360" y="1844640"/>
            <a:ext cx="7821360" cy="4540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Perché esistono diversi livelli di gov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 Come articolare i diversi livelli di gov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 Quali schemi di finanziamento per per le funzioni svolte dai diversi livel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Produzione e finanziamento di servizi pubblici: il ruolo dell’autonomia finanzi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Quali ragioni sono alla base dei rapporti finanziari tra i diversi livelli di gov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ttività di finanza pubblica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riterio funzionale 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rritor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delli di ripartizione territor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lista, regionale e fede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3" name=""/>
          <p:cNvGraphicFramePr/>
          <p:nvPr/>
        </p:nvGraphicFramePr>
        <p:xfrm>
          <a:off x="1219320" y="3714840"/>
          <a:ext cx="6095880" cy="14047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O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ENTR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zz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se nazio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sità di preferen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uagli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 funzioni dell’intervento pub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26320" cy="441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unzione d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A)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stabilizzazione economi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PIL, deficit/PIL, inflazione, bilancia dei pagamenti)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B)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distribuzione della ricchezz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uguaglianza, povertà, Nord-Su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C)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llocazione delle risor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offerta efficiente di beni pubblici local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639720" y="4338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3840" cy="48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l modello della torta a tre strat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ssegnazione delle funzioni più appropri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vello cent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vello cent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vello decentr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tiche alle assegnazioni esclu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Il Patto di stabilità Inter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 (Le politiche assistenziali dei comun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 (grandi servizi pubblici a rete con esternalità diffuse a livello sovranazion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gestione del debito pub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ripartizione delle funzioni per livel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piegazioni economiche del decentramen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631280" cy="518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l Teorema del decentramento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presenza di preferenze differenziate è sempre preferibile una soluzione che consenta diverse articolazioni dell’offerta di servizi pubblici rispetto ad una soluzione uniforme (imperfetta informazione a livello centrale)” (Oates 197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im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lteplicità di funzioni e principio di corrispond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effetti di trabocc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costi di congestione e dimensione otti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l meccanismo del voto con i pie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presenza di mobilità i cittadini si muovono alla ricerca della soluzione fiscale (pacchetto servizi/imposte) preferita </a:t>
            </a:r>
            <a:r>
              <a:rPr b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equilibrio spaziale effi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im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ratificazione degli enti locali per livelli di redd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ormazione di isole etn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stabilità socia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4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4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4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4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4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2T09:21:22Z</dcterms:created>
  <dc:creator>petretto</dc:creator>
  <dc:description/>
  <dc:language>en-US</dc:language>
  <cp:lastModifiedBy>Petretto Alessandro</cp:lastModifiedBy>
  <dcterms:modified xsi:type="dcterms:W3CDTF">2006-10-04T12:30:57Z</dcterms:modified>
  <cp:revision>47</cp:revision>
  <dc:subject/>
  <dc:title>Federalismo fiscale e finanza locale</dc:title>
</cp:coreProperties>
</file>